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5.jpeg" ContentType="image/jpeg"/>
  <Override PartName="/ppt/media/image3.wmf" ContentType="image/x-wmf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03B4-2221-4751-B308-70B85D642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EAF8-CD96-4C89-9DF4-3258F143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73EB-B4A3-4D82-9270-1F242C18C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303B-B8EC-49E2-8587-E5EE89604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9D0B-EFB1-48C0-A875-A4735644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4A31-C88F-45DB-B843-4DF23CC9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AB70-2F11-4A48-ACB1-9BAA1E12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23FE-DD70-4F78-8ADB-98F5390E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DB78-A764-42CC-A846-E3BB2E67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9BA7-7EAB-40D5-BAAD-8FA6222B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9B17-75CB-4635-8D0B-58B0420B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261E-1048-47FD-B099-48D0FFEF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FB6C-1859-4665-AF7E-DE0C21EE6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rezi.com/vgk77shab5um/edit/#Slide 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23880" y="609480"/>
            <a:ext cx="5867640" cy="541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The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American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Revolution: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1775-1783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5486400"/>
            <a:ext cx="5257800" cy="679320"/>
          </a:xfrm>
          <a:prstGeom prst="rect">
            <a:avLst/>
          </a:prstGeom>
          <a:noFill/>
          <a:ln w="9360">
            <a:solidFill>
              <a:srgbClr val="cb5b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82880" bIns="1828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23880" y="457200"/>
            <a:ext cx="74678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6"/>
                </a:solidFill>
                <a:latin typeface="Comic Sans MS"/>
              </a:rPr>
              <a:t>Washington Crossing the Delawar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619760" cy="41162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1828800" y="58672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inted by Emanuel Leutze, 18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981080" y="244440"/>
            <a:ext cx="38862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b5b4f"/>
                </a:solidFill>
                <a:latin typeface="Comic Sans MS"/>
              </a:rPr>
              <a:t> </a:t>
            </a:r>
            <a:r>
              <a:rPr b="1" lang="en-US" sz="4200" spc="-1" strike="noStrike">
                <a:solidFill>
                  <a:srgbClr val="cb5b4f"/>
                </a:solidFill>
                <a:latin typeface="Comic Sans MS"/>
              </a:rPr>
              <a:t>Saratoga: </a:t>
            </a:r>
            <a:br>
              <a:rPr sz="4200"/>
            </a:br>
            <a:r>
              <a:rPr b="1" lang="en-US" sz="3400" spc="-1" strike="noStrike">
                <a:solidFill>
                  <a:srgbClr val="cb5b4f"/>
                </a:solidFill>
                <a:latin typeface="Comic Sans MS"/>
              </a:rPr>
              <a:t> </a:t>
            </a:r>
            <a:br>
              <a:rPr sz="3400"/>
            </a:br>
            <a:r>
              <a:rPr b="1" lang="en-US" sz="3400" spc="-1" strike="noStrike">
                <a:solidFill>
                  <a:srgbClr val="cb5b4f"/>
                </a:solidFill>
                <a:latin typeface="Comic Sans MS"/>
              </a:rPr>
              <a:t>  </a:t>
            </a:r>
            <a:r>
              <a:rPr b="1" lang="en-US" sz="3400" spc="-1" strike="noStrike">
                <a:solidFill>
                  <a:srgbClr val="333399"/>
                </a:solidFill>
                <a:latin typeface="Comic Sans MS"/>
              </a:rPr>
              <a:t>“Turning Point”</a:t>
            </a:r>
            <a:br>
              <a:rPr sz="3400"/>
            </a:br>
            <a:r>
              <a:rPr b="1" lang="en-US" sz="3400" spc="-1" strike="noStrike">
                <a:solidFill>
                  <a:srgbClr val="333399"/>
                </a:solidFill>
                <a:latin typeface="Comic Sans MS"/>
              </a:rPr>
              <a:t>  of the War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828800" y="2895480"/>
            <a:ext cx="4286160" cy="2743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2"/>
          <a:srcRect l="3032" t="1589" r="3032" b="1589"/>
          <a:stretch/>
        </p:blipFill>
        <p:spPr>
          <a:xfrm>
            <a:off x="6477120" y="1143000"/>
            <a:ext cx="2361960" cy="46483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1600200" y="56530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modern-day re-enac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90720" y="76320"/>
            <a:ext cx="7924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b5b4f"/>
                </a:solidFill>
                <a:latin typeface="Comic Sans MS"/>
              </a:rPr>
              <a:t>Phase III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en-US" sz="3400" spc="-1" strike="noStrike">
                <a:solidFill>
                  <a:srgbClr val="00007c"/>
                </a:solidFill>
                <a:latin typeface="Comic Sans MS"/>
              </a:rPr>
              <a:t> </a:t>
            </a:r>
            <a:r>
              <a:rPr b="1" lang="en-US" sz="3400" spc="-1" strike="noStrike">
                <a:solidFill>
                  <a:srgbClr val="000096"/>
                </a:solidFill>
                <a:latin typeface="Comic Sans MS"/>
              </a:rPr>
              <a:t>The Southern Strategy </a:t>
            </a:r>
            <a:r>
              <a:rPr b="1" lang="en-US" sz="2600" spc="-1" strike="noStrike">
                <a:solidFill>
                  <a:srgbClr val="000096"/>
                </a:solidFill>
                <a:latin typeface="Comic Sans MS"/>
              </a:rPr>
              <a:t>[1780-1781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0" t="1201" r="1015" b="0"/>
          <a:stretch/>
        </p:blipFill>
        <p:spPr>
          <a:xfrm>
            <a:off x="1371600" y="1295280"/>
            <a:ext cx="6545160" cy="53341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14400" y="380880"/>
            <a:ext cx="7162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6"/>
                </a:solidFill>
                <a:latin typeface="Comic Sans MS"/>
              </a:rPr>
              <a:t>Britain’s “Southern Strategy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1219320"/>
            <a:ext cx="647676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2560" indent="-68256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ritain thought that there were more Loyalists in the Sou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British win a number of small victories, but cannot pacify the countryside [similar to U. S. in Vietnam!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ood US General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athanial Gre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6095880" y="4343400"/>
            <a:ext cx="18273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62120" y="228600"/>
            <a:ext cx="8229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6"/>
                </a:solidFill>
                <a:latin typeface="Comic Sans MS"/>
              </a:rPr>
              <a:t>The Battle of Yorktown (1781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1250" t="1388" r="2145" b="1388"/>
          <a:stretch/>
        </p:blipFill>
        <p:spPr>
          <a:xfrm>
            <a:off x="2895480" y="1219320"/>
            <a:ext cx="4195800" cy="51051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533520" y="373392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unt de Rochamb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990720" y="1981080"/>
            <a:ext cx="1650960" cy="16765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7162920" y="539424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dmira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e Gra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7238880" y="3733920"/>
            <a:ext cx="1636920" cy="16603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228600"/>
            <a:ext cx="8305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6"/>
                </a:solidFill>
                <a:latin typeface="Comic Sans MS"/>
              </a:rPr>
              <a:t>Cornwallis’ Surrender at Yorktown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5867640" cy="4535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1752480" y="60958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inted by John Trumbull, 17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09480" y="77436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02e00"/>
                </a:solidFill>
                <a:latin typeface="Comic Sans MS"/>
              </a:rPr>
              <a:t>“</a:t>
            </a:r>
            <a:r>
              <a:rPr b="1" i="1" lang="en-US" sz="2800" spc="-1" strike="noStrike">
                <a:solidFill>
                  <a:srgbClr val="f02e00"/>
                </a:solidFill>
                <a:latin typeface="Comic Sans MS"/>
              </a:rPr>
              <a:t>The World Turned Upside Down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447920" y="1066680"/>
            <a:ext cx="579096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Why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did the British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Lose??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ce of Pa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itory that stretched North to Great Lakes, West to Mississippi and the Coast to Flor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return, be kind to our sympathizers (Loyalis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ff and return recommend that you return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38080" y="2166840"/>
          <a:ext cx="7924680" cy="3243240"/>
        </p:xfrm>
        <a:graphic>
          <a:graphicData uri="http://schemas.openxmlformats.org/drawingml/2006/table">
            <a:tbl>
              <a:tblPr/>
              <a:tblGrid>
                <a:gridCol w="2831040"/>
                <a:gridCol w="2451960"/>
                <a:gridCol w="264168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Brit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6"/>
                          </a:solidFill>
                          <a:latin typeface="Comic Sans MS"/>
                        </a:rPr>
                        <a:t>Americ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tag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?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?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advantag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?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?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990720" y="304920"/>
            <a:ext cx="79246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96"/>
                </a:solidFill>
                <a:latin typeface="Comic Sans MS"/>
              </a:rPr>
              <a:t>On the Eve of the Revolution 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trengths on the eve of w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219320" y="2666880"/>
            <a:ext cx="62481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52480" y="304920"/>
            <a:ext cx="7162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6"/>
                </a:solidFill>
                <a:latin typeface="Comic Sans MS"/>
              </a:rPr>
              <a:t>Military Strategi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1828800"/>
            <a:ext cx="2895480" cy="49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2560" indent="-56664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ttrition [the Brits had a long supply line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-56664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uerilla tactics [fight an insurgent war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you don’t have to win a battle, just wear the British down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-56664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ake an alliance with one of Britain’s enem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12952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2560" indent="-5666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The Amer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1295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2560" indent="-5666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02e00"/>
                </a:solidFill>
                <a:uFillTx/>
                <a:latin typeface="Comic Sans MS"/>
              </a:rPr>
              <a:t>The Brit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1828800"/>
            <a:ext cx="2895480" cy="46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2560" indent="-56664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reak the colonies in half by getting between the No. &amp; the 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-56664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lockade the ports to prevent the flow of goods and supplies from an 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-56664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vide and Conquer”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use the Loyali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43000" y="396720"/>
            <a:ext cx="7772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6"/>
                </a:solidFill>
                <a:latin typeface="Comic Sans MS"/>
              </a:rPr>
              <a:t>Washington’s Headach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371600"/>
            <a:ext cx="75438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2560" indent="-56664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nly 1/3 of the colonists were in favor of a war for independence [the other third were Loyalists, and the final third were neutral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56664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ate/colony loyal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56664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gress couldn’t tax to raise money for the Continenta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m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56664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oor training [unti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arrival 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aron von Steu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6386400" y="4191120"/>
            <a:ext cx="1995480" cy="23619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429000" y="380880"/>
            <a:ext cx="5630760" cy="609624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80880" y="1676520"/>
            <a:ext cx="3124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6"/>
                </a:solidFill>
                <a:latin typeface="Comic Sans MS"/>
              </a:rPr>
              <a:t>Loya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6"/>
                </a:solidFill>
                <a:latin typeface="Comic Sans MS"/>
              </a:rPr>
              <a:t>Strongho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1573" r="0" b="0"/>
          <a:stretch/>
        </p:blipFill>
        <p:spPr>
          <a:xfrm>
            <a:off x="1219320" y="1447920"/>
            <a:ext cx="6705360" cy="507024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914400" y="228600"/>
            <a:ext cx="815328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b5b4f"/>
                </a:solidFill>
                <a:latin typeface="Comic Sans MS"/>
              </a:rPr>
              <a:t>Phase I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en-US" sz="3400" spc="-1" strike="noStrike">
                <a:solidFill>
                  <a:srgbClr val="00007c"/>
                </a:solidFill>
                <a:latin typeface="Comic Sans MS"/>
              </a:rPr>
              <a:t> </a:t>
            </a:r>
            <a:r>
              <a:rPr b="1" lang="en-US" sz="3400" spc="-1" strike="noStrike">
                <a:solidFill>
                  <a:srgbClr val="000096"/>
                </a:solidFill>
                <a:latin typeface="Comic Sans MS"/>
              </a:rPr>
              <a:t>The Northern Campaign</a:t>
            </a:r>
            <a:br>
              <a:rPr sz="3400"/>
            </a:br>
            <a:r>
              <a:rPr b="1" lang="en-US" sz="3000" spc="-1" strike="noStrike">
                <a:solidFill>
                  <a:srgbClr val="000096"/>
                </a:solidFill>
                <a:latin typeface="Comic Sans MS"/>
              </a:rPr>
              <a:t>[1775-1776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228600"/>
            <a:ext cx="8686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6"/>
                </a:solidFill>
                <a:latin typeface="Comic Sans MS"/>
              </a:rPr>
              <a:t>Bunker Hill (June, 1775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261" r="2944" b="1638"/>
          <a:stretch/>
        </p:blipFill>
        <p:spPr>
          <a:xfrm>
            <a:off x="1828800" y="990720"/>
            <a:ext cx="4894200" cy="51051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685800" y="6172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British suffered over 40% casual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600200" y="2589120"/>
            <a:ext cx="25909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5b4f"/>
                </a:solidFill>
                <a:latin typeface="Comic Sans MS"/>
              </a:rPr>
              <a:t>Phase II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c"/>
                </a:solidFill>
                <a:latin typeface="Comic Sans MS"/>
              </a:rPr>
              <a:t>NY &amp; PA</a:t>
            </a:r>
            <a:br>
              <a:rPr sz="3600"/>
            </a:br>
            <a:r>
              <a:rPr b="1" lang="en-US" sz="2400" spc="-1" strike="noStrike">
                <a:solidFill>
                  <a:srgbClr val="00007c"/>
                </a:solidFill>
                <a:latin typeface="Comic Sans MS"/>
              </a:rPr>
              <a:t>[1777-1778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1177" r="0" b="0"/>
          <a:stretch/>
        </p:blipFill>
        <p:spPr>
          <a:xfrm>
            <a:off x="4440240" y="228600"/>
            <a:ext cx="4170240" cy="64008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18:24:28Z</dcterms:created>
  <dc:creator>tbabcock</dc:creator>
  <dc:description/>
  <dc:language>en-US</dc:language>
  <cp:lastModifiedBy>tbabcock</cp:lastModifiedBy>
  <dcterms:modified xsi:type="dcterms:W3CDTF">2010-04-28T14:20:23Z</dcterms:modified>
  <cp:revision>16</cp:revision>
  <dc:subject/>
  <dc:title>Slide 1</dc:title>
</cp:coreProperties>
</file>