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5.jpeg" ContentType="image/jpeg"/>
  <Override PartName="/ppt/media/image3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989-A673-40E0-9894-77F9350D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E1EA-037E-40E9-A77B-8E07042D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EF3-3A53-4AEF-B74F-CBCC9A75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7DB-870C-41BC-9E24-4B73F8EA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856-3DDC-46EC-89C2-D1249379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0D8-9DF0-422C-8840-49C88B7E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C86-5A97-41EF-ACB9-9B91DBA8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4AB8-1586-446D-B729-3F78DB3D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3AA-99F6-4840-88AE-8FDAE819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C6E7-9785-4F07-BF0F-62733421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7BE-8601-422B-8D44-F14D66D8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31C-0FC9-4C45-92EC-28EC031A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5EDA-0BA0-43B9-AB01-1259B6315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rezi.com/vgk77shab5um/edit/#Slide 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609480"/>
            <a:ext cx="586764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America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Revolution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1775-1783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5486400"/>
            <a:ext cx="5257800" cy="679320"/>
          </a:xfrm>
          <a:prstGeom prst="rect">
            <a:avLst/>
          </a:prstGeom>
          <a:noFill/>
          <a:ln w="9360">
            <a:solidFill>
              <a:srgbClr val="cb5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3880" y="457200"/>
            <a:ext cx="74678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Washington Crossing the Delaw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619760" cy="4116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828800" y="58672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inted by Emanuel Leutze, 18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81080" y="244440"/>
            <a:ext cx="3886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5b4f"/>
                </a:solidFill>
                <a:latin typeface="Comic Sans MS"/>
              </a:rPr>
              <a:t> </a:t>
            </a:r>
            <a:r>
              <a:rPr b="1" lang="en-US" sz="4200" spc="-1" strike="noStrike">
                <a:solidFill>
                  <a:srgbClr val="cb5b4f"/>
                </a:solidFill>
                <a:latin typeface="Comic Sans MS"/>
              </a:rPr>
              <a:t>Saratoga: </a:t>
            </a:r>
            <a:br>
              <a:rPr sz="4200"/>
            </a:br>
            <a:r>
              <a:rPr b="1" lang="en-US" sz="3400" spc="-1" strike="noStrike">
                <a:solidFill>
                  <a:srgbClr val="cb5b4f"/>
                </a:solidFill>
                <a:latin typeface="Comic Sans MS"/>
              </a:rPr>
              <a:t> </a:t>
            </a:r>
            <a:br>
              <a:rPr sz="3400"/>
            </a:br>
            <a:r>
              <a:rPr b="1" lang="en-US" sz="3400" spc="-1" strike="noStrike">
                <a:solidFill>
                  <a:srgbClr val="cb5b4f"/>
                </a:solidFill>
                <a:latin typeface="Comic Sans MS"/>
              </a:rPr>
              <a:t>  </a:t>
            </a:r>
            <a:r>
              <a:rPr b="1" lang="en-US" sz="3400" spc="-1" strike="noStrike">
                <a:solidFill>
                  <a:srgbClr val="333399"/>
                </a:solidFill>
                <a:latin typeface="Comic Sans MS"/>
              </a:rPr>
              <a:t>“Turning Point”</a:t>
            </a:r>
            <a:br>
              <a:rPr sz="3400"/>
            </a:br>
            <a:r>
              <a:rPr b="1" lang="en-US" sz="3400" spc="-1" strike="noStrike">
                <a:solidFill>
                  <a:srgbClr val="333399"/>
                </a:solidFill>
                <a:latin typeface="Comic Sans MS"/>
              </a:rPr>
              <a:t>  of the Wa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4286160" cy="2743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rcRect l="3032" t="1589" r="3032" b="1589"/>
          <a:stretch/>
        </p:blipFill>
        <p:spPr>
          <a:xfrm>
            <a:off x="6477120" y="1143000"/>
            <a:ext cx="2361960" cy="4648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600200" y="5653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modern-day re-enac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7632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b5b4f"/>
                </a:solidFill>
                <a:latin typeface="Comic Sans MS"/>
              </a:rPr>
              <a:t>Phase III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3400" spc="-1" strike="noStrike">
                <a:solidFill>
                  <a:srgbClr val="00007c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The Southern Strategy </a:t>
            </a:r>
            <a:r>
              <a:rPr b="1" lang="en-US" sz="2600" spc="-1" strike="noStrike">
                <a:solidFill>
                  <a:srgbClr val="000096"/>
                </a:solidFill>
                <a:latin typeface="Comic Sans MS"/>
              </a:rPr>
              <a:t>[1780-1781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1201" r="1015" b="0"/>
          <a:stretch/>
        </p:blipFill>
        <p:spPr>
          <a:xfrm>
            <a:off x="1371600" y="1295280"/>
            <a:ext cx="6545160" cy="53341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4400" y="380880"/>
            <a:ext cx="716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Britain’s “Southern Strategy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1219320"/>
            <a:ext cx="64767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itain thought that there were more Loyalists in the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British win a number of small victories, but cannot pacify the countryside [similar to U. S. in Vietnam!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od US General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athanial Gre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095880" y="4343400"/>
            <a:ext cx="1827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22860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6"/>
                </a:solidFill>
                <a:latin typeface="Comic Sans MS"/>
              </a:rPr>
              <a:t>The Battle of Yorktown (1781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1250" t="1388" r="2145" b="1388"/>
          <a:stretch/>
        </p:blipFill>
        <p:spPr>
          <a:xfrm>
            <a:off x="2895480" y="1219320"/>
            <a:ext cx="4195800" cy="5105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33520" y="37339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unt de Rochamb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90720" y="1981080"/>
            <a:ext cx="1650960" cy="1676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7162920" y="539424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dmir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 Gr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7238880" y="3733920"/>
            <a:ext cx="1636920" cy="1660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228600"/>
            <a:ext cx="8305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Cornwallis’ Surrender at Yorktow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5867640" cy="453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752480" y="60958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inted by John Trumbull, 17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9480" y="77436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02e00"/>
                </a:solidFill>
                <a:latin typeface="Comic Sans MS"/>
              </a:rPr>
              <a:t>“</a:t>
            </a:r>
            <a:r>
              <a:rPr b="1" i="1" lang="en-US" sz="2800" spc="-1" strike="noStrike">
                <a:solidFill>
                  <a:srgbClr val="f02e00"/>
                </a:solidFill>
                <a:latin typeface="Comic Sans MS"/>
              </a:rPr>
              <a:t>The World Turned Upside Down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447920" y="1066680"/>
            <a:ext cx="579096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Wh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did the British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Lose??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 of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itory that stretched North to Great Lakes, West to Mississippi and the Coast to 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turn, be kind to our sympathizers (Loyali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ff and return recommend that you return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38080" y="2166840"/>
          <a:ext cx="7924680" cy="3243240"/>
        </p:xfrm>
        <a:graphic>
          <a:graphicData uri="http://schemas.openxmlformats.org/drawingml/2006/table">
            <a:tbl>
              <a:tblPr/>
              <a:tblGrid>
                <a:gridCol w="2831040"/>
                <a:gridCol w="2451960"/>
                <a:gridCol w="26416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6"/>
                          </a:solidFill>
                          <a:latin typeface="Comic Sans MS"/>
                        </a:rPr>
                        <a:t>Amer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990720" y="304920"/>
            <a:ext cx="79246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96"/>
                </a:solidFill>
                <a:latin typeface="Comic Sans MS"/>
              </a:rPr>
              <a:t>On the Eve of the Revolution 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rengths on the eve of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19320" y="2666880"/>
            <a:ext cx="6248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52480" y="304920"/>
            <a:ext cx="7162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6"/>
                </a:solidFill>
                <a:latin typeface="Comic Sans MS"/>
              </a:rPr>
              <a:t>Military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1828800"/>
            <a:ext cx="289548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trition [the Brits had a long supply line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uerilla tactics [fight an insurgent war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you don’t have to win a battle, just wear the British dow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ke an alliance with one of Britain’s enem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295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The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02e00"/>
                </a:solidFill>
                <a:uFillTx/>
                <a:latin typeface="Comic Sans MS"/>
              </a:rPr>
              <a:t>The 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1828800"/>
            <a:ext cx="289548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reak the colonies in half by getting between the No. &amp; the 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lockade the ports to prevent the flow of goods and supplies from an 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vide and Conquer”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use the Loyali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96720"/>
            <a:ext cx="777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Washington’s Headach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371600"/>
            <a:ext cx="754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1/3 of the colonists were in favor of a war for independence [the other third were Loyalists, and the final third were neutral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te/colony loya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gress couldn’t tax to raise money for the Continent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or training [unti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rrival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ron von Steu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386400" y="4191120"/>
            <a:ext cx="1995480" cy="2361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29000" y="380880"/>
            <a:ext cx="5630760" cy="60962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80880" y="1676520"/>
            <a:ext cx="3124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6"/>
                </a:solidFill>
                <a:latin typeface="Comic Sans MS"/>
              </a:rPr>
              <a:t>Loy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6"/>
                </a:solidFill>
                <a:latin typeface="Comic Sans MS"/>
              </a:rPr>
              <a:t>Strong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1573" r="0" b="0"/>
          <a:stretch/>
        </p:blipFill>
        <p:spPr>
          <a:xfrm>
            <a:off x="1219320" y="1447920"/>
            <a:ext cx="6705360" cy="50702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914400" y="228600"/>
            <a:ext cx="815328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b5b4f"/>
                </a:solidFill>
                <a:latin typeface="Comic Sans MS"/>
              </a:rPr>
              <a:t>Phase I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3400" spc="-1" strike="noStrike">
                <a:solidFill>
                  <a:srgbClr val="00007c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The Northern Campaign</a:t>
            </a:r>
            <a:br>
              <a:rPr sz="3400"/>
            </a:br>
            <a:r>
              <a:rPr b="1" lang="en-US" sz="3000" spc="-1" strike="noStrike">
                <a:solidFill>
                  <a:srgbClr val="000096"/>
                </a:solidFill>
                <a:latin typeface="Comic Sans MS"/>
              </a:rPr>
              <a:t>[1775-1776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8686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Bunker Hill (June, 1775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261" r="2944" b="1638"/>
          <a:stretch/>
        </p:blipFill>
        <p:spPr>
          <a:xfrm>
            <a:off x="1828800" y="990720"/>
            <a:ext cx="4894200" cy="5105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685800" y="6172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British suffered over 40% casua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00200" y="2589120"/>
            <a:ext cx="2590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5b4f"/>
                </a:solidFill>
                <a:latin typeface="Comic Sans MS"/>
              </a:rPr>
              <a:t>Phase I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c"/>
                </a:solidFill>
                <a:latin typeface="Comic Sans MS"/>
              </a:rPr>
              <a:t>NY &amp; PA</a:t>
            </a:r>
            <a:br>
              <a:rPr sz="3600"/>
            </a:br>
            <a:r>
              <a:rPr b="1" lang="en-US" sz="2400" spc="-1" strike="noStrike">
                <a:solidFill>
                  <a:srgbClr val="00007c"/>
                </a:solidFill>
                <a:latin typeface="Comic Sans MS"/>
              </a:rPr>
              <a:t>[1777-177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1177" r="0" b="0"/>
          <a:stretch/>
        </p:blipFill>
        <p:spPr>
          <a:xfrm>
            <a:off x="4440240" y="228600"/>
            <a:ext cx="4170240" cy="64008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8:24:28Z</dcterms:created>
  <dc:creator>tbabcock</dc:creator>
  <dc:description/>
  <dc:language>en-US</dc:language>
  <cp:lastModifiedBy>tbabcock</cp:lastModifiedBy>
  <dcterms:modified xsi:type="dcterms:W3CDTF">2010-04-28T14:20:23Z</dcterms:modified>
  <cp:revision>16</cp:revision>
  <dc:subject/>
  <dc:title>Slide 1</dc:title>
</cp:coreProperties>
</file>