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A57A-A21A-43FE-917F-819280F9C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39AD-36FA-4F37-A7C6-8596C829D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17C6-3291-4500-9C0B-87A3C3435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B386-9601-4FB8-9612-60C1F80FD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5474-D36D-45F7-818C-B091D9C35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9E5E-9776-4258-8BAD-2B3E3AD18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DB26-6C8A-4A8D-AA80-14D4975B3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4AD3-AE0F-4E16-8890-EB167A2BC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DD3C-E268-48E1-830D-0CADF6A5B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DFCA-55CC-4B23-809B-C2E4AEE7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A35-4B02-4F8E-9604-F5567E38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711-11E2-4A29-BF23-33E51C36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3F9-686A-4779-A950-75026963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A27-5FA0-40FC-BEF4-35EF61AA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343-7AEE-4F54-886E-CDD075E8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175-B9BE-4548-A3A7-4C43D894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021-65B8-4785-8B4E-A6165DF6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F45-6683-4F15-AF25-325CA49D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0A5F-494F-455E-9C88-0328C1EB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725-FE17-430E-A478-92B28F31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A64-F6D9-4752-B2DD-4179F68C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7D1E-2C2C-4CB0-A183-614A59C3E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ultimedialearningllc.files.wordpress.com/2009/10/andrew_jackson.jpg&amp;imgrefurl=http://multimedialearningllc.wordpress.com/2009/10/04/president-jackson-on-indian-removal/&amp;usg=__Dvd61JXth8gaxfvrfnOqzDAL9UY=&amp;h=739&amp;w=610&amp;sz=303&amp;hl=en&amp;start=1&amp;sig2=kDmENYkbRx3hbCONCbGxlw&amp;um=1&amp;tbnid=_eV7sXBkLaPakM:&amp;tbnh=141&amp;tbnw=116&amp;prev=/images%3Fq%3Dandrew%2Bjackson%26hl%3Den%26safe%3Dactive%26rlz%3D1T4DMUS_enUS234US238%26sa%3DN%26um%3D1&amp;ei=sdL6SuWVFYPS8QadmcjNDA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images.google.com/imgres?imgurl=http://www.jimnicholsufo.com/wp-content/uploads/2007/09/andrew-jackson.jpg&amp;imgrefurl=http://www.jimnicholsufo.com/conspiracy-theory/&amp;usg=__-Jm-wQx1mx2agdSH9dc_7Ruw4Rg=&amp;h=960&amp;w=797&amp;sz=384&amp;hl=en&amp;start=26&amp;sig2=ZXufPX2zHHbkY55EbC_nGw&amp;um=1&amp;tbnid=C3cOCOuT8igdxM:&amp;tbnh=148&amp;tbnw=123&amp;prev=/images%3Fq%3Dandrew%2Bjackson%26ndsp%3D20%26hl%3Den%26safe%3Dactive%26rlz%3D1T4DMUS_enUS234US238%26sa%3DN%26start%3D20%26um%3D1&amp;ei=6tL6SsyHGcrg8QbpoPzZDA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freepages.genealogy.rootsweb.com/~jganis/AndrewJackson/AJbirthplace.jpg&amp;imgrefurl=http://freepages.genealogy.rootsweb.ancestry.com/~jganis/AndrewJackson/AndrewJackson.html&amp;usg=__bC3HJq42I7QHOPiqRw9VbX3uwlU=&amp;h=284&amp;w=329&amp;sz=28&amp;hl=en&amp;start=4&amp;sig2=MBNpvjUihoBqGWsRDJ-uYA&amp;um=1&amp;tbnid=29C70lGNsfqBdM:&amp;tbnh=103&amp;tbnw=119&amp;prev=/images%3Fq%3Dandrew%2Bjackson%2Bbirthplace%26hl%3Den%26safe%3Dactive%26rlz%3D1T4DMUS_enUS234US238%26sa%3DN%26um%3D1&amp;ei=RdP6SvD6BJWY8Aa_1JDTDA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m/imgres?imgurl=http://blogs.dallasobserver.com/dc9/flock%2520of%2520seagulls.jpg&amp;imgrefurl=http://blogs.dallasobserver.com/dc9/2009/03/show_announcements_a_flock_of.php&amp;usg=__MDhqYpHKv-ZYtcmHqQ-z4lfMbFE=&amp;h=440&amp;w=338&amp;sz=40&amp;hl=en&amp;start=4&amp;um=1&amp;tbnid=VKK3cpCh8EOCMM:&amp;tbnh=127&amp;tbnw=98&amp;prev=/images%3Fq%3Dflock%2Bof%2Bseagulls%26hl%3Den%26safe%3Dactive%26rlz%3D1T4DMUS_enUS234US238%26um%3D1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www.signedbystar.com/files/2281585/uploaded/JOHNNY%2520DEPP%2520-%2520EDWARD%2520SCISSORHANDS.jpg&amp;imgrefurl=http://kandeethemakeupartist.blogspot.com/2009/10/edward-scissorhands.html&amp;usg=__CZRex2BiC2waO0TVfvCAMT_0TWI=&amp;h=1000&amp;w=789&amp;sz=92&amp;hl=en&amp;start=3&amp;um=1&amp;tbnid=bTwYOvP97stpMM:&amp;tbnh=149&amp;tbnw=118&amp;prev=/images%3Fq%3Djohnny%2Bdepp%2Bscissorhands%26hl%3Den%26safe%3Dactive%26rlz%3D1T4DMUS_enUS234US238%26sa%3DN%26um%3D1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m/imgres?imgurl=http://www.beyoncefan.com/wordpress/wp-content/uploads/2009/09/Beyonce-Perez-Hilton-Lady-Gaga-VMA-09-Backstage-Moments.jpg&amp;imgrefurl=http://www.beyoncefan.com/2009/09/13/vma-09-beyonce-lady-gaga-backstage-moments-photos/&amp;usg=__PUFyeBRBrOk3KZVsS5_LtMwU-a4=&amp;h=402&amp;w=600&amp;sz=269&amp;hl=en&amp;start=36&amp;um=1&amp;tbnid=RC-BXdVyUNVB1M:&amp;tbnh=90&amp;tbnw=135&amp;prev=/images%3Fq%3Dlady%2Bgaga%2Bvma%26ndsp%3D20%26hl%3Den%26safe%3Dactive%26rlz%3D1T4DMUS_enUS234US238%26sa%3DN%26start%3D20%26um%3D1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angryseafood.com/wp-content/uploads/2008/12/crazy_hair_styles_10.jpg&amp;imgrefurl=http://angryseafood.com/look-out-for-the-crazy-hair-salon/&amp;usg=__A1VjoIxmMRZdrmDQldskdOhjk7o=&amp;h=400&amp;w=328&amp;sz=33&amp;hl=en&amp;start=29&amp;um=1&amp;tbnid=exrWNqN4IR4uSM:&amp;tbnh=124&amp;tbnw=102&amp;prev=/images%3Fq%3Dcrazy%2Bhair%26ndsp%3D20%26hl%3Den%26safe%3Dactive%26rlz%3D1T4DMUS_enUS234US238%26sa%3DN%26start%3D20%26um%3D1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3-JQA and the Rise of Mass 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6a00d83451982269e2010536cdd892970b-500wi"/>
          <p:cNvPicPr/>
          <p:nvPr/>
        </p:nvPicPr>
        <p:blipFill>
          <a:blip r:embed="rId1"/>
          <a:stretch/>
        </p:blipFill>
        <p:spPr>
          <a:xfrm>
            <a:off x="0" y="2585880"/>
            <a:ext cx="4876920" cy="4272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225px-Martin_Van_Buren_edit"/>
          <p:cNvPicPr/>
          <p:nvPr/>
        </p:nvPicPr>
        <p:blipFill>
          <a:blip r:embed="rId2"/>
          <a:stretch/>
        </p:blipFill>
        <p:spPr>
          <a:xfrm>
            <a:off x="5045040" y="0"/>
            <a:ext cx="4152960" cy="6248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Arial"/>
              </a:rPr>
              <a:t>President Martin Van B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tin Van B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o be born under an  American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olitician, born of “machine”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ed the problems of Jackson’s America (Without his popular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 (Panic of 18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of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nic of 18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ian”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pse of British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ssian F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Grain Prices s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nk 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igs called for intervention/Democrats want to stay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an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ght for Independence from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o had early victories but did not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recog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join union but slavery got i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H-President (Temporarily-30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economic 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yho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ar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gs and Democratic Republicans (Democr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all”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ed extr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esidency of JQA (#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upt Bargain (Election of 18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s of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 with the Cherok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liked the position and was in return disli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ckson was a….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n of a Prostitute and an adulte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ms was a…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mbling Pi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Live American Politic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Presidency-Ad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ew EXs who had a very strong 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 of House of Represent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ded brilliantly i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ist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happier out of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600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’s Presid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andrew_jacks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6856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Jackson"/>
          <p:cNvPicPr/>
          <p:nvPr/>
        </p:nvPicPr>
        <p:blipFill>
          <a:blip r:embed="rId3"/>
          <a:stretch/>
        </p:blipFill>
        <p:spPr>
          <a:xfrm>
            <a:off x="6881760" y="0"/>
            <a:ext cx="226224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andrew-jacks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3886200"/>
            <a:ext cx="196380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Andrew_Jackson_Presidential_Dollar_500"/>
          <p:cNvPicPr/>
          <p:nvPr/>
        </p:nvPicPr>
        <p:blipFill>
          <a:blip r:embed="rId6"/>
          <a:stretch/>
        </p:blipFill>
        <p:spPr>
          <a:xfrm>
            <a:off x="3200400" y="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AJbirthplac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5029200"/>
            <a:ext cx="1676520" cy="145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071209nomore1_t607"/>
          <p:cNvPicPr/>
          <p:nvPr/>
        </p:nvPicPr>
        <p:blipFill>
          <a:blip r:embed="rId9"/>
          <a:stretch/>
        </p:blipFill>
        <p:spPr>
          <a:xfrm>
            <a:off x="7202520" y="3124080"/>
            <a:ext cx="1941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jackson_1830"/>
          <p:cNvPicPr/>
          <p:nvPr/>
        </p:nvPicPr>
        <p:blipFill>
          <a:blip r:embed="rId1"/>
          <a:stretch/>
        </p:blipFill>
        <p:spPr>
          <a:xfrm>
            <a:off x="0" y="838080"/>
            <a:ext cx="3352680" cy="289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flock%2520of%2520seagul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0"/>
            <a:ext cx="176400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JOHNNY%2520DEPP%2520-%2520EDWARD%2520SCISSORHAND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0"/>
            <a:ext cx="241488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Beyonce-Perez-Hilton-Lady-Gaga-VMA-09-Backstage-Moment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520" y="426708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crazy_hair_styles_1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086360" y="2838600"/>
            <a:ext cx="2741400" cy="333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britney-gal-after"/>
          <p:cNvPicPr/>
          <p:nvPr/>
        </p:nvPicPr>
        <p:blipFill>
          <a:blip r:embed="rId10"/>
          <a:stretch/>
        </p:blipFill>
        <p:spPr>
          <a:xfrm>
            <a:off x="6248520" y="3608280"/>
            <a:ext cx="2895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ian Highs and 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an Removal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orcester v. Georgia (1832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riff of Abominations” and the Nul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oil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ath to the B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Bank v. “Pet Ban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sonian Lega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yth of the Presidency to his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olitic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 (Probably could have served three terms, easi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the powers of the Presid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G.W., rate the presidency of Andrew Jackson.  Please 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ecedents, positive or negative, were set by President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Jackson’s personality enable or disable him as a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s: Spoils System, Pet Banks and Peggy Eaton (Answer 2 of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Credit: Name the President that first rode on a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3:39:46Z</dcterms:created>
  <dc:creator>tbabcock</dc:creator>
  <dc:description/>
  <dc:language>en-US</dc:language>
  <cp:lastModifiedBy>tbabcock</cp:lastModifiedBy>
  <dcterms:modified xsi:type="dcterms:W3CDTF">2009-11-17T13:03:53Z</dcterms:modified>
  <cp:revision>39</cp:revision>
  <dc:subject/>
  <dc:title>Slide 1</dc:title>
</cp:coreProperties>
</file>