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8044-736F-4820-B98D-3A710740A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5090-83A0-44E2-BF11-8C39B239F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485E-002F-43E4-AF3C-1577982C7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8C4D-BD5B-4245-B7DC-7632DF91C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559A-89EA-4B46-B68F-3B1ADAC6A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89BD-BE97-4023-A720-094A17C4E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F2C0-23DE-42D4-A913-E395753FA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5DC2-DE5B-4B63-92E9-A303B9191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D10B-44D8-47C8-9EC2-B8BF8729C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7B0-25B2-4173-9C33-9F586A2E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D6D-0044-42C3-9296-C1C22AD7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7BB-4CDB-4E77-9AC4-68969807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C59-79AA-4D1D-B11D-DE1F5662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7A4-C0CE-425C-9F6A-20C42E67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11F-81DF-42A5-BBDE-9699A8E0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0E5-03C4-41E0-B778-637866E8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729-837D-46CC-BE41-01AE87AE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5FC-8DF2-4FFC-9FA7-650F644B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60F-6A55-428A-A30A-7ACFFD34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6E0-6B0A-40D2-8521-5C428699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4D5-C17C-456C-88EF-76BA4F9D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79E3-8BBB-4B72-AF4F-28443A047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ultimedialearningllc.files.wordpress.com/2009/10/andrew_jackson.jpg&amp;imgrefurl=http://multimedialearningllc.wordpress.com/2009/10/04/president-jackson-on-indian-removal/&amp;usg=__Dvd61JXth8gaxfvrfnOqzDAL9UY=&amp;h=739&amp;w=610&amp;sz=303&amp;hl=en&amp;start=1&amp;sig2=kDmENYkbRx3hbCONCbGxlw&amp;um=1&amp;tbnid=_eV7sXBkLaPakM:&amp;tbnh=141&amp;tbnw=116&amp;prev=/images%3Fq%3Dandrew%2Bjackson%26hl%3Den%26safe%3Dactive%26rlz%3D1T4DMUS_enUS234US238%26sa%3DN%26um%3D1&amp;ei=sdL6SuWVFYPS8QadmcjNDA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jimnicholsufo.com/wp-content/uploads/2007/09/andrew-jackson.jpg&amp;imgrefurl=http://www.jimnicholsufo.com/conspiracy-theory/&amp;usg=__-Jm-wQx1mx2agdSH9dc_7Ruw4Rg=&amp;h=960&amp;w=797&amp;sz=384&amp;hl=en&amp;start=26&amp;sig2=ZXufPX2zHHbkY55EbC_nGw&amp;um=1&amp;tbnid=C3cOCOuT8igdxM:&amp;tbnh=148&amp;tbnw=123&amp;prev=/images%3Fq%3Dandrew%2Bjackson%26ndsp%3D20%26hl%3Den%26safe%3Dactive%26rlz%3D1T4DMUS_enUS234US238%26sa%3DN%26start%3D20%26um%3D1&amp;ei=6tL6SsyHGcrg8QbpoPzZDA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freepages.genealogy.rootsweb.com/~jganis/AndrewJackson/AJbirthplace.jpg&amp;imgrefurl=http://freepages.genealogy.rootsweb.ancestry.com/~jganis/AndrewJackson/AndrewJackson.html&amp;usg=__bC3HJq42I7QHOPiqRw9VbX3uwlU=&amp;h=284&amp;w=329&amp;sz=28&amp;hl=en&amp;start=4&amp;sig2=MBNpvjUihoBqGWsRDJ-uYA&amp;um=1&amp;tbnid=29C70lGNsfqBdM:&amp;tbnh=103&amp;tbnw=119&amp;prev=/images%3Fq%3Dandrew%2Bjackson%2Bbirthplace%26hl%3Den%26safe%3Dactive%26rlz%3D1T4DMUS_enUS234US238%26sa%3DN%26um%3D1&amp;ei=RdP6SvD6BJWY8Aa_1JDTDA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blogs.dallasobserver.com/dc9/flock%2520of%2520seagulls.jpg&amp;imgrefurl=http://blogs.dallasobserver.com/dc9/2009/03/show_announcements_a_flock_of.php&amp;usg=__MDhqYpHKv-ZYtcmHqQ-z4lfMbFE=&amp;h=440&amp;w=338&amp;sz=40&amp;hl=en&amp;start=4&amp;um=1&amp;tbnid=VKK3cpCh8EOCMM:&amp;tbnh=127&amp;tbnw=98&amp;prev=/images%3Fq%3Dflock%2Bof%2Bseagulls%26hl%3Den%26safe%3Dactive%26rlz%3D1T4DMUS_enUS234US238%26um%3D1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signedbystar.com/files/2281585/uploaded/JOHNNY%2520DEPP%2520-%2520EDWARD%2520SCISSORHANDS.jpg&amp;imgrefurl=http://kandeethemakeupartist.blogspot.com/2009/10/edward-scissorhands.html&amp;usg=__CZRex2BiC2waO0TVfvCAMT_0TWI=&amp;h=1000&amp;w=789&amp;sz=92&amp;hl=en&amp;start=3&amp;um=1&amp;tbnid=bTwYOvP97stpMM:&amp;tbnh=149&amp;tbnw=118&amp;prev=/images%3Fq%3Djohnny%2Bdepp%2Bscissorhands%26hl%3Den%26safe%3Dactive%26rlz%3D1T4DMUS_enUS234US238%26sa%3DN%26um%3D1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www.beyoncefan.com/wordpress/wp-content/uploads/2009/09/Beyonce-Perez-Hilton-Lady-Gaga-VMA-09-Backstage-Moments.jpg&amp;imgrefurl=http://www.beyoncefan.com/2009/09/13/vma-09-beyonce-lady-gaga-backstage-moments-photos/&amp;usg=__PUFyeBRBrOk3KZVsS5_LtMwU-a4=&amp;h=402&amp;w=600&amp;sz=269&amp;hl=en&amp;start=36&amp;um=1&amp;tbnid=RC-BXdVyUNVB1M:&amp;tbnh=90&amp;tbnw=135&amp;prev=/images%3Fq%3Dlady%2Bgaga%2Bvma%26ndsp%3D20%26hl%3Den%26safe%3Dactive%26rlz%3D1T4DMUS_enUS234US238%26sa%3DN%26start%3D20%26um%3D1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angryseafood.com/wp-content/uploads/2008/12/crazy_hair_styles_10.jpg&amp;imgrefurl=http://angryseafood.com/look-out-for-the-crazy-hair-salon/&amp;usg=__A1VjoIxmMRZdrmDQldskdOhjk7o=&amp;h=400&amp;w=328&amp;sz=33&amp;hl=en&amp;start=29&amp;um=1&amp;tbnid=exrWNqN4IR4uSM:&amp;tbnh=124&amp;tbnw=102&amp;prev=/images%3Fq%3Dcrazy%2Bhair%26ndsp%3D20%26hl%3Den%26safe%3Dactive%26rlz%3D1T4DMUS_enUS234US238%26sa%3DN%26start%3D20%26um%3D1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3-JQA and the Rise of Mass 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6a00d83451982269e2010536cdd892970b-500wi"/>
          <p:cNvPicPr/>
          <p:nvPr/>
        </p:nvPicPr>
        <p:blipFill>
          <a:blip r:embed="rId1"/>
          <a:stretch/>
        </p:blipFill>
        <p:spPr>
          <a:xfrm>
            <a:off x="0" y="2585880"/>
            <a:ext cx="4876920" cy="427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225px-Martin_Van_Buren_edit"/>
          <p:cNvPicPr/>
          <p:nvPr/>
        </p:nvPicPr>
        <p:blipFill>
          <a:blip r:embed="rId2"/>
          <a:stretch/>
        </p:blipFill>
        <p:spPr>
          <a:xfrm>
            <a:off x="5045040" y="0"/>
            <a:ext cx="4152960" cy="6248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Arial"/>
              </a:rPr>
              <a:t>President Martin Van B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tin Van B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o be born under an  American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litician, born of “machine”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ed the problems of Jackson’s America (Without his popula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 (Panic of 18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of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ic of 18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ian”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 of British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sian F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Grain Prices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nk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igs called for intervention/Democrats want to stay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an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ght for Independence from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 had early victories but did not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join union but slavery got i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H-President (Temporarily-30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conomic 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yho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ar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gs and Democratic Republicans (Democr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all”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ed extr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esidency of JQA (#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 Bargain (Election of 18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s of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 with the Cherok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d the position and was in return disli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ckson was a…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n of a Prostitute and an adult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ms was a…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bling Pi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Live American Politic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Presidency-Ad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ew EXs who had a very strong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of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ded brilliantly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ist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happier out of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00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’s Presid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andrew_jack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6856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Jackson"/>
          <p:cNvPicPr/>
          <p:nvPr/>
        </p:nvPicPr>
        <p:blipFill>
          <a:blip r:embed="rId3"/>
          <a:stretch/>
        </p:blipFill>
        <p:spPr>
          <a:xfrm>
            <a:off x="6881760" y="0"/>
            <a:ext cx="22622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andrew-jacks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3886200"/>
            <a:ext cx="196380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Andrew_Jackson_Presidential_Dollar_500"/>
          <p:cNvPicPr/>
          <p:nvPr/>
        </p:nvPicPr>
        <p:blipFill>
          <a:blip r:embed="rId6"/>
          <a:stretch/>
        </p:blipFill>
        <p:spPr>
          <a:xfrm>
            <a:off x="3200400" y="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AJbirthplac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5029200"/>
            <a:ext cx="1676520" cy="145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071209nomore1_t607"/>
          <p:cNvPicPr/>
          <p:nvPr/>
        </p:nvPicPr>
        <p:blipFill>
          <a:blip r:embed="rId9"/>
          <a:stretch/>
        </p:blipFill>
        <p:spPr>
          <a:xfrm>
            <a:off x="7202520" y="3124080"/>
            <a:ext cx="1941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jackson_1830"/>
          <p:cNvPicPr/>
          <p:nvPr/>
        </p:nvPicPr>
        <p:blipFill>
          <a:blip r:embed="rId1"/>
          <a:stretch/>
        </p:blipFill>
        <p:spPr>
          <a:xfrm>
            <a:off x="0" y="838080"/>
            <a:ext cx="3352680" cy="289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flock%2520of%2520seagul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0"/>
            <a:ext cx="17640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JOHNNY%2520DEPP%2520-%2520EDWARD%2520SCISSORHAND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0"/>
            <a:ext cx="24148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Beyonce-Perez-Hilton-Lady-Gaga-VMA-09-Backstage-Moment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426708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crazy_hair_styles_1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086360" y="2838600"/>
            <a:ext cx="2741400" cy="33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britney-gal-after"/>
          <p:cNvPicPr/>
          <p:nvPr/>
        </p:nvPicPr>
        <p:blipFill>
          <a:blip r:embed="rId10"/>
          <a:stretch/>
        </p:blipFill>
        <p:spPr>
          <a:xfrm>
            <a:off x="6248520" y="3608280"/>
            <a:ext cx="2895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ian Highs and 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an Removal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orcester v. Georgia (1832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riff of Abominations” and the Nu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oil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ath to the B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Bank v. “Pet Ba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ian Leg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yth of the Presidency to his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lit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(Probably could have served three terms, easi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the powers of the Presi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G.W., rate the presidency of Andrew Jackson.  Please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ecedents, positive or negative, were set by President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Jackson’s personality enable or disable him as a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: Spoils System, Pet Banks and Peggy Eaton (Answer 2 of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Credit: Name the President that first rode on a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3:39:46Z</dcterms:created>
  <dc:creator>tbabcock</dc:creator>
  <dc:description/>
  <dc:language>en-US</dc:language>
  <cp:lastModifiedBy>tbabcock</cp:lastModifiedBy>
  <dcterms:modified xsi:type="dcterms:W3CDTF">2009-11-17T13:03:53Z</dcterms:modified>
  <cp:revision>39</cp:revision>
  <dc:subject/>
  <dc:title>Slide 1</dc:title>
</cp:coreProperties>
</file>