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0E8-13B5-4EE9-8907-1BF7F96C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8CDC-AE4A-40C9-8C59-BE4F6E265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73B8-E95A-4B64-AD33-D29A57D3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3EAA-8B19-48B4-8623-A692B7281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7A0D-8F78-448F-BF39-A983F5BE5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5B26-ABFA-4157-945B-5E15347A6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3F5F-A75F-421D-9988-706A896B1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E9F4-2B9F-4FF9-BC81-17EACA85F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6AAB-D837-48C0-9CF8-2957273B8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82E-EF91-424E-8C06-4AB334CD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35F-9448-4E5F-BA74-1824D30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3B3-8023-4441-A776-909CD53A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F89-456C-4DE0-BDF8-BDE97476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A0B-610C-4BC5-87EB-5FB58ECE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C31-C526-41A3-838C-F862BA88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65C-48F6-4581-8386-C9D9FB90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AB8-A895-4801-BAE8-899642D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F1B-8E38-421E-BE96-3E092182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6E8-08C3-46B5-878C-11900270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469-685C-46CF-B764-6E155AD0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79D-2B7B-45EA-9B3D-7C120AA0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BDF8-EB9D-41A6-961F-2333F7877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ultimedialearningllc.files.wordpress.com/2009/10/andrew_jackson.jpg&amp;imgrefurl=http://multimedialearningllc.wordpress.com/2009/10/04/president-jackson-on-indian-removal/&amp;usg=__Dvd61JXth8gaxfvrfnOqzDAL9UY=&amp;h=739&amp;w=610&amp;sz=303&amp;hl=en&amp;start=1&amp;sig2=kDmENYkbRx3hbCONCbGxlw&amp;um=1&amp;tbnid=_eV7sXBkLaPakM:&amp;tbnh=141&amp;tbnw=116&amp;prev=/images%3Fq%3Dandrew%2Bjackson%26hl%3Den%26safe%3Dactive%26rlz%3D1T4DMUS_enUS234US238%26sa%3DN%26um%3D1&amp;ei=sdL6SuWVFYPS8QadmcjNDA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jimnicholsufo.com/wp-content/uploads/2007/09/andrew-jackson.jpg&amp;imgrefurl=http://www.jimnicholsufo.com/conspiracy-theory/&amp;usg=__-Jm-wQx1mx2agdSH9dc_7Ruw4Rg=&amp;h=960&amp;w=797&amp;sz=384&amp;hl=en&amp;start=26&amp;sig2=ZXufPX2zHHbkY55EbC_nGw&amp;um=1&amp;tbnid=C3cOCOuT8igdxM:&amp;tbnh=148&amp;tbnw=123&amp;prev=/images%3Fq%3Dandrew%2Bjackson%26ndsp%3D20%26hl%3Den%26safe%3Dactive%26rlz%3D1T4DMUS_enUS234US238%26sa%3DN%26start%3D20%26um%3D1&amp;ei=6tL6SsyHGcrg8QbpoPzZDA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freepages.genealogy.rootsweb.com/~jganis/AndrewJackson/AJbirthplace.jpg&amp;imgrefurl=http://freepages.genealogy.rootsweb.ancestry.com/~jganis/AndrewJackson/AndrewJackson.html&amp;usg=__bC3HJq42I7QHOPiqRw9VbX3uwlU=&amp;h=284&amp;w=329&amp;sz=28&amp;hl=en&amp;start=4&amp;sig2=MBNpvjUihoBqGWsRDJ-uYA&amp;um=1&amp;tbnid=29C70lGNsfqBdM:&amp;tbnh=103&amp;tbnw=119&amp;prev=/images%3Fq%3Dandrew%2Bjackson%2Bbirthplace%26hl%3Den%26safe%3Dactive%26rlz%3D1T4DMUS_enUS234US238%26sa%3DN%26um%3D1&amp;ei=RdP6SvD6BJWY8Aa_1JDTDA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blogs.dallasobserver.com/dc9/flock%2520of%2520seagulls.jpg&amp;imgrefurl=http://blogs.dallasobserver.com/dc9/2009/03/show_announcements_a_flock_of.php&amp;usg=__MDhqYpHKv-ZYtcmHqQ-z4lfMbFE=&amp;h=440&amp;w=338&amp;sz=40&amp;hl=en&amp;start=4&amp;um=1&amp;tbnid=VKK3cpCh8EOCMM:&amp;tbnh=127&amp;tbnw=98&amp;prev=/images%3Fq%3Dflock%2Bof%2Bseagulls%26hl%3Den%26safe%3Dactive%26rlz%3D1T4DMUS_enUS234US238%26um%3D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signedbystar.com/files/2281585/uploaded/JOHNNY%2520DEPP%2520-%2520EDWARD%2520SCISSORHANDS.jpg&amp;imgrefurl=http://kandeethemakeupartist.blogspot.com/2009/10/edward-scissorhands.html&amp;usg=__CZRex2BiC2waO0TVfvCAMT_0TWI=&amp;h=1000&amp;w=789&amp;sz=92&amp;hl=en&amp;start=3&amp;um=1&amp;tbnid=bTwYOvP97stpMM:&amp;tbnh=149&amp;tbnw=118&amp;prev=/images%3Fq%3Djohnny%2Bdepp%2Bscissorhands%26hl%3Den%26safe%3Dactive%26rlz%3D1T4DMUS_enUS234US238%26sa%3DN%26um%3D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beyoncefan.com/wordpress/wp-content/uploads/2009/09/Beyonce-Perez-Hilton-Lady-Gaga-VMA-09-Backstage-Moments.jpg&amp;imgrefurl=http://www.beyoncefan.com/2009/09/13/vma-09-beyonce-lady-gaga-backstage-moments-photos/&amp;usg=__PUFyeBRBrOk3KZVsS5_LtMwU-a4=&amp;h=402&amp;w=600&amp;sz=269&amp;hl=en&amp;start=36&amp;um=1&amp;tbnid=RC-BXdVyUNVB1M:&amp;tbnh=90&amp;tbnw=135&amp;prev=/images%3Fq%3Dlady%2Bgaga%2Bvma%26ndsp%3D20%26hl%3Den%26safe%3Dactive%26rlz%3D1T4DMUS_enUS234US238%26sa%3DN%26start%3D20%26um%3D1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angryseafood.com/wp-content/uploads/2008/12/crazy_hair_styles_10.jpg&amp;imgrefurl=http://angryseafood.com/look-out-for-the-crazy-hair-salon/&amp;usg=__A1VjoIxmMRZdrmDQldskdOhjk7o=&amp;h=400&amp;w=328&amp;sz=33&amp;hl=en&amp;start=29&amp;um=1&amp;tbnid=exrWNqN4IR4uSM:&amp;tbnh=124&amp;tbnw=102&amp;prev=/images%3Fq%3Dcrazy%2Bhair%26ndsp%3D20%26hl%3Den%26safe%3Dactive%26rlz%3D1T4DMUS_enUS234US238%26sa%3DN%26start%3D20%26um%3D1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-JQA and the Rise of Mass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6a00d83451982269e2010536cdd892970b-500wi"/>
          <p:cNvPicPr/>
          <p:nvPr/>
        </p:nvPicPr>
        <p:blipFill>
          <a:blip r:embed="rId1"/>
          <a:stretch/>
        </p:blipFill>
        <p:spPr>
          <a:xfrm>
            <a:off x="0" y="2585880"/>
            <a:ext cx="4876920" cy="427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225px-Martin_Van_Buren_edit"/>
          <p:cNvPicPr/>
          <p:nvPr/>
        </p:nvPicPr>
        <p:blipFill>
          <a:blip r:embed="rId2"/>
          <a:stretch/>
        </p:blipFill>
        <p:spPr>
          <a:xfrm>
            <a:off x="5045040" y="0"/>
            <a:ext cx="415296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President 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o be born under an  American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, born of “machine”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the problems of Jackson’s America (Without his popula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 (Panic of 18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f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ic of 18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ian”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 of British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sian F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Grain Prices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nk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gs called for intervention/Democrats want to stay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an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for Independence from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 had early victories but did not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join union but slavery got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H-President (Temporarily-30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conomic 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yho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ar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gs and Democratic Republicans (Democr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all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ed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cy of JQA (#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Bargain (Election of 18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s of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 with the Chero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d the position and was in return dis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 was a…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n of a Prostitute and an adult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ms was a…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bling P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Live American Polit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Presidency-A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ew EXs who had a very strong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ded brilliantly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ist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happier out of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’s Presid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andrew_jack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6856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ackson"/>
          <p:cNvPicPr/>
          <p:nvPr/>
        </p:nvPicPr>
        <p:blipFill>
          <a:blip r:embed="rId3"/>
          <a:stretch/>
        </p:blipFill>
        <p:spPr>
          <a:xfrm>
            <a:off x="6881760" y="0"/>
            <a:ext cx="22622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andrew-jacks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886200"/>
            <a:ext cx="1963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Andrew_Jackson_Presidential_Dollar_500"/>
          <p:cNvPicPr/>
          <p:nvPr/>
        </p:nvPicPr>
        <p:blipFill>
          <a:blip r:embed="rId6"/>
          <a:stretch/>
        </p:blipFill>
        <p:spPr>
          <a:xfrm>
            <a:off x="320040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AJbirthplac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5029200"/>
            <a:ext cx="1676520" cy="14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071209nomore1_t607"/>
          <p:cNvPicPr/>
          <p:nvPr/>
        </p:nvPicPr>
        <p:blipFill>
          <a:blip r:embed="rId9"/>
          <a:stretch/>
        </p:blipFill>
        <p:spPr>
          <a:xfrm>
            <a:off x="7202520" y="3124080"/>
            <a:ext cx="1941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jackson_1830"/>
          <p:cNvPicPr/>
          <p:nvPr/>
        </p:nvPicPr>
        <p:blipFill>
          <a:blip r:embed="rId1"/>
          <a:stretch/>
        </p:blipFill>
        <p:spPr>
          <a:xfrm>
            <a:off x="0" y="838080"/>
            <a:ext cx="3352680" cy="289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lock%2520of%2520seagul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0"/>
            <a:ext cx="1764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JOHNNY%2520DEPP%2520-%2520EDWARD%2520SCISSORHAND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0"/>
            <a:ext cx="24148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Beyonce-Perez-Hilton-Lady-Gaga-VMA-09-Backstage-Momen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2670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razy_hair_styles_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86360" y="2838600"/>
            <a:ext cx="274140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britney-gal-after"/>
          <p:cNvPicPr/>
          <p:nvPr/>
        </p:nvPicPr>
        <p:blipFill>
          <a:blip r:embed="rId10"/>
          <a:stretch/>
        </p:blipFill>
        <p:spPr>
          <a:xfrm>
            <a:off x="6248520" y="3608280"/>
            <a:ext cx="2895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Highs and 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an Removal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orcester v. Georgia (1832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iff of Abominations” and the Nu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oil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th to the B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Bank v. “Pet Ba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ian Leg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yth of the Presidency to his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(Probably could have served three terms, easi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the powers of 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G.W., rate the presidency of Andrew Jackson.  Please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ecedents, positive or negative, were set by President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Jackson’s personality enable or disable him as 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: Spoils System, Pet Banks and Peggy Eaton (Answer 2 of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redit: Name the President that first rode on a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39:46Z</dcterms:created>
  <dc:creator>tbabcock</dc:creator>
  <dc:description/>
  <dc:language>en-US</dc:language>
  <cp:lastModifiedBy>tbabcock</cp:lastModifiedBy>
  <dcterms:modified xsi:type="dcterms:W3CDTF">2009-11-17T13:03:53Z</dcterms:modified>
  <cp:revision>39</cp:revision>
  <dc:subject/>
  <dc:title>Slide 1</dc:title>
</cp:coreProperties>
</file>