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AEDA-28BC-4D8C-938C-A55F28A61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ADE9-699A-472B-B66B-EEA453EED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8EB0-F43A-475C-8E39-DD458305A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02DF-5812-42B9-B3BB-3C3F8DF27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B170-BCAE-4A4C-BCF5-3157AB89C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0F39-1B17-4C2C-A4E7-84184FCFE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C8B0-FAF9-4803-BD2B-4FAFF1796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E50C-3DAD-45B3-8221-F3A7BDBB1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4B09-48E6-44D9-85A8-7801FC00F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E459-9103-4A33-A971-5AE40E7FC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E341-34A6-4A5D-A6B5-65553CBF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DACF-BD71-473A-B508-0CA5FC9BF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A53C-FB39-4080-8929-37B0988B2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560E-CFBD-4DDF-BAF5-7FF9BB95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4962-FC74-4A71-ACE3-280B1A22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27D1-0BC7-4637-9FB7-8E8B7123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2409-3231-453A-AD08-DF36AEBB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D752-C4AA-4CEE-B6C3-8EC610F8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719F-2B27-4618-A309-16F58795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BD2F-31A7-446D-8352-ACBCAD0D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568B-17CC-41B0-8D43-233D0734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8086-3032-40B7-BCDE-5CDFDFD93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multimedialearningllc.files.wordpress.com/2009/10/andrew_jackson.jpg&amp;imgrefurl=http://multimedialearningllc.wordpress.com/2009/10/04/president-jackson-on-indian-removal/&amp;usg=__Dvd61JXth8gaxfvrfnOqzDAL9UY=&amp;h=739&amp;w=610&amp;sz=303&amp;hl=en&amp;start=1&amp;sig2=kDmENYkbRx3hbCONCbGxlw&amp;um=1&amp;tbnid=_eV7sXBkLaPakM:&amp;tbnh=141&amp;tbnw=116&amp;prev=/images%3Fq%3Dandrew%2Bjackson%26hl%3Den%26safe%3Dactive%26rlz%3D1T4DMUS_enUS234US238%26sa%3DN%26um%3D1&amp;ei=sdL6SuWVFYPS8QadmcjNDA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images.google.com/imgres?imgurl=http://www.jimnicholsufo.com/wp-content/uploads/2007/09/andrew-jackson.jpg&amp;imgrefurl=http://www.jimnicholsufo.com/conspiracy-theory/&amp;usg=__-Jm-wQx1mx2agdSH9dc_7Ruw4Rg=&amp;h=960&amp;w=797&amp;sz=384&amp;hl=en&amp;start=26&amp;sig2=ZXufPX2zHHbkY55EbC_nGw&amp;um=1&amp;tbnid=C3cOCOuT8igdxM:&amp;tbnh=148&amp;tbnw=123&amp;prev=/images%3Fq%3Dandrew%2Bjackson%26ndsp%3D20%26hl%3Den%26safe%3Dactive%26rlz%3D1T4DMUS_enUS234US238%26sa%3DN%26start%3D20%26um%3D1&amp;ei=6tL6SsyHGcrg8QbpoPzZDA" TargetMode="External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hyperlink" Target="http://images.google.com/imgres?imgurl=http://freepages.genealogy.rootsweb.com/~jganis/AndrewJackson/AJbirthplace.jpg&amp;imgrefurl=http://freepages.genealogy.rootsweb.ancestry.com/~jganis/AndrewJackson/AndrewJackson.html&amp;usg=__bC3HJq42I7QHOPiqRw9VbX3uwlU=&amp;h=284&amp;w=329&amp;sz=28&amp;hl=en&amp;start=4&amp;sig2=MBNpvjUihoBqGWsRDJ-uYA&amp;um=1&amp;tbnid=29C70lGNsfqBdM:&amp;tbnh=103&amp;tbnw=119&amp;prev=/images%3Fq%3Dandrew%2Bjackson%2Bbirthplace%26hl%3Den%26safe%3Dactive%26rlz%3D1T4DMUS_enUS234US238%26sa%3DN%26um%3D1&amp;ei=RdP6SvD6BJWY8Aa_1JDTDA" TargetMode="External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images.google.com/imgres?imgurl=http://blogs.dallasobserver.com/dc9/flock%2520of%2520seagulls.jpg&amp;imgrefurl=http://blogs.dallasobserver.com/dc9/2009/03/show_announcements_a_flock_of.php&amp;usg=__MDhqYpHKv-ZYtcmHqQ-z4lfMbFE=&amp;h=440&amp;w=338&amp;sz=40&amp;hl=en&amp;start=4&amp;um=1&amp;tbnid=VKK3cpCh8EOCMM:&amp;tbnh=127&amp;tbnw=98&amp;prev=/images%3Fq%3Dflock%2Bof%2Bseagulls%26hl%3Den%26safe%3Dactive%26rlz%3D1T4DMUS_enUS234US238%26um%3D1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images.google.com/imgres?imgurl=http://www.signedbystar.com/files/2281585/uploaded/JOHNNY%2520DEPP%2520-%2520EDWARD%2520SCISSORHANDS.jpg&amp;imgrefurl=http://kandeethemakeupartist.blogspot.com/2009/10/edward-scissorhands.html&amp;usg=__CZRex2BiC2waO0TVfvCAMT_0TWI=&amp;h=1000&amp;w=789&amp;sz=92&amp;hl=en&amp;start=3&amp;um=1&amp;tbnid=bTwYOvP97stpMM:&amp;tbnh=149&amp;tbnw=118&amp;prev=/images%3Fq%3Djohnny%2Bdepp%2Bscissorhands%26hl%3Den%26safe%3Dactive%26rlz%3D1T4DMUS_enUS234US238%26sa%3DN%26um%3D1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images.google.com/imgres?imgurl=http://www.beyoncefan.com/wordpress/wp-content/uploads/2009/09/Beyonce-Perez-Hilton-Lady-Gaga-VMA-09-Backstage-Moments.jpg&amp;imgrefurl=http://www.beyoncefan.com/2009/09/13/vma-09-beyonce-lady-gaga-backstage-moments-photos/&amp;usg=__PUFyeBRBrOk3KZVsS5_LtMwU-a4=&amp;h=402&amp;w=600&amp;sz=269&amp;hl=en&amp;start=36&amp;um=1&amp;tbnid=RC-BXdVyUNVB1M:&amp;tbnh=90&amp;tbnw=135&amp;prev=/images%3Fq%3Dlady%2Bgaga%2Bvma%26ndsp%3D20%26hl%3Den%26safe%3Dactive%26rlz%3D1T4DMUS_enUS234US238%26sa%3DN%26start%3D20%26um%3D1" TargetMode="External"/><Relationship Id="rId7" Type="http://schemas.openxmlformats.org/officeDocument/2006/relationships/image" Target="../media/image11.jpeg"/><Relationship Id="rId8" Type="http://schemas.openxmlformats.org/officeDocument/2006/relationships/hyperlink" Target="http://images.google.com/imgres?imgurl=http://angryseafood.com/wp-content/uploads/2008/12/crazy_hair_styles_10.jpg&amp;imgrefurl=http://angryseafood.com/look-out-for-the-crazy-hair-salon/&amp;usg=__A1VjoIxmMRZdrmDQldskdOhjk7o=&amp;h=400&amp;w=328&amp;sz=33&amp;hl=en&amp;start=29&amp;um=1&amp;tbnid=exrWNqN4IR4uSM:&amp;tbnh=124&amp;tbnw=102&amp;prev=/images%3Fq%3Dcrazy%2Bhair%26ndsp%3D20%26hl%3Den%26safe%3Dactive%26rlz%3D1T4DMUS_enUS234US238%26sa%3DN%26start%3D20%26um%3D1" TargetMode="External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3-JQA and the Rise of Mass Democr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6a00d83451982269e2010536cdd892970b-500wi"/>
          <p:cNvPicPr/>
          <p:nvPr/>
        </p:nvPicPr>
        <p:blipFill>
          <a:blip r:embed="rId1"/>
          <a:stretch/>
        </p:blipFill>
        <p:spPr>
          <a:xfrm>
            <a:off x="0" y="2585880"/>
            <a:ext cx="4876920" cy="4272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225px-Martin_Van_Buren_edit"/>
          <p:cNvPicPr/>
          <p:nvPr/>
        </p:nvPicPr>
        <p:blipFill>
          <a:blip r:embed="rId2"/>
          <a:stretch/>
        </p:blipFill>
        <p:spPr>
          <a:xfrm>
            <a:off x="5045040" y="0"/>
            <a:ext cx="4152960" cy="62485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66"/>
                </a:solidFill>
                <a:latin typeface="Arial"/>
              </a:rPr>
              <a:t>President Martin Van Bu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tin Van Bu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to be born under an  American F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politician, born of “machine” poli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erited the problems of Jackson’s America (Without his popular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ression (Panic of 183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of Jac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nic of 183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ian” Fi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pse of British B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ssian F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~ Grain Prices so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nk Fail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igs called for intervention/Democrats want to stay 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an In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ght for Independence from Mex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xico had early victories but did not win the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 recogn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ed to join union but slavery got in th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ion of 18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H-President (Temporarily-30 day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economic v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lyho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Par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gs and Democratic Republicans (Democra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chall” Pa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ed extr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esidency of JQA (#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upt Bargain (Election of 182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ges of Corru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ness with the Cherok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liked the position and was in return disli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ion of 18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ckson was a…..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n of a Prostitute and an adulte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ams was a……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ambling Pi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ng Live American Politic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-Presidency-Ad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few EXs who had a very strong car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w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 of House of Represent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ended brilliantly in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mist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ch happier out of of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rew Jack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6002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ople’s Preside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andrew_jacks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068560" cy="2514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Jackson"/>
          <p:cNvPicPr/>
          <p:nvPr/>
        </p:nvPicPr>
        <p:blipFill>
          <a:blip r:embed="rId3"/>
          <a:stretch/>
        </p:blipFill>
        <p:spPr>
          <a:xfrm>
            <a:off x="6881760" y="0"/>
            <a:ext cx="2262240" cy="2819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andrew-jackson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" y="3886200"/>
            <a:ext cx="1963800" cy="2362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Andrew_Jackson_Presidential_Dollar_500"/>
          <p:cNvPicPr/>
          <p:nvPr/>
        </p:nvPicPr>
        <p:blipFill>
          <a:blip r:embed="rId6"/>
          <a:stretch/>
        </p:blipFill>
        <p:spPr>
          <a:xfrm>
            <a:off x="3200400" y="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AJbirthplac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952880" y="5029200"/>
            <a:ext cx="1676520" cy="1450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071209nomore1_t607"/>
          <p:cNvPicPr/>
          <p:nvPr/>
        </p:nvPicPr>
        <p:blipFill>
          <a:blip r:embed="rId9"/>
          <a:stretch/>
        </p:blipFill>
        <p:spPr>
          <a:xfrm>
            <a:off x="7202520" y="3124080"/>
            <a:ext cx="1941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jackson_1830"/>
          <p:cNvPicPr/>
          <p:nvPr/>
        </p:nvPicPr>
        <p:blipFill>
          <a:blip r:embed="rId1"/>
          <a:stretch/>
        </p:blipFill>
        <p:spPr>
          <a:xfrm>
            <a:off x="0" y="838080"/>
            <a:ext cx="3352680" cy="2895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flock%2520of%2520seagull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52680" y="0"/>
            <a:ext cx="1764000" cy="2286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JOHNNY%2520DEPP%2520-%2520EDWARD%2520SCISSORHANDS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81480" y="0"/>
            <a:ext cx="2414880" cy="3048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Beyonce-Perez-Hilton-Lady-Gaga-VMA-09-Backstage-Moment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33520" y="4267080"/>
            <a:ext cx="3352680" cy="2235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" descr="crazy_hair_styles_10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086360" y="2838600"/>
            <a:ext cx="2741400" cy="3333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britney-gal-after"/>
          <p:cNvPicPr/>
          <p:nvPr/>
        </p:nvPicPr>
        <p:blipFill>
          <a:blip r:embed="rId10"/>
          <a:stretch/>
        </p:blipFill>
        <p:spPr>
          <a:xfrm>
            <a:off x="6248520" y="3608280"/>
            <a:ext cx="28954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ksonian Highs and l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ian Removal (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orcester v. Georgia (1832)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riff of Abominations” and the Null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oils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ath to the Ban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 Bank v. “Pet Bank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cksonian Legac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Myth of the Presidency to his advan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Politic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r (Probably could have served three terms, easi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ded the powers of the Presid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G.W., rate the presidency of Andrew Jackson.  Please expl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recedents, positive or negative, were set by President Jac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Jackson’s personality enable or disable him as a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s: Spoils System, Pet Banks and Peggy Eaton (Answer 2 of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 Credit: Name the President that first rode on a 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3:39:46Z</dcterms:created>
  <dc:creator>tbabcock</dc:creator>
  <dc:description/>
  <dc:language>en-US</dc:language>
  <cp:lastModifiedBy>tbabcock</cp:lastModifiedBy>
  <dcterms:modified xsi:type="dcterms:W3CDTF">2009-11-17T13:03:53Z</dcterms:modified>
  <cp:revision>39</cp:revision>
  <dc:subject/>
  <dc:title>Slide 1</dc:title>
</cp:coreProperties>
</file>