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FB8C-5B23-4790-8801-DD621BAEE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F55D-1689-486E-BA04-F4CD4A7D0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A1F9-277B-4ECD-8A3E-23B4D3DA5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0E17-3DA2-48FA-93BA-5BE6F332A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2E28-0E9D-4A0C-90A9-05C125F81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F711-1D69-4AE5-AFEF-343971E7A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F572-FF50-4772-B776-6B5DC712E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BC12-CFEC-44AE-932D-D3079FF25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AAA7-F080-4A04-8CED-3B8AF6843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D618-9AB6-46D1-BAC2-6993C3D1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6346-1529-456E-8CB4-D7DF4427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83B6-7978-413A-9873-50C6C0CE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9E86-1A0A-41A1-990C-9358CDCB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97D7-EED8-4B9D-81B1-EBEC8F21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CDB9-394F-4D39-9E7D-2CE5E5B3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BF1B-E651-4092-997C-FA3FE80D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0439-B128-44B5-8844-68FD4735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D316-9677-4884-92C2-C65A35AD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0448-3A2B-4291-9893-3D804244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136E-D1DF-46AA-A71E-3EDF0447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7415-A895-4D4A-8F32-67E6E88D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55FA-6BA2-4710-ABC5-BE1A45C56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ultimedialearningllc.files.wordpress.com/2009/10/andrew_jackson.jpg&amp;imgrefurl=http://multimedialearningllc.wordpress.com/2009/10/04/president-jackson-on-indian-removal/&amp;usg=__Dvd61JXth8gaxfvrfnOqzDAL9UY=&amp;h=739&amp;w=610&amp;sz=303&amp;hl=en&amp;start=1&amp;sig2=kDmENYkbRx3hbCONCbGxlw&amp;um=1&amp;tbnid=_eV7sXBkLaPakM:&amp;tbnh=141&amp;tbnw=116&amp;prev=/images%3Fq%3Dandrew%2Bjackson%26hl%3Den%26safe%3Dactive%26rlz%3D1T4DMUS_enUS234US238%26sa%3DN%26um%3D1&amp;ei=sdL6SuWVFYPS8QadmcjNDA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images.google.com/imgres?imgurl=http://www.jimnicholsufo.com/wp-content/uploads/2007/09/andrew-jackson.jpg&amp;imgrefurl=http://www.jimnicholsufo.com/conspiracy-theory/&amp;usg=__-Jm-wQx1mx2agdSH9dc_7Ruw4Rg=&amp;h=960&amp;w=797&amp;sz=384&amp;hl=en&amp;start=26&amp;sig2=ZXufPX2zHHbkY55EbC_nGw&amp;um=1&amp;tbnid=C3cOCOuT8igdxM:&amp;tbnh=148&amp;tbnw=123&amp;prev=/images%3Fq%3Dandrew%2Bjackson%26ndsp%3D20%26hl%3Den%26safe%3Dactive%26rlz%3D1T4DMUS_enUS234US238%26sa%3DN%26start%3D20%26um%3D1&amp;ei=6tL6SsyHGcrg8QbpoPzZDA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freepages.genealogy.rootsweb.com/~jganis/AndrewJackson/AJbirthplace.jpg&amp;imgrefurl=http://freepages.genealogy.rootsweb.ancestry.com/~jganis/AndrewJackson/AndrewJackson.html&amp;usg=__bC3HJq42I7QHOPiqRw9VbX3uwlU=&amp;h=284&amp;w=329&amp;sz=28&amp;hl=en&amp;start=4&amp;sig2=MBNpvjUihoBqGWsRDJ-uYA&amp;um=1&amp;tbnid=29C70lGNsfqBdM:&amp;tbnh=103&amp;tbnw=119&amp;prev=/images%3Fq%3Dandrew%2Bjackson%2Bbirthplace%26hl%3Den%26safe%3Dactive%26rlz%3D1T4DMUS_enUS234US238%26sa%3DN%26um%3D1&amp;ei=RdP6SvD6BJWY8Aa_1JDTDA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google.com/imgres?imgurl=http://blogs.dallasobserver.com/dc9/flock%2520of%2520seagulls.jpg&amp;imgrefurl=http://blogs.dallasobserver.com/dc9/2009/03/show_announcements_a_flock_of.php&amp;usg=__MDhqYpHKv-ZYtcmHqQ-z4lfMbFE=&amp;h=440&amp;w=338&amp;sz=40&amp;hl=en&amp;start=4&amp;um=1&amp;tbnid=VKK3cpCh8EOCMM:&amp;tbnh=127&amp;tbnw=98&amp;prev=/images%3Fq%3Dflock%2Bof%2Bseagulls%26hl%3Den%26safe%3Dactive%26rlz%3D1T4DMUS_enUS234US238%26um%3D1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/imgres?imgurl=http://www.signedbystar.com/files/2281585/uploaded/JOHNNY%2520DEPP%2520-%2520EDWARD%2520SCISSORHANDS.jpg&amp;imgrefurl=http://kandeethemakeupartist.blogspot.com/2009/10/edward-scissorhands.html&amp;usg=__CZRex2BiC2waO0TVfvCAMT_0TWI=&amp;h=1000&amp;w=789&amp;sz=92&amp;hl=en&amp;start=3&amp;um=1&amp;tbnid=bTwYOvP97stpMM:&amp;tbnh=149&amp;tbnw=118&amp;prev=/images%3Fq%3Djohnny%2Bdepp%2Bscissorhands%26hl%3Den%26safe%3Dactive%26rlz%3D1T4DMUS_enUS234US238%26sa%3DN%26um%3D1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images.google.com/imgres?imgurl=http://www.beyoncefan.com/wordpress/wp-content/uploads/2009/09/Beyonce-Perez-Hilton-Lady-Gaga-VMA-09-Backstage-Moments.jpg&amp;imgrefurl=http://www.beyoncefan.com/2009/09/13/vma-09-beyonce-lady-gaga-backstage-moments-photos/&amp;usg=__PUFyeBRBrOk3KZVsS5_LtMwU-a4=&amp;h=402&amp;w=600&amp;sz=269&amp;hl=en&amp;start=36&amp;um=1&amp;tbnid=RC-BXdVyUNVB1M:&amp;tbnh=90&amp;tbnw=135&amp;prev=/images%3Fq%3Dlady%2Bgaga%2Bvma%26ndsp%3D20%26hl%3Den%26safe%3Dactive%26rlz%3D1T4DMUS_enUS234US238%26sa%3DN%26start%3D20%26um%3D1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m/imgres?imgurl=http://angryseafood.com/wp-content/uploads/2008/12/crazy_hair_styles_10.jpg&amp;imgrefurl=http://angryseafood.com/look-out-for-the-crazy-hair-salon/&amp;usg=__A1VjoIxmMRZdrmDQldskdOhjk7o=&amp;h=400&amp;w=328&amp;sz=33&amp;hl=en&amp;start=29&amp;um=1&amp;tbnid=exrWNqN4IR4uSM:&amp;tbnh=124&amp;tbnw=102&amp;prev=/images%3Fq%3Dcrazy%2Bhair%26ndsp%3D20%26hl%3Den%26safe%3Dactive%26rlz%3D1T4DMUS_enUS234US238%26sa%3DN%26start%3D20%26um%3D1" TargetMode="External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3-JQA and the Rise of Mass Democ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6a00d83451982269e2010536cdd892970b-500wi"/>
          <p:cNvPicPr/>
          <p:nvPr/>
        </p:nvPicPr>
        <p:blipFill>
          <a:blip r:embed="rId1"/>
          <a:stretch/>
        </p:blipFill>
        <p:spPr>
          <a:xfrm>
            <a:off x="0" y="2585880"/>
            <a:ext cx="4876920" cy="4272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225px-Martin_Van_Buren_edit"/>
          <p:cNvPicPr/>
          <p:nvPr/>
        </p:nvPicPr>
        <p:blipFill>
          <a:blip r:embed="rId2"/>
          <a:stretch/>
        </p:blipFill>
        <p:spPr>
          <a:xfrm>
            <a:off x="5045040" y="0"/>
            <a:ext cx="4152960" cy="62485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66"/>
                </a:solidFill>
                <a:latin typeface="Arial"/>
              </a:rPr>
              <a:t>President Martin Van B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tin Van B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to be born under an  American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olitician, born of “machine” poli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erited the problems of Jackson’s America (Without his popular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ression (Panic of 183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of Jac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nic of 183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ian” F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pse of British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ssian F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 Grain Prices so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nk Fail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igs called for intervention/Democrats want to stay 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an 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ght for Independence from 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xico had early victories but did not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recogn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ed to join union but slavery got in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of 18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H-President (Temporarily-30 d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economic 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yho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Par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gs and Democratic Republicans (Democra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all”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ed extr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esidency of JQA (#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upt Bargain (Election of 18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s of Co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ness with the Cherok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liked the position and was in return disli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of 18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ckson was a….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n of a Prostitute and an adulte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ams was a…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mbling Pi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ng Live American Politic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Presidency-Ad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few EXs who had a very strong car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 of House of Represent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nded brilliantly in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mist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happier out of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ew Jack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6002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ople’s Presid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andrew_jacks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068560" cy="2514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Jackson"/>
          <p:cNvPicPr/>
          <p:nvPr/>
        </p:nvPicPr>
        <p:blipFill>
          <a:blip r:embed="rId3"/>
          <a:stretch/>
        </p:blipFill>
        <p:spPr>
          <a:xfrm>
            <a:off x="6881760" y="0"/>
            <a:ext cx="226224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andrew-jackso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" y="3886200"/>
            <a:ext cx="196380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Andrew_Jackson_Presidential_Dollar_500"/>
          <p:cNvPicPr/>
          <p:nvPr/>
        </p:nvPicPr>
        <p:blipFill>
          <a:blip r:embed="rId6"/>
          <a:stretch/>
        </p:blipFill>
        <p:spPr>
          <a:xfrm>
            <a:off x="3200400" y="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AJbirthplac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52880" y="5029200"/>
            <a:ext cx="1676520" cy="1450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071209nomore1_t607"/>
          <p:cNvPicPr/>
          <p:nvPr/>
        </p:nvPicPr>
        <p:blipFill>
          <a:blip r:embed="rId9"/>
          <a:stretch/>
        </p:blipFill>
        <p:spPr>
          <a:xfrm>
            <a:off x="7202520" y="3124080"/>
            <a:ext cx="1941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jackson_1830"/>
          <p:cNvPicPr/>
          <p:nvPr/>
        </p:nvPicPr>
        <p:blipFill>
          <a:blip r:embed="rId1"/>
          <a:stretch/>
        </p:blipFill>
        <p:spPr>
          <a:xfrm>
            <a:off x="0" y="838080"/>
            <a:ext cx="3352680" cy="2895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flock%2520of%2520seagull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2680" y="0"/>
            <a:ext cx="176400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JOHNNY%2520DEPP%2520-%2520EDWARD%2520SCISSORHAND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81480" y="0"/>
            <a:ext cx="241488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Beyonce-Perez-Hilton-Lady-Gaga-VMA-09-Backstage-Moment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3520" y="4267080"/>
            <a:ext cx="3352680" cy="2235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crazy_hair_styles_1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086360" y="2838600"/>
            <a:ext cx="2741400" cy="333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britney-gal-after"/>
          <p:cNvPicPr/>
          <p:nvPr/>
        </p:nvPicPr>
        <p:blipFill>
          <a:blip r:embed="rId10"/>
          <a:stretch/>
        </p:blipFill>
        <p:spPr>
          <a:xfrm>
            <a:off x="6248520" y="3608280"/>
            <a:ext cx="28954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ksonian Highs and l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an Removal 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orcester v. Georgia (1832)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riff of Abominations” and the Nul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oil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ath to the B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Bank v. “Pet Bank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cksonian Legac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Myth of the Presidency to his 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olitic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r (Probably could have served three terms, easi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ed the powers of the Presid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G.W., rate the presidency of Andrew Jackson.  Please exp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recedents, positive or negative, were set by President Jac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Jackson’s personality enable or disable him as a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s: Spoils System, Pet Banks and Peggy Eaton (Answer 2 of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Credit: Name the President that first rode on a 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3:39:46Z</dcterms:created>
  <dc:creator>tbabcock</dc:creator>
  <dc:description/>
  <dc:language>en-US</dc:language>
  <cp:lastModifiedBy>tbabcock</cp:lastModifiedBy>
  <dcterms:modified xsi:type="dcterms:W3CDTF">2009-11-17T13:03:53Z</dcterms:modified>
  <cp:revision>39</cp:revision>
  <dc:subject/>
  <dc:title>Slide 1</dc:title>
</cp:coreProperties>
</file>