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6C47-6E76-48EA-BAF6-BBF64FA7D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FC81-5034-4D11-B51F-D3A4FB431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A33A-B3F6-46EA-A9E3-4EAE329F1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07B9-53E0-4D80-BE1B-77E0B3A16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9D46-4109-4FA5-962D-44D0258AA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B4DA-1D26-455E-9859-AFFC31847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A6B8-94C0-4826-9C10-6CDB5E5B6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EA91-24DC-45F2-928C-A250F59FC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808F-2699-4A96-BCE1-44D31EE4D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2983-081E-4B5C-A939-A602CD8F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54DC-DDEF-4E3D-8138-4EA66743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E2D0-884B-4BE1-BC40-8C8006B2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9D26D-37CC-4248-B7AE-4833C6C93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rticles of Confeder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0769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onstitutional Convention begi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87 - Philadelph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gates from all the states invited to a convention to improve the Articles of Confederation, which were not wor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RI didn’t att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5 Delegates atte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724280" y="2133720"/>
            <a:ext cx="411480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ders of the Conven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rge Washington was asked to preside (lead) over the conven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mes Madison kept notes of the discussions and is often called “The Father of the Constitution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n who wrote the Constitution are called the “Founding Father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the participants in the Convention were wealthy, white, ma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that divided the Nation’s leader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wer of the federal government. Would the states or the federal government have the most pow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ation in Congress (How many members on Congress would each state get? – small states wanted equal representation, large states wanted it to be determined by population of the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avery – How would slaves be counted? Would the slave trade continu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ed for a new national government. Threw out the Articles of Confed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separate branches of government. –    a legislative branch, executive branch, and judicial bra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ation in the legislative branch based on population of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states like the plan, small states don’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he Virginia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ew Jersey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islature - has one ho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state gets one vo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states like the plan, the large states hate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ould have to be a comprom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he Great Comprom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islature would have two houses (parts): House of Representatives and a Sen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use - based on the population of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ate - two senators per each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3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8" dur="2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3" dur="2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a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thern states refused to approve the Constitution unless slavery continu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a terrible compromise to make, but the Northern states had no choice if they wanted a Constitu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5 Compromise - Made each slave worth 3/5 of a vote in deciding numbers in  House of Represent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gress can not ban the slave trade until 180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" dur="2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2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" dur="2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icles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onstitution for the colon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lonies would remain separate and independ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nded together to form a cohesive defen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icles- prov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cameral legislature- one h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tate sends delegates, but gets only one vote per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s “obligated” to send funds to pay government officials and the milit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s “obligated” to send troops to man and maintain a central def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 state votes to pass any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icles- prov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uthority of the executive and judicial branches would remain with the individual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nimous vote by the states was necessary to amend the Art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s set up trade agreements between the states and with foreign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.O.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hy does this make sense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 with the Arti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s not fairly represented in the Con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central authority to negotiate with Foreign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authority to make states comply with legisl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power to collect taxes or compel troops into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 with the Arti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common curr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states had to agree to amend the constit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 of 13 states had to agree to any new legis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ystem or authority to borrow mo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219320" y="2438280"/>
            <a:ext cx="1981080" cy="1600200"/>
          </a:xfrm>
          <a:prstGeom prst="ellipse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“Virtuou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public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20176200">
            <a:off x="228240" y="1523520"/>
            <a:ext cx="2057400" cy="914400"/>
          </a:xfrm>
          <a:prstGeom prst="downArrowCallout">
            <a:avLst>
              <a:gd name="adj1" fmla="val 56255"/>
              <a:gd name="adj2" fmla="val 56250"/>
              <a:gd name="adj3" fmla="val 16667"/>
              <a:gd name="adj4" fmla="val 66667"/>
            </a:avLst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assical view of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model repub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 rot="19946400">
            <a:off x="2152440" y="4038480"/>
            <a:ext cx="1973160" cy="947880"/>
          </a:xfrm>
          <a:prstGeom prst="downArrowCallout">
            <a:avLst>
              <a:gd name="adj1" fmla="val 52046"/>
              <a:gd name="adj2" fmla="val 52041"/>
              <a:gd name="adj3" fmla="val 16667"/>
              <a:gd name="adj4" fmla="val 66667"/>
            </a:avLst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ity on a hill”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[John Winthrop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 rot="1698600">
            <a:off x="380880" y="4070880"/>
            <a:ext cx="1752840" cy="914400"/>
          </a:xfrm>
          <a:prstGeom prst="downArrowCallout">
            <a:avLst>
              <a:gd name="adj1" fmla="val 47927"/>
              <a:gd name="adj2" fmla="val 47923"/>
              <a:gd name="adj3" fmla="val 16667"/>
              <a:gd name="adj4" fmla="val 66667"/>
            </a:avLst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deal citize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[Cincinnatu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124080" y="1980720"/>
            <a:ext cx="2286000" cy="1219320"/>
          </a:xfrm>
          <a:prstGeom prst="line">
            <a:avLst/>
          </a:prstGeom>
          <a:ln w="2844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24080" y="3200400"/>
            <a:ext cx="2210040" cy="1143000"/>
          </a:xfrm>
          <a:prstGeom prst="line">
            <a:avLst/>
          </a:prstGeom>
          <a:ln w="2844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486400" y="685800"/>
            <a:ext cx="3352680" cy="5850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omic Sans MS"/>
              </a:rPr>
              <a:t>Govt. gets its authority from the citize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omic Sans MS"/>
              </a:rPr>
              <a:t>A selfless, educated citizen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omic Sans MS"/>
              </a:rPr>
              <a:t>Elections should be frequ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omic Sans MS"/>
              </a:rPr>
              <a:t>Govt. should guarantee individual rights &amp; freedo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omic Sans MS"/>
              </a:rPr>
              <a:t>Govt.’s power should be limited [checks &amp; balances]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omic Sans MS"/>
              </a:rPr>
              <a:t>The need for a written Constitu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omic Sans MS"/>
              </a:rPr>
              <a:t>“</a:t>
            </a:r>
            <a:r>
              <a:rPr b="1" lang="en-US" sz="1600" spc="-1" strike="noStrike">
                <a:solidFill>
                  <a:srgbClr val="ff3300"/>
                </a:solidFill>
                <a:latin typeface="Comic Sans MS"/>
              </a:rPr>
              <a:t>E Pluribus Unum.” [“Out of many, one”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omic Sans MS"/>
              </a:rPr>
              <a:t>An important role for women </a:t>
            </a:r>
            <a:r>
              <a:rPr b="1" lang="en-US" sz="16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3300"/>
                </a:solidFill>
                <a:latin typeface="Comic Sans MS"/>
              </a:rPr>
              <a:t> raise good, virtuous citizens.</a:t>
            </a:r>
            <a:br>
              <a:rPr sz="1600"/>
            </a:br>
            <a:r>
              <a:rPr b="1" lang="en-US" sz="1600" spc="-1" strike="noStrike">
                <a:solidFill>
                  <a:srgbClr val="ff3300"/>
                </a:solidFill>
                <a:latin typeface="Comic Sans MS"/>
              </a:rPr>
              <a:t>[“Republican Womanhood”]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520400">
            <a:off x="2361960" y="1523880"/>
            <a:ext cx="1904760" cy="914400"/>
          </a:xfrm>
          <a:prstGeom prst="downArrowCallout">
            <a:avLst>
              <a:gd name="adj1" fmla="val 52082"/>
              <a:gd name="adj2" fmla="val 52077"/>
              <a:gd name="adj3" fmla="val 16667"/>
              <a:gd name="adj4" fmla="val 66667"/>
            </a:avLst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lightenme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in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onstitutional Conven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7979040" cy="4530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8:50:08Z</dcterms:created>
  <dc:creator>tbabcock</dc:creator>
  <dc:description/>
  <dc:language>en-US</dc:language>
  <cp:lastModifiedBy>tbabcock</cp:lastModifiedBy>
  <dcterms:modified xsi:type="dcterms:W3CDTF">2010-04-30T13:25:42Z</dcterms:modified>
  <cp:revision>10</cp:revision>
  <dc:subject/>
  <dc:title>Articles of Confederation</dc:title>
</cp:coreProperties>
</file>