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551-84DF-409A-BE6C-97B48493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15C-B64E-4CCD-A513-77897E7E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3A9-35AB-49B6-AF36-1D0F719B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E97-38C6-4510-9335-AE96C440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BC1-9270-4D40-8058-EF67F10A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983-3AD0-4A07-A84C-EB1FF0FD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65F-DF74-41CD-B7BF-0EEAABBA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78F-E092-43D1-B83B-12E655C1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292-AF6A-4649-B56A-B86326DB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F7E-27AF-4887-9BF9-6A180E6A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FFA-1BED-4C97-8928-6D828595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644-E9CA-4D4F-A195-F17290E8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A324-07D7-4626-83D3-65E857D84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al Convention beg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87 - Philadelph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es from all the states invited to a convention to improve the Articles of Confederation, which were not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I didn’t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 Delegates at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 of the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was asked to preside (lead) over the co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Madison kept notes of the discussions and is often called “The Father of the Constitu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n who wrote the Constitution are called the “Founding Fath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participants in the Convention were wealthy, white, m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that divided the Nation’s lead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 of the federal government. Would the states or the federal government have the most p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in Congress (How many members on Congress would each state get? – small states wanted equal representation, large states wanted it to be determined by population of th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 – How would slaves be counted? Would the slave trade contin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for a new national government. Threw out the Articles of Con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branches of government. –    a legislative branch, executive branch, and judicial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in the legislative branch based on population o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tates like the plan, small states do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Virginia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Jerse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ure - has on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te gets one v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tates like the plan, the large states ha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ould have to be a comprom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Great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ure would have two houses (parts): House of Representatives and a Se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- based on the population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ate - two senators per each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thern states refused to approve the Constitution unless slavery continu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terrible compromise to make, but the Northern states had no choice if they wanted a Constit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5 Compromise - Made each slave worth 3/5 of a vote in deciding numbers in 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 can not ban the slave trade until 18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stitution for the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nies would remain separate and indepen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nded together to form a cohesive def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ameral legislature- on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sends delegates, but gets only one vote p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“obligated” to send funds to pay government officials and the 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“obligated” to send troops to man and maintain a central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state votes to pass any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ty of the executive and judicial branches would remain with the individual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nimous vote by the states was necessary to amend the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set up trade agreements between the states and with foreig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O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does this make sens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not fairly represented in the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entral authority to negotiate with Foreig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ority to make states comply with 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wer to collect taxes or compel troops into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mmon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tates had to agree to amend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of 13 states had to agree to any new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ystem or authority to borrow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2438280"/>
            <a:ext cx="1981080" cy="160020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Virtu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publ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176200">
            <a:off x="228240" y="1523520"/>
            <a:ext cx="2057400" cy="914400"/>
          </a:xfrm>
          <a:prstGeom prst="downArrowCallout">
            <a:avLst>
              <a:gd name="adj1" fmla="val 56255"/>
              <a:gd name="adj2" fmla="val 56250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ical view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odel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9946400">
            <a:off x="2152440" y="4038480"/>
            <a:ext cx="1973160" cy="947880"/>
          </a:xfrm>
          <a:prstGeom prst="downArrowCallout">
            <a:avLst>
              <a:gd name="adj1" fmla="val 52046"/>
              <a:gd name="adj2" fmla="val 52041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ty on a hill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John Winthro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698600">
            <a:off x="380880" y="4070880"/>
            <a:ext cx="1752840" cy="914400"/>
          </a:xfrm>
          <a:prstGeom prst="downArrowCallout">
            <a:avLst>
              <a:gd name="adj1" fmla="val 47927"/>
              <a:gd name="adj2" fmla="val 47923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deal citiz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Cincinnatu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24080" y="1980720"/>
            <a:ext cx="2286000" cy="121932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3200400"/>
            <a:ext cx="2210040" cy="114300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685800"/>
            <a:ext cx="3352680" cy="5850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 gets its authority from the citize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A selfless, educated citizen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Elections should be frequ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 should guarantee individual rights &amp; freed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’s power should be limited [checks &amp; balance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The need for a written Constit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E Pluribus Unum.” [“Out of many, one”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An important role for women </a:t>
            </a: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 raise good, virtuous citizens.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[“Republican Womanhood”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520400">
            <a:off x="2361960" y="1523880"/>
            <a:ext cx="1904760" cy="914400"/>
          </a:xfrm>
          <a:prstGeom prst="downArrowCallout">
            <a:avLst>
              <a:gd name="adj1" fmla="val 52082"/>
              <a:gd name="adj2" fmla="val 52077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lighten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stitutional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79040" cy="453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8:50:08Z</dcterms:created>
  <dc:creator>tbabcock</dc:creator>
  <dc:description/>
  <dc:language>en-US</dc:language>
  <cp:lastModifiedBy>tbabcock</cp:lastModifiedBy>
  <dcterms:modified xsi:type="dcterms:W3CDTF">2010-04-30T13:25:42Z</dcterms:modified>
  <cp:revision>10</cp:revision>
  <dc:subject/>
  <dc:title>Articles of Confederation</dc:title>
</cp:coreProperties>
</file>