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560-D4F3-4670-8DD9-10F4C546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404-2107-40FF-A0DE-65E96D35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E05-763C-48A9-B6B1-B3FE46EB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81B-1993-44CE-A8B2-3C808C4A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8B9-B7FD-4E88-BD0B-BD646E46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85E-B42E-4ABA-B104-F2938354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2B7-01CF-475A-91A5-639E471F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FB3-EF20-4A3A-9861-738E7954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4FF-37CA-435A-9981-CAFF54A1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F8F-D209-45E5-B812-35ECD4F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1D4-750C-4D37-BBAA-42BD946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638-BF28-44A3-8108-E61B417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FE86-57D9-4FF1-8421-AF9735B76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al Convention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7 - Philadelp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from all the states invited to a convention to improve the Articles of Confederation, which were not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I didn’t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 Delegates at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 of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asked to preside (lead) over the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adison kept notes of the discussions and is often called “The Father of the Constitu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 who wrote the Constitution are called the “Founding Fath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participants in the Convention were wealthy, white, m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hat divided the Nation’s lead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 of the federal government. Would the states or the federal government have the most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Congress (How many members on Congress would each state get? – small states wanted equal representation, large states wanted it to be determined by population of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– How would slaves be counted? Would the slave trade contin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for a new national government. Threw out the 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branches of government. –    a legislative branch, executive branch, and judicial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the legislative branch based on population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tates like the plan, small states do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Virginia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Jerse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- has on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gets one v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tates like the plan, the large states h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ould have to be a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Great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would have two houses (parts): House of Representatives and a Se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- based on the population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 - two senators per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ern states refused to approve the Constitution unless slavery contin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terrible compromise to make, but the Northern states had no choice if they wanted a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5 Compromise - Made each slave worth 3/5 of a vote in deciding numbers in 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can not ban the slave trade until 18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stitution for the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ies would remain separate and indepen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ded together to form a cohesive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meral legislature- on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sends delegates, but gets only one vote p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funds to pay government officials and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troops to man and maintain a central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 votes to pass an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the executive and judicial branches would remain with the individual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imous vote by the states was necessary to amend the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set up trade agreements between the states and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O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oes this make sens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ot fairly represented in the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entral authority to negotiate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ority to make states comply with 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wer to collect taxes or compel troops into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mmo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ates had to agree to amend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of 13 states had to agree to any new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ystem or authority to borrow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2438280"/>
            <a:ext cx="1981080" cy="1600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Virtu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ubl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176200">
            <a:off x="228240" y="152352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ical view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l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9946400">
            <a:off x="2152440" y="4038480"/>
            <a:ext cx="1973160" cy="947880"/>
          </a:xfrm>
          <a:prstGeom prst="downArrowCallout">
            <a:avLst>
              <a:gd name="adj1" fmla="val 52046"/>
              <a:gd name="adj2" fmla="val 52041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ty on a hill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John Winthro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698600">
            <a:off x="380880" y="4070880"/>
            <a:ext cx="1752840" cy="914400"/>
          </a:xfrm>
          <a:prstGeom prst="downArrowCallout">
            <a:avLst>
              <a:gd name="adj1" fmla="val 47927"/>
              <a:gd name="adj2" fmla="val 47923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al 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Cincinnat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24080" y="1980720"/>
            <a:ext cx="2286000" cy="121932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3200400"/>
            <a:ext cx="2210040" cy="114300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685800"/>
            <a:ext cx="3352680" cy="585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gets its authority from the citiz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 selfless, educated citizen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lections should be frequ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should guarantee individual rights &amp; freed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’s power should be limited [checks &amp; balanc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need for a written Co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 Pluribus Unum.” [“Out of many, one”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n important role for women </a:t>
            </a: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 raise good, virtuous citizens.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[“Republican Womanhood”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520400">
            <a:off x="2361960" y="1523880"/>
            <a:ext cx="1904760" cy="914400"/>
          </a:xfrm>
          <a:prstGeom prst="downArrowCallout">
            <a:avLst>
              <a:gd name="adj1" fmla="val 52082"/>
              <a:gd name="adj2" fmla="val 520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lighten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79040" cy="453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50:08Z</dcterms:created>
  <dc:creator>tbabcock</dc:creator>
  <dc:description/>
  <dc:language>en-US</dc:language>
  <cp:lastModifiedBy>tbabcock</cp:lastModifiedBy>
  <dcterms:modified xsi:type="dcterms:W3CDTF">2010-04-30T13:25:42Z</dcterms:modified>
  <cp:revision>10</cp:revision>
  <dc:subject/>
  <dc:title>Articles of Confederation</dc:title>
</cp:coreProperties>
</file>