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4F6A-5AEE-4C61-AC61-8255FFCF1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BE97-916A-4CA6-9F6A-4ACD6A64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C56A-F174-4003-9B8F-E1082593F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3E14-BB7A-4B3A-844D-C039C97D7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9DB5-89A2-4DF9-8682-3997362B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73A8-9154-46CA-9AEF-BD134DE1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D712-6122-4ED5-B14B-ED632ED5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1F2F-7486-4AFB-B941-DC83D162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55B1-906E-4808-8AD4-FDB9C244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311F-423A-4A85-9ACE-5A346A56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517C-64CD-4E2D-96F2-F775FFB0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79BD-3C5C-43B4-974B-591FDBAF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F522-39BF-4480-8D2D-87486D7EF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rticles of Confeder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769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stitutional Convention begi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87 - Philadelph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gates from all the states invited to a convention to improve the Articles of Confederation, which were not 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RI didn’t att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5 Delegates att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724280" y="213372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ders of the Con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e Washington was asked to preside (lead) over the conven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 Madison kept notes of the discussions and is often called “The Father of the Constitutio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n who wrote the Constitution are called the “Founding Father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he participants in the Convention were wealthy, white, ma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that divided the Nation’s leade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wer of the federal government. Would the states or the federal government have the most pow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tion in Congress (How many members on Congress would each state get? – small states wanted equal representation, large states wanted it to be determined by population of the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ry – How would slaves be counted? Would the slave trade contin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ed for a new national government. Threw out the Articles of Confe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separate branches of government. –    a legislative branch, executive branch, and judicial bra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tion in the legislative branch based on population of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states like the plan, small states don’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Virginia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ew Jersey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islature - has one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tate gets one vo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states like the plan, the large states hat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ould have to be a comprom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Great Comprom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islature would have two houses (parts): House of Representatives and a Se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e - based on the population of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ate - two senators per each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3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thern states refused to approve the Constitution unless slavery continu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a terrible compromise to make, but the Northern states had no choice if they wanted a Constitu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5 Compromise - Made each slave worth 3/5 of a vote in deciding numbers in  House of Represent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ress can not ban the slave trade until 180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cles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onstitution for the colon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onies would remain separate and independ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nded together to form a cohesive defe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cles- prov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cameral legislature- one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ate sends delegates, but gets only one vote per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“obligated” to send funds to pay government officials and the mili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“obligated” to send troops to man and maintain a central def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state votes to pass any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cles- prov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uthority of the executive and judicial branches would remain with the individual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nimous vote by the states was necessary to amend the 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set up trade agreements between the states and with foreign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.O.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y does this make sense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with the Art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not fairly represented in the Con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entral authority to negotiate with Foreign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authority to make states comply with legis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ower to collect taxes or compel troops into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with the Art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ommon cur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states had to agree to amend the con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of 13 states had to agree to any new legi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ystem or authority to borrow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19320" y="2438280"/>
            <a:ext cx="1981080" cy="1600200"/>
          </a:xfrm>
          <a:prstGeom prst="ellipse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“Virtuou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public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20176200">
            <a:off x="228240" y="1523520"/>
            <a:ext cx="2057400" cy="914400"/>
          </a:xfrm>
          <a:prstGeom prst="downArrowCallout">
            <a:avLst>
              <a:gd name="adj1" fmla="val 56255"/>
              <a:gd name="adj2" fmla="val 56250"/>
              <a:gd name="adj3" fmla="val 16667"/>
              <a:gd name="adj4" fmla="val 6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assical view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model re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 rot="19946400">
            <a:off x="2152440" y="4038480"/>
            <a:ext cx="1973160" cy="947880"/>
          </a:xfrm>
          <a:prstGeom prst="downArrowCallout">
            <a:avLst>
              <a:gd name="adj1" fmla="val 52046"/>
              <a:gd name="adj2" fmla="val 52041"/>
              <a:gd name="adj3" fmla="val 16667"/>
              <a:gd name="adj4" fmla="val 6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ity on a hill”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[John Winthrop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 rot="1698600">
            <a:off x="380880" y="4070880"/>
            <a:ext cx="1752840" cy="914400"/>
          </a:xfrm>
          <a:prstGeom prst="downArrowCallout">
            <a:avLst>
              <a:gd name="adj1" fmla="val 47927"/>
              <a:gd name="adj2" fmla="val 47923"/>
              <a:gd name="adj3" fmla="val 16667"/>
              <a:gd name="adj4" fmla="val 6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deal citiz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[Cincinnatu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124080" y="1980720"/>
            <a:ext cx="2286000" cy="1219320"/>
          </a:xfrm>
          <a:prstGeom prst="line">
            <a:avLst/>
          </a:prstGeom>
          <a:ln w="2844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3200400"/>
            <a:ext cx="2210040" cy="1143000"/>
          </a:xfrm>
          <a:prstGeom prst="line">
            <a:avLst/>
          </a:prstGeom>
          <a:ln w="2844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86400" y="685800"/>
            <a:ext cx="3352680" cy="5850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Govt. gets its authority from the citize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A selfless, educated citizen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Elections should be frequ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Govt. should guarantee individual rights &amp; freedo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Govt.’s power should be limited [checks &amp; balances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The need for a written Constit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“</a:t>
            </a: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E Pluribus Unum.” [“Out of many, one”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An important role for women </a:t>
            </a:r>
            <a:r>
              <a:rPr b="1" lang="en-US" sz="16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 raise good, virtuous citizens.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[“Republican Womanhood”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520400">
            <a:off x="2361960" y="1523880"/>
            <a:ext cx="1904760" cy="914400"/>
          </a:xfrm>
          <a:prstGeom prst="downArrowCallout">
            <a:avLst>
              <a:gd name="adj1" fmla="val 52082"/>
              <a:gd name="adj2" fmla="val 52077"/>
              <a:gd name="adj3" fmla="val 16667"/>
              <a:gd name="adj4" fmla="val 6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lightenme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nstitutional Conv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979040" cy="4530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8:50:08Z</dcterms:created>
  <dc:creator>tbabcock</dc:creator>
  <dc:description/>
  <dc:language>en-US</dc:language>
  <cp:lastModifiedBy>tbabcock</cp:lastModifiedBy>
  <dcterms:modified xsi:type="dcterms:W3CDTF">2010-04-30T13:25:42Z</dcterms:modified>
  <cp:revision>10</cp:revision>
  <dc:subject/>
  <dc:title>Articles of Confederation</dc:title>
</cp:coreProperties>
</file>