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8679-C501-44E8-A412-E70A77AFB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29B2-24C1-42DD-903C-309BBDBF0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4ABB-74D9-49B0-A587-7308D49ED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9CB5-2987-4F90-8259-73ABB82FC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B0C-0450-48D9-9F52-26279533F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15F5-ED44-430A-856D-5B591A2B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442A-6BF5-4044-AF5F-5081C8357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2774-ACAB-4FB2-B2F5-EEBCCF6E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4BF0-4B2C-4755-B71C-030C76508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2EA-6029-47C7-B25F-A22C5D43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6DDD-4BB5-4ECF-867A-BD15FC02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DE33-9227-4798-8752-970EC828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D1D-C581-446E-8133-F3E6B5F9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428-69E7-4AD4-BC98-75683D05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A21-75C9-496A-8D17-F5AD2147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79D-14A7-408D-A106-3E680071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CCA-C16E-4E84-B851-53A8F11D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BB5-7B42-43AF-8ECC-B5FD58B2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95C-4570-4EFA-AF04-0A87FC2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AA0-4DF7-4244-9290-724CB18E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7CF-0A8C-4724-8CF3-AB1CA575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F5D-8F19-46BB-BACC-F8CCD1D9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82B-207E-4024-A5A0-F9EC0308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949-72DB-40F7-AEFB-5C57A021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63EC-9229-4D2D-AE68-F7CCB081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17thscinfantry.tripod.com/sitebuildercontent/sitebuilderpictures/civilwarcrossstitch.jpg&amp;imgrefurl=http://17thscinfantry.tripod.com/&amp;usg=__5WKmvxDkFqFchsM8Pp43S7iMRV8=&amp;h=300&amp;w=352&amp;sz=36&amp;hl=en&amp;start=18&amp;sig2=BxfBSZ85M_Qi6ILymb5pDg&amp;um=1&amp;tbnid=aMt_4DaTh_mnQM:&amp;tbnh=102&amp;tbnw=120&amp;prev=/images%3Fq%3Djohnny%2Breb%2Band%2Bbilly%2Byank%26hl%3Den%26safe%3Dactive%26sa%3DN%26um%3D1&amp;ei=n7crS4_0Jci9lAeXzMCoBw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dead-confederate-soldier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civil-war/1864/october/american-flag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wardproductions.web6.hubspot.com/Portals/60195/images//abraham-lincoln-antietam-battlefield.jpg&amp;imgrefurl=http://www.awardproductions.com/Rack-Focus-Blog/%3FTag%3DAbraham%2520Lincoln&amp;usg=__w3MOBoWgplxO-nXOfxDBB6Wj_0I=&amp;h=384&amp;w=475&amp;sz=133&amp;hl=en&amp;start=19&amp;itbs=1&amp;tbnid=yDrMZ_1Bb8SX2M:&amp;tbnh=104&amp;tbnw=129&amp;prev=/images%3Fq%3Dabe%2Blincoln%2Bpicture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gainst bro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against son…Cliché v. Cl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38f828fd7a048c1f42a6110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vilwarcrossstitc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979880"/>
            <a:ext cx="26668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mpact?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Sum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r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ead Confederate Soldi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09880"/>
            <a:ext cx="358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te Slaves-Undermine Econom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e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 the Confederacy to pieces (troops through Georgia and Carolin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and make them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ivil War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 successes in Tennessee, Vicksburg paved the way for Sh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ommand afte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o back successes in North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man’s march to the sea (Total 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shortened war but made the Southern claims about the North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annah for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par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and 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ions, deaths and Secession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Democrats, Peace Democrats and “Cooper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/Johnson-Nothing could go wrong her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Union victories assisted the Union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mattox Court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outlasts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itch efforts in the “Battles of Wilder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ptured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surrenders at Appomattox Court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is over; they are our countrymen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ee_surrender_1_lg"/>
          <p:cNvPicPr/>
          <p:nvPr/>
        </p:nvPicPr>
        <p:blipFill>
          <a:blip r:embed="rId1"/>
          <a:stretch/>
        </p:blipFill>
        <p:spPr>
          <a:xfrm>
            <a:off x="7086600" y="1143000"/>
            <a:ext cx="1952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assination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lots, some to kidnap…many to 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plot killed Lincoln, stabbed Seward and targeted Sta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af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things worse for all “Reconstructing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xecution_lincoln_assassins"/>
          <p:cNvPicPr/>
          <p:nvPr/>
        </p:nvPicPr>
        <p:blipFill>
          <a:blip r:embed="rId1"/>
          <a:stretch/>
        </p:blipFill>
        <p:spPr>
          <a:xfrm>
            <a:off x="388620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large area with poor roads and rugged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conqu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d a long coastline that would take a lot of time to cap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better Ge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/Willingness to fight-THEY SEC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had the "home-field advantag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defending thei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Population-Larger Army (2 to 1 in pop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Industri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is, they also had developed a  better rai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Diplo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air-Cooler Heads prev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sold ships lik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ab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ed Union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rd Rams-Use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pes of Foreign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Ruling classes were 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king class folks wer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le Tom’s Ca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ly, they needed them but there was a sur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grain as much as they needed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macy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w a way to take advantage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-Napoleon III-Took Mexico in violation of Monroe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-Became Dominion of Canada in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an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volunteers at first, then drafted (18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uy your way out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then draft…early.  Less population…less of a pool to draft ou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time Limitations on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ize of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fu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 suppressed-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Presidential Precedent is set (Jacksonesqu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braham-lincoln-antietam-battlef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95280"/>
            <a:ext cx="25243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rtim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-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-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-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-Kore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h-”War on Terr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6:53:22Z</dcterms:created>
  <dc:creator>tbabcock</dc:creator>
  <dc:description/>
  <dc:language>en-US</dc:language>
  <cp:lastModifiedBy>tbabcock</cp:lastModifiedBy>
  <dcterms:modified xsi:type="dcterms:W3CDTF">2010-01-06T13:36:48Z</dcterms:modified>
  <cp:revision>51</cp:revision>
  <dc:subject/>
  <dc:title>“The War Begins”</dc:title>
</cp:coreProperties>
</file>