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30522-67A1-4C9F-BB9C-C6E8C47DB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33C9B-14F6-45D2-BF4A-A6009505F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261F4-719F-4DE1-8E9A-520810CFB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A11B0-7E8E-4F75-8583-0109F132D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5D275-C4B3-487D-8147-728F549F4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8CDE6-4F4F-477D-BE42-5B0DE7E27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BF6C6-2BBE-4C02-AE23-9EF576706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D21EA-9295-41A1-80BE-93E0FBA3E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61F72-5A43-4AED-A560-7A3D30A8B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BB22A-1225-4E97-B5AB-1126525B0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9279-52AB-4757-BAF9-A6591C28B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7B00B-335C-409C-924C-736E42641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9B21-6196-419A-A741-508843AAC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nfoplease.com/spot/bhmjustice5.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nfoplease.com/ce6/us/A0833852.html" TargetMode="External"/><Relationship Id="rId2" Type="http://schemas.openxmlformats.org/officeDocument/2006/relationships/hyperlink" Target="http://www.infoplease.com/ce6/people/A0837678.html" TargetMode="External"/><Relationship Id="rId3" Type="http://schemas.openxmlformats.org/officeDocument/2006/relationships/hyperlink" Target="http://www.infoplease.com/spot/mlkbiospot.html"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infoplease.com/ce6/us/A0829994.html" TargetMode="External"/><Relationship Id="rId2" Type="http://schemas.openxmlformats.org/officeDocument/2006/relationships/hyperlink" Target="http://www.infoplease.com/ce6/people/A0818333.html" TargetMode="External"/><Relationship Id="rId3" Type="http://schemas.openxmlformats.org/officeDocument/2006/relationships/hyperlink" Target="http://www.infoplease.com/ce6/people/A0818333.html" TargetMode="External"/><Relationship Id="rId4" Type="http://schemas.openxmlformats.org/officeDocument/2006/relationships/hyperlink" Target="http://www.infoplease.com/ce6/people/A0818333.html" TargetMode="External"/><Relationship Id="rId5" Type="http://schemas.openxmlformats.org/officeDocument/2006/relationships/hyperlink" Target="http://www.infoplease.com/ce6/people/A0816900.html"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ivil Rights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Challenges and Highlights of a M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3-March on Washingt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hington, D.C.-About 200,000 people join the March on Wash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gating at the Lincoln Memorial, participants listen as Martin Luther King delivers his famous “I Have a Dream" spee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4</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th Amendment abolishes the poll tax, which originally had been instituted in 11 southern states after Reconstruction to make it difficult for poor blacks to vot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Johnson signs the Civil Rights Act of 1964.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sweeping civil rights legislation since Reconstruction, the Civil Rights Act prohibits discrimination of all kinds based on race, color, religion, or national origi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also provides the federal government with the powers to enforce desegrega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5</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lem, N.Y.) Malcolm X, black nationalist and founder of the Organization of Afro-American Unity, is shot to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Voting Rights Act of 1965, making it easier for Southern blacks to register to vote. Literacy tests, poll taxes, and other such requirements that were used to restrict black voting are made illeg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5</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ts, C.A.) Race riots erupt in a black section of Los Angel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rting that civil rights laws alone are not enough to remedy discrimination, President Johnson issues Executive Order 11246, which enforces affirmative action for the first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quires government contractors to "take affirmative action" toward prospective minority employees in all aspects of hiring and employ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6-1968</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kland, CA) The militant Black Panthers are founded by Huey Newton and Bobby Se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kely Carmichael, a leader of the Student Nonviolent Coordinating Committee (SNCC), coins the phrase "black power" in a speech in Seatt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8</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phis, TN) Martin Luther King, at age 39, is shot as he stands on the balcony outside his hotel room. Escaped convict and committed racist James Earl Ray is convicted of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Johnson signs the Civil Rights Act of 1968, prohibiting discrimination in the sale, rental, and financing of hous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rown v. Board of Education</a:t>
            </a:r>
            <a:r>
              <a:rPr b="0" lang="en-US" sz="4000" spc="-1" strike="noStrike">
                <a:solidFill>
                  <a:srgbClr val="000000"/>
                </a:solidFill>
                <a:latin typeface="Arial"/>
              </a:rPr>
              <a:t> (</a:t>
            </a:r>
            <a:r>
              <a:rPr b="0" i="1" lang="en-US" sz="4000" spc="-1" strike="noStrike">
                <a:solidFill>
                  <a:srgbClr val="000000"/>
                </a:solidFill>
                <a:latin typeface="Arial"/>
              </a:rPr>
              <a:t>1954)(1955)</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nimously agreeing that segregation in public schools is unconstitution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ling paves the way for large-scale desegreg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ision overturns the </a:t>
            </a:r>
            <a:r>
              <a:rPr b="0" i="1" lang="en-US" sz="2800" spc="-1" strike="noStrike">
                <a:solidFill>
                  <a:srgbClr val="000000"/>
                </a:solidFill>
                <a:latin typeface="Arial"/>
              </a:rPr>
              <a:t>Plessy v. Ferguson</a:t>
            </a:r>
            <a:r>
              <a:rPr b="0" lang="en-US" sz="2800" spc="-1" strike="noStrike">
                <a:solidFill>
                  <a:srgbClr val="000000"/>
                </a:solidFill>
                <a:latin typeface="Arial"/>
              </a:rPr>
              <a:t> (1896) ruling that sanctioned "separate but equal" segregation of the races, ruling that "separate educational facilities are inherently unequ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victory for attorney Thurgood Marshall, who will later return to the Supreme Court as the nation's first black just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nfoplease.com/spot/civilrightstimeline1.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5</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een-year-old </a:t>
            </a:r>
            <a:r>
              <a:rPr b="0" lang="en-US" sz="3200" spc="-1" strike="noStrike" u="sng">
                <a:solidFill>
                  <a:srgbClr val="009999"/>
                </a:solidFill>
                <a:uFillTx/>
                <a:latin typeface="Arial"/>
                <a:hlinkClick r:id="rId1"/>
              </a:rPr>
              <a:t>Emmett Till</a:t>
            </a:r>
            <a:r>
              <a:rPr b="0" lang="en-US" sz="3200" spc="-1" strike="noStrike" u="sng">
                <a:solidFill>
                  <a:srgbClr val="000000"/>
                </a:solidFill>
                <a:uFillTx/>
                <a:latin typeface="Arial"/>
              </a:rPr>
              <a:t> is kidnapped, brutally beaten, shot, and dumped in the Tallahatchie River for allegedly whistling at a white wom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white men, J. W. Milam and Roy Bryant, are arrested for the murder and acquitted by an all-white jury. They later boast about committing the murder in a </a:t>
            </a:r>
            <a:r>
              <a:rPr b="0" i="1" lang="en-US" sz="3200" spc="-1" strike="noStrike">
                <a:solidFill>
                  <a:srgbClr val="000000"/>
                </a:solidFill>
                <a:latin typeface="Arial"/>
              </a:rPr>
              <a:t>Look</a:t>
            </a:r>
            <a:r>
              <a:rPr b="0" lang="en-US" sz="3200" spc="-1" strike="noStrike">
                <a:solidFill>
                  <a:srgbClr val="000000"/>
                </a:solidFill>
                <a:latin typeface="Arial"/>
              </a:rPr>
              <a:t> magazine intervie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5</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9999"/>
                </a:solidFill>
                <a:uFillTx/>
                <a:latin typeface="Arial"/>
                <a:hlinkClick r:id="rId1"/>
              </a:rPr>
              <a:t>Montgomery, Ala.</a:t>
            </a:r>
            <a:r>
              <a:rPr b="0" lang="en-US" sz="2800" spc="-1" strike="noStrike" u="sng">
                <a:solidFill>
                  <a:srgbClr val="000000"/>
                </a:solidFill>
                <a:uFillTx/>
                <a:latin typeface="Arial"/>
              </a:rPr>
              <a:t>) NAACP member </a:t>
            </a:r>
            <a:r>
              <a:rPr b="0" lang="en-US" sz="2800" spc="-1" strike="noStrike" u="sng">
                <a:solidFill>
                  <a:srgbClr val="009999"/>
                </a:solidFill>
                <a:uFillTx/>
                <a:latin typeface="Arial"/>
                <a:hlinkClick r:id="rId2"/>
              </a:rPr>
              <a:t>Rosa Parks</a:t>
            </a:r>
            <a:r>
              <a:rPr b="0" lang="en-US" sz="2800" spc="-1" strike="noStrike" u="sng">
                <a:solidFill>
                  <a:srgbClr val="000000"/>
                </a:solidFill>
                <a:uFillTx/>
                <a:latin typeface="Arial"/>
              </a:rPr>
              <a:t> refuses to give up her seat at the front of the "colored section" of a bus to a white passenger, defying a southern custom of the tim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onse to her arrest the Montgomery black community launches a bus boycott, which will last for more than a year, until the buses are desegregated Dec. 21, 1956.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newly elected president of the Montgomery Improvement Association (MIA), Reverend </a:t>
            </a:r>
            <a:r>
              <a:rPr b="0" lang="en-US" sz="2800" spc="-1" strike="noStrike" u="sng">
                <a:solidFill>
                  <a:srgbClr val="009999"/>
                </a:solidFill>
                <a:uFillTx/>
                <a:latin typeface="Arial"/>
                <a:hlinkClick r:id="rId3"/>
              </a:rPr>
              <a:t>Martin Luther King, Jr.</a:t>
            </a:r>
            <a:r>
              <a:rPr b="0" lang="en-US" sz="2800" spc="-1" strike="noStrike" u="sng">
                <a:solidFill>
                  <a:srgbClr val="000000"/>
                </a:solidFill>
                <a:uFillTx/>
                <a:latin typeface="Arial"/>
              </a:rPr>
              <a:t>, is instrumental in leading the boycot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7</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ittle Rock, Ark.</a:t>
            </a:r>
            <a:r>
              <a:rPr b="0" lang="en-US" sz="3200" spc="-1" strike="noStrike">
                <a:solidFill>
                  <a:srgbClr val="000000"/>
                </a:solidFill>
                <a:latin typeface="Arial"/>
              </a:rPr>
              <a:t> Formerly all-white Central High School learns is integr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e black students are blocked from entering the school on the orders of Governor </a:t>
            </a:r>
            <a:r>
              <a:rPr b="0" lang="en-US" sz="3200" spc="-1" strike="noStrike" u="sng">
                <a:solidFill>
                  <a:srgbClr val="009999"/>
                </a:solidFill>
                <a:uFillTx/>
                <a:latin typeface="Arial"/>
                <a:hlinkClick r:id="rId2"/>
              </a:rPr>
              <a:t>Orval</a:t>
            </a:r>
            <a:r>
              <a:rPr b="0" lang="en-US" sz="3200" spc="-1" strike="noStrike" u="sng">
                <a:solidFill>
                  <a:srgbClr val="009999"/>
                </a:solidFill>
                <a:uFillTx/>
                <a:latin typeface="Arial"/>
                <a:hlinkClick r:id="rId3"/>
              </a:rPr>
              <a:t> </a:t>
            </a:r>
            <a:r>
              <a:rPr b="0" lang="en-US" sz="3200" spc="-1" strike="noStrike" u="sng">
                <a:solidFill>
                  <a:srgbClr val="009999"/>
                </a:solidFill>
                <a:uFillTx/>
                <a:latin typeface="Arial"/>
                <a:hlinkClick r:id="rId4"/>
              </a:rPr>
              <a:t>Faubu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President Eisenhower</a:t>
            </a:r>
            <a:r>
              <a:rPr b="0" lang="en-US" sz="3200" spc="-1" strike="noStrike">
                <a:solidFill>
                  <a:srgbClr val="000000"/>
                </a:solidFill>
                <a:latin typeface="Arial"/>
              </a:rPr>
              <a:t> sends federal troops and the National Guard to intervene on behalf of the students, who become known as the "Little Rock Ni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0</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sboro, N.C.) Four black students from North Carolina Agricultural and Technical College begin a sit-in at a segregated Woolworth's lunch coun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y are refused service, they are allowed to stay at the counter. The event triggers many similar nonviolent protests throughout the Sou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months later the original four protesters are served lunch at the same Woolworth's coun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Nonviolent Coordinating Committee (SNCC) is found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1</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gress of Racial Equality (CORE) begins sending student volunteers on bus trips to test the implementation of new laws prohibiting segregation in interstate travel facil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he first buses is attacked and set on f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3</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civil rights protests in Birmingham, Ala., Commissioner of Public Safety Eugene "Bull" Connor uses fire hoses and police dogs on black demonstra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images of brutality, which are televised and published widely, are instrumental in gaining sympathy for the civil rights movement around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2:48:34Z</dcterms:created>
  <dc:creator>tbabcock</dc:creator>
  <dc:description/>
  <dc:language>en-US</dc:language>
  <cp:lastModifiedBy>tbabcock</cp:lastModifiedBy>
  <dcterms:modified xsi:type="dcterms:W3CDTF">2009-05-13T13:56:44Z</dcterms:modified>
  <cp:revision>6</cp:revision>
  <dc:subject/>
  <dc:title>Civil Rights Timeline</dc:title>
</cp:coreProperties>
</file>