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66B-91AD-4A69-A6F7-C0EE9043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8301-BA68-4F78-B518-F465E6C7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0BB-F87A-464B-A8DE-AFA94077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5EAB-16B4-4863-843E-07F7DF46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6769-9A5A-4020-9342-9736E5D5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A9E-E280-4991-875A-79FE7107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F09-297B-4B68-BB42-5E1DD89CD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CF2-5C64-4DBB-B41C-3C7C9FC43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9F2C-84F7-4599-9AB0-A6378B79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4D9-1D64-4168-8624-C2BC1666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4D20-C4FD-43AE-8D74-66DF68D9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18AE-8DAB-468A-B7BC-DE44718E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419-9971-485D-BECA-508BF31E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981-54BB-45BB-B8C8-405987B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A0A-F9BF-4CF6-A9D2-0CCFE070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E3A-A549-4FA1-9AA2-B0C6E04E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F7D-9B29-4E21-9F90-FBE8C7B2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11A-6044-4F28-A0A7-F8248C9B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DD4-4CA1-4FF6-97D7-2EF2033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B23-7017-4D28-9D44-1CA97C56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348-B29C-4505-8EA6-9795B501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373-3C61-4207-89FB-DED48DF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52D-F6C2-4BE2-8FBC-21B9679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A22-3E24-4E60-AD7A-0FBB12F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8FE-4F14-47C4-9B19-B6A98B6D5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17thscinfantry.tripod.com/sitebuildercontent/sitebuilderpictures/civilwarcrossstitch.jpg&amp;imgrefurl=http://17thscinfantry.tripod.com/&amp;usg=__5WKmvxDkFqFchsM8Pp43S7iMRV8=&amp;h=300&amp;w=352&amp;sz=36&amp;hl=en&amp;start=18&amp;sig2=BxfBSZ85M_Qi6ILymb5pDg&amp;um=1&amp;tbnid=aMt_4DaTh_mnQM:&amp;tbnh=102&amp;tbnw=120&amp;prev=/images%3Fq%3Djohnny%2Breb%2Band%2Bbilly%2Byank%26hl%3Den%26safe%3Dactive%26sa%3DN%26um%3D1&amp;ei=n7crS4_0Jci9lAeXzMCoBw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dead-confederate-soldier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4/october/american-flag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wardproductions.web6.hubspot.com/Portals/60195/images//abraham-lincoln-antietam-battlefield.jpg&amp;imgrefurl=http://www.awardproductions.com/Rack-Focus-Blog/%3FTag%3DAbraham%2520Lincoln&amp;usg=__w3MOBoWgplxO-nXOfxDBB6Wj_0I=&amp;h=384&amp;w=475&amp;sz=133&amp;hl=en&amp;start=19&amp;itbs=1&amp;tbnid=yDrMZ_1Bb8SX2M:&amp;tbnh=104&amp;tbnw=129&amp;prev=/images%3Fq%3Dabe%2Blincoln%2Bpicture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gainst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against son…Cliché v. Cl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38f828fd7a048c1f42a6110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vilwarcrossstitc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979880"/>
            <a:ext cx="2666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mpact?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ad Confederate Soldi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09880"/>
            <a:ext cx="358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te Slaves-Undermine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the Confederacy to pieces (troops through Georgia and Caroli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and make them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vil War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successes in Tennessee, Vicksburg paved the way for 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ommand afte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back successes in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march to the sea (Total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shortened war but made the Southern claims about the North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nnah for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par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and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ions, deaths and Secession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Democrats, Peace Democrats and “Cooper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/Johnson-Nothing could go wrong he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Union victories assisted the Union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mattox Cour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utlasts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itch efforts in the “Battles of Wilder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ptured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surrenders at Appomattox Court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s over; they are our countrymen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ee_surrender_1_lg"/>
          <p:cNvPicPr/>
          <p:nvPr/>
        </p:nvPicPr>
        <p:blipFill>
          <a:blip r:embed="rId1"/>
          <a:stretch/>
        </p:blipFill>
        <p:spPr>
          <a:xfrm>
            <a:off x="7086600" y="1143000"/>
            <a:ext cx="1952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assin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lots, some to kidnap…many to 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plot killed Lincoln, stabbed Seward and targeted Sta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af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things worse for all “Reconstructing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xecution_lincoln_assassins"/>
          <p:cNvPicPr/>
          <p:nvPr/>
        </p:nvPicPr>
        <p:blipFill>
          <a:blip r:embed="rId1"/>
          <a:stretch/>
        </p:blipFill>
        <p:spPr>
          <a:xfrm>
            <a:off x="388620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large area with poor roads and rugged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d a long coastline that would take a lot of time to cap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better Ge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/Willingness to fight-THEY SEC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had the "home-field advanta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defending thei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Population-Larger Army (2 to 1 in pop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dustri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, they also had developed a  better rai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Diplo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air-Cooler Heads prev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sold ships lik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ed Union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rd Rams-Use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pes of Foreig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Ruling classes were 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king class folks we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le Tom’s Ca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ly, they needed them but there was a sur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grain as much as they neede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c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w a way to take advantage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Napoleon III-Took Mexico in violation of Monroe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-Became Dominion of Canada in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n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volunteers at first, then drafted (18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uy your way out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hen draft…early.  Less population…less of a pool to draft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Limitations on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ize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fu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suppressed-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esidential Precedent is set (Jacksonesqu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braham-lincoln-antietam-battlef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95280"/>
            <a:ext cx="25243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tim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-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-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-Kore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-”War on Ter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53:22Z</dcterms:created>
  <dc:creator>tbabcock</dc:creator>
  <dc:description/>
  <dc:language>en-US</dc:language>
  <cp:lastModifiedBy>tbabcock</cp:lastModifiedBy>
  <dcterms:modified xsi:type="dcterms:W3CDTF">2010-01-06T13:36:48Z</dcterms:modified>
  <cp:revision>51</cp:revision>
  <dc:subject/>
  <dc:title>“The War Begins”</dc:title>
</cp:coreProperties>
</file>