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59F2-F137-47A7-AF24-CD1012AA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D6A6-2216-44AC-8C1B-FA016CCB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818-D779-49CC-A5DB-AE595420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2F2-0E85-4A3F-AEC5-F81CFFB6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A114-0077-4F76-A8A9-EAC6C1D3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E6D5-90F1-4BE5-B504-3FDC7438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3DE4-3410-46CC-895E-8BBACFC05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DDA-20FF-4DE7-8DD2-90B744A9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1F4-2CC8-43DC-BF85-3449627F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3A96-1625-4812-BE5A-67E3F51E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7C0-542B-4A0D-896D-41C1C989C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B53F-B83B-4C2D-B90D-AEA58222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4F4-9BF4-463F-B3AE-EEA7E76E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8A4-26A1-426A-A5FF-66A5F9BB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73F-6C41-4510-86DA-270B2D34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CCE-24CE-470B-8CDE-E1FC716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25E-CFB4-4F9F-A53C-76BC1894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FB7-25BF-4123-82A0-1B0449B1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060-F6C5-429A-8814-C7D0921B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93D-AE86-4F83-909C-257D9644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493-E842-4DC8-B758-AE3AF34A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BC-59CC-4570-B3F2-5A693AB9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BAD-D1AF-4595-BE0A-AB60477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9AF-AFE5-4AAD-BC2E-D2538B8A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1F26-096F-407C-A861-C855FC9C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17thscinfantry.tripod.com/sitebuildercontent/sitebuilderpictures/civilwarcrossstitch.jpg&amp;imgrefurl=http://17thscinfantry.tripod.com/&amp;usg=__5WKmvxDkFqFchsM8Pp43S7iMRV8=&amp;h=300&amp;w=352&amp;sz=36&amp;hl=en&amp;start=18&amp;sig2=BxfBSZ85M_Qi6ILymb5pDg&amp;um=1&amp;tbnid=aMt_4DaTh_mnQM:&amp;tbnh=102&amp;tbnw=120&amp;prev=/images%3Fq%3Djohnny%2Breb%2Band%2Bbilly%2Byank%26hl%3Den%26safe%3Dactive%26sa%3DN%26um%3D1&amp;ei=n7crS4_0Jci9lAeXzMCoBw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dead-confederate-soldier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nofthesouth.net/leefoundation/civil-war/1864/october/american-flag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wardproductions.web6.hubspot.com/Portals/60195/images//abraham-lincoln-antietam-battlefield.jpg&amp;imgrefurl=http://www.awardproductions.com/Rack-Focus-Blog/%3FTag%3DAbraham%2520Lincoln&amp;usg=__w3MOBoWgplxO-nXOfxDBB6Wj_0I=&amp;h=384&amp;w=475&amp;sz=133&amp;hl=en&amp;start=19&amp;itbs=1&amp;tbnid=yDrMZ_1Bb8SX2M:&amp;tbnh=104&amp;tbnw=129&amp;prev=/images%3Fq%3Dabe%2Blincoln%2Bpicture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against bro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against son…Cliché v. Cl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38f828fd7a048c1f42a6110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vilwarcrossstitc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979880"/>
            <a:ext cx="26668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mpact?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ad Confederate Soldi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09880"/>
            <a:ext cx="358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te Slaves-Undermine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 the Confederacy to pieces (troops through Georgia and Caroli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and make them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vil War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successes in Tennessee, Vicksburg paved the way for Sh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ommand afte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o back successes in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man’s march to the sea (Total 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shortened war but made the Southern claims about the North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annah for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par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s and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ions, deaths and Secession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Democrats, Peace Democrats and “Cooper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/Johnson-Nothing could go wrong her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Union victories assisted the Union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mattox Cour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utlasts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itch efforts in the “Battles of Wilder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ptured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surrenders at Appomattox Court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s over; they are our countrymen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ee_surrender_1_lg"/>
          <p:cNvPicPr/>
          <p:nvPr/>
        </p:nvPicPr>
        <p:blipFill>
          <a:blip r:embed="rId1"/>
          <a:stretch/>
        </p:blipFill>
        <p:spPr>
          <a:xfrm>
            <a:off x="7086600" y="1143000"/>
            <a:ext cx="1952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assin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lots, some to kidnap…many to 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plot killed Lincoln, stabbed Seward and targeted Sta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af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things worse for all “Reconstructing”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xecution_lincoln_assassins"/>
          <p:cNvPicPr/>
          <p:nvPr/>
        </p:nvPicPr>
        <p:blipFill>
          <a:blip r:embed="rId1"/>
          <a:stretch/>
        </p:blipFill>
        <p:spPr>
          <a:xfrm>
            <a:off x="388620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large area with poor roads and rugged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conqu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d a long coastline that would take a lot of time to cap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better Ge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/Willingness to fight-THEY SEC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had the "home-field advantag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defending thei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Population-Larger Army (2 to 1 in pop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Industri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, they also had developed a  better rai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Diplo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air-Cooler Heads prev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sold ships lik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b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ed Union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rd Rams-Use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pes of Foreig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Ruling classes were 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king class folks we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le Tom’s Ca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ly, they needed them but there was a sur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grain as much as they neede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lomac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w a way to take advantage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Napoleon III-Took Mexico in violation of Monroe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-Became Dominion of Canada in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an A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volunteers at first, then drafted (18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uy your way out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hen draft…early.  Less population…less of a pool to draft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Limitations on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ize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fu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suppressed-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Presidential Precedent is set (Jacksonesqu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braham-lincoln-antietam-battlef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95280"/>
            <a:ext cx="25243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rtim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-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-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-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-Kore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-”War on Ter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6:53:22Z</dcterms:created>
  <dc:creator>tbabcock</dc:creator>
  <dc:description/>
  <dc:language>en-US</dc:language>
  <cp:lastModifiedBy>tbabcock</cp:lastModifiedBy>
  <dcterms:modified xsi:type="dcterms:W3CDTF">2010-01-06T13:36:48Z</dcterms:modified>
  <cp:revision>51</cp:revision>
  <dc:subject/>
  <dc:title>“The War Begins”</dc:title>
</cp:coreProperties>
</file>