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64F3-04DE-492F-A912-C67121FBE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4422-37B5-4FA6-838F-F8212A972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14FD-200C-40A1-90F9-EA38D8999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01A1-B90E-495A-9E2E-4A64650B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00E7-9BEC-48BD-9740-07BC82F79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DAE5-1C82-446F-AB6D-21007B706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F7B1-5BBD-4340-A755-3CF410F53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6CE7-E357-40FE-B667-36E1C8D8C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4E26-E3BC-44D2-83B2-79B3DC77E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1800-EE7E-4AF7-AAE9-359892D8E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B86E-3432-47E9-952F-8AB28F780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7817-CDE4-455E-9B52-ECD380A5D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6DA-7FCB-4C9A-8C13-E06EA84D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DE1-F871-4471-BD65-6A609106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FBA-8E44-4897-B0B7-D1E0BC16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B4D-0EA4-491C-B829-A3F7D0E4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E83-DA46-4560-A943-3F138F11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963-57B1-4532-8341-94F16167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CF4-34BE-40F2-83D6-F652FFDE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46F-2CB3-476B-B033-67AF1B68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36F-0637-4719-9C9B-6F8B4956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268-2BA1-4E77-8921-DE81ABD0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616-850F-44B4-8D52-D03F617F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E9A-CB25-482E-9119-5016228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D1D1-B3D1-4C1F-A630-E1CD5620A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17thscinfantry.tripod.com/sitebuildercontent/sitebuilderpictures/civilwarcrossstitch.jpg&amp;imgrefurl=http://17thscinfantry.tripod.com/&amp;usg=__5WKmvxDkFqFchsM8Pp43S7iMRV8=&amp;h=300&amp;w=352&amp;sz=36&amp;hl=en&amp;start=18&amp;sig2=BxfBSZ85M_Qi6ILymb5pDg&amp;um=1&amp;tbnid=aMt_4DaTh_mnQM:&amp;tbnh=102&amp;tbnw=120&amp;prev=/images%3Fq%3Djohnny%2Breb%2Band%2Bbilly%2Byank%26hl%3Den%26safe%3Dactive%26sa%3DN%26um%3D1&amp;ei=n7crS4_0Jci9lAeXzMCoBw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onofthesouth.net/leefoundation/dead-confederate-soldiers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onofthesouth.net/leefoundation/civil-war/1864/october/american-flag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wardproductions.web6.hubspot.com/Portals/60195/images//abraham-lincoln-antietam-battlefield.jpg&amp;imgrefurl=http://www.awardproductions.com/Rack-Focus-Blog/%3FTag%3DAbraham%2520Lincoln&amp;usg=__w3MOBoWgplxO-nXOfxDBB6Wj_0I=&amp;h=384&amp;w=475&amp;sz=133&amp;hl=en&amp;start=19&amp;itbs=1&amp;tbnid=yDrMZ_1Bb8SX2M:&amp;tbnh=104&amp;tbnw=129&amp;prev=/images%3Fq%3Dabe%2Blincoln%2Bpictures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gi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 against bro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against son…Cliché v. Cli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38f828fd7a048c1f42a6110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ivilwarcrossstitc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979880"/>
            <a:ext cx="266688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mpact?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 Sum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nsular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e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Dead Confederate Soldi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09880"/>
            <a:ext cx="35816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ate Slaves-Undermine Econom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ize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p the Confederacy to pieces (troops through Georgia and Carolin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 Rich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and make them sub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ivil War 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on Turns the 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s successes in Tennessee, Vicksburg paved the way for Sh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ommand after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to back successes in North and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rman’s march to the sea (Total 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shortened war but made the Southern claims about the North tr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annah for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party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blicans and Democ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ions, deaths and Secession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Democrats, Peace Democrats and “Cooperhea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/Johnson-Nothing could go wrong here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of Union victories assisted the Union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omattox Court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 outlasts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ditch efforts in the “Battles of Wildern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ptured Rich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surrenders at Appomattox Court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r is over; they are our countrymen ag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ee_surrender_1_lg"/>
          <p:cNvPicPr/>
          <p:nvPr/>
        </p:nvPicPr>
        <p:blipFill>
          <a:blip r:embed="rId1"/>
          <a:stretch/>
        </p:blipFill>
        <p:spPr>
          <a:xfrm>
            <a:off x="7086600" y="1143000"/>
            <a:ext cx="1952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assination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lots, some to kidnap…many to 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ccessful plot killed Lincoln, stabbed Seward and targeted Sta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s afte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things worse for all “Reconstructing”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xecution_lincoln_assassins"/>
          <p:cNvPicPr/>
          <p:nvPr/>
        </p:nvPicPr>
        <p:blipFill>
          <a:blip r:embed="rId1"/>
          <a:stretch/>
        </p:blipFill>
        <p:spPr>
          <a:xfrm>
            <a:off x="3886200" y="4495680"/>
            <a:ext cx="495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ern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a large area with poor roads and rugged ter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conqu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d a long coastline that would take a lot of time to cap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, better Ge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ess/Willingness to fight-THEY SECC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th had the "home-field advantag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defending their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ern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Population-Larger Army (2 to 1 in pop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Industria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is, they also had developed a  better rai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N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ign Diplo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air-Cooler Heads prev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sold ships lik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ab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cted Union N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rd Rams-Use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opes of Foreign Inter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Ruling classes were sympa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orking class folks were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cle Tom’s Ca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ly, they needed them but there was a sur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grain as much as they needed c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lomacy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aw a way to take advantage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-Napoleon III-Took Mexico in violation of Monroe Doct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-Became Dominion of Canada in 18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ing an Ar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volunteers at first, then drafted (18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uy your way out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 then draft…early.  Less population…less of a pool to draft ou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time Limitations on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ize of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fund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d Habeas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 suppressed-News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Presidential Precedent is set (Jacksonesqu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braham-lincoln-antietam-battlefiel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295280"/>
            <a:ext cx="252432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artim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-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son-W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-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man-Korea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h-”War on Terr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6:53:22Z</dcterms:created>
  <dc:creator>tbabcock</dc:creator>
  <dc:description/>
  <dc:language>en-US</dc:language>
  <cp:lastModifiedBy>tbabcock</cp:lastModifiedBy>
  <dcterms:modified xsi:type="dcterms:W3CDTF">2010-01-06T13:36:48Z</dcterms:modified>
  <cp:revision>51</cp:revision>
  <dc:subject/>
  <dc:title>“The War Begins”</dc:title>
</cp:coreProperties>
</file>