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A11CB-44D8-48B3-9CEC-10BA156EC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1D096-4B02-471C-AFD8-2174E932C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BC12A-27D2-4D21-BC66-81A9B879A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C7051-8747-49A8-865C-2D7D13276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CDE1C-8DE3-428C-8953-F9A5819F9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85A76-B958-42D8-9B32-F68EF190D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627CC-0BF6-42CE-8302-B0CE0A72A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1E7BD-32C3-4B1B-8C9F-02BCB7CD5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EFB56-F5B0-4E7E-AE5F-31CB4D06D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B0B1B-507F-4313-B910-DE261131E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16D88-D75F-455A-ACB0-74229E996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2C624-6DC3-4448-88E2-BCB909958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2E08B-CA90-455E-85D0-367F6D8F1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9B8E9-BDC3-467B-986A-02FE55AB0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1944E-1C47-44CD-B255-568EC0D5E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EF076-FE90-47B6-B34D-E78EF71DF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AA3A1-EB7D-4496-A887-60F26962E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D4F85-7A73-4863-BEF2-6D57BBFB5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1336D-8B14-47F2-91F8-C460D68CC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9CF7E-F78C-418D-B1A5-B81F93AF0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2F6C9-0CDF-4615-829E-49338DA65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BC38-040E-4991-B310-FA03FC3D6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96A95-7300-4C47-A51A-AEC096F9F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23C76-A748-483A-8E35-1A8B8E0BE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C710-804C-417E-82C4-136306578E9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89B2-ED8D-41C4-AA9B-D7064305800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arly American Colonial Life: Politics &amp; Economic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1"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England--rapid rivers and rocky soil</a:t>
            </a:r>
            <a:endParaRPr b="0" lang="en-US" sz="28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rPr>
              <a:t>3. Occupations included farming (scarce labor, tough conditions), fishing, and commerce</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 Shipbuilding became major supplement to fishing and trade</a:t>
            </a:r>
            <a:endParaRPr b="0" lang="en-US" sz="32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 Slavery, rum and the triangular trade with West Indies and Africa brought economic wealth to New Engla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3"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ckcountry/Frontier--continually moving region: "The West."</a:t>
            </a:r>
            <a:endParaRPr b="0" lang="en-US" sz="3600" spc="-1" strike="noStrike">
              <a:solidFill>
                <a:srgbClr val="000000"/>
              </a:solidFill>
              <a:latin typeface="Tahoma"/>
            </a:endParaRPr>
          </a:p>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1. Large families, exhausted soil encouraged westward movement </a:t>
            </a:r>
            <a:endParaRPr b="0" lang="en-US" sz="3600" spc="-1" strike="noStrike">
              <a:solidFill>
                <a:srgbClr val="000000"/>
              </a:solidFill>
              <a:latin typeface="Tahoma"/>
            </a:endParaRPr>
          </a:p>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2. Religious dissenters, immigrants, and criminals all found "refuge" in the West.</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5"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country/Frontier--continually moving region: "The West."</a:t>
            </a:r>
            <a:endParaRPr b="0" lang="en-US" sz="28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3. Vigorous spirit of democracy and emphasis on individual freedom</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Strenuous objection to any governmental interference in daily life</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 Anti-aristocratic tradition and resentment of urban area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07"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llowing the lead of the Whigs who had established limits on the power of the crown with the Glorious Revolution, American colonial assemblies sought to limit royal authority and assert local control over</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taxes</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ppointment of local officials</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setting the governor's salar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fact, the assemblies were elitist rather than democratic, with rich men standing for office, though most property-owning men had the right to vo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Following the Glorious Revolution, mobs often exerted local control in defiance of both the governor and the local assembly.</a:t>
            </a:r>
            <a:endParaRPr b="0" lang="en-US" sz="2800" spc="-1" strike="noStrike">
              <a:solidFill>
                <a:srgbClr val="000000"/>
              </a:solidFill>
              <a:latin typeface="Tahoma"/>
            </a:endParaRPr>
          </a:p>
          <a:p>
            <a:pPr marL="339480" indent="-3394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British policy of salutary neglect allowed local control to grow as the crown focused on trade and military issues. Later, when the British tried to re-assert the powers in mercantilist policies, they found strong colonial resist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11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lonies exist as a market for home-country's goods and a supplier of raw material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7" name="PlaceHolder 2"/>
          <p:cNvSpPr>
            <a:spLocks noGrp="1"/>
          </p:cNvSpPr>
          <p:nvPr>
            <p:ph/>
          </p:nvPr>
        </p:nvSpPr>
        <p:spPr>
          <a:xfrm>
            <a:off x="685800" y="1980720"/>
            <a:ext cx="7772400" cy="44960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ll trade with other nations needs to go through the home-country. Series of Navigation Acts began in 1651</a:t>
            </a:r>
            <a:endParaRPr b="0" lang="en-US" sz="3600" spc="-1" strike="noStrike">
              <a:solidFill>
                <a:srgbClr val="000000"/>
              </a:solidFill>
              <a:latin typeface="Tahoma"/>
            </a:endParaRPr>
          </a:p>
          <a:p>
            <a:pPr lvl="1" marL="743040" indent="-28584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 All trade had to be on English or colonial ships</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9" name="PlaceHolder 2"/>
          <p:cNvSpPr>
            <a:spLocks noGrp="1"/>
          </p:cNvSpPr>
          <p:nvPr>
            <p:ph/>
          </p:nvPr>
        </p:nvSpPr>
        <p:spPr>
          <a:xfrm>
            <a:off x="685440" y="1981080"/>
            <a:ext cx="8001000" cy="45720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lvl="1" marL="727920" indent="-280080">
              <a:lnSpc>
                <a:spcPct val="90000"/>
              </a:lnSpc>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 Enumerated products (tobacco, sugar, indigo, cotton, etc.) could be shipped only to England or another English colony</a:t>
            </a:r>
            <a:endParaRPr b="0" lang="en-US" sz="3600" spc="-1" strike="noStrike">
              <a:solidFill>
                <a:srgbClr val="000000"/>
              </a:solidFill>
              <a:latin typeface="Tahoma"/>
            </a:endParaRPr>
          </a:p>
          <a:p>
            <a:pPr lvl="1" marL="727920" indent="-280080">
              <a:lnSpc>
                <a:spcPct val="90000"/>
              </a:lnSpc>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3. Certain English-made goods (gunpowder, silk) were subsidized to undercut European competitor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the colonies prospered with the Navigation Acts and cities like Philadelphia, New York, and Boston grew, though some tobacco and rice planters complain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Americans viewed the mercantilist laws as excessive and were sometimes ignored. James II responded by removing New England's charter in 1688 and establishing the Dominion of New England, a royal province that ignored previous land grants and outlawed town meet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5"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ation South</a:t>
            </a:r>
            <a:endParaRPr b="0" lang="en-US" sz="2800" spc="-1" strike="noStrike">
              <a:solidFill>
                <a:srgbClr val="000000"/>
              </a:solidFill>
              <a:latin typeface="Tahoma"/>
            </a:endParaRPr>
          </a:p>
          <a:p>
            <a:pPr lvl="1" marL="743040" indent="-28584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Tidewater region featured wide coastal plain, wide rivers, and rich soil particularly well-suited to tobacco farming.</a:t>
            </a:r>
            <a:endParaRPr b="0" lang="en-US" sz="3200" spc="-1" strike="noStrike">
              <a:solidFill>
                <a:srgbClr val="000000"/>
              </a:solidFill>
              <a:latin typeface="Tahoma"/>
            </a:endParaRPr>
          </a:p>
          <a:p>
            <a:pPr lvl="2" marL="1143000" indent="-228600">
              <a:lnSpc>
                <a:spcPct val="90000"/>
              </a:lnSpc>
              <a:spcBef>
                <a:spcPts val="700"/>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arge plantations became economically more successful as soil was exhausted, leading to self-sufficing economic units.</a:t>
            </a:r>
            <a:endParaRPr b="0" lang="en-US" sz="2800" spc="-1" strike="noStrike">
              <a:solidFill>
                <a:srgbClr val="000000"/>
              </a:solidFill>
              <a:latin typeface="Tahoma"/>
            </a:endParaRPr>
          </a:p>
          <a:p>
            <a:pPr lvl="2" marL="1143000" indent="-228600">
              <a:lnSpc>
                <a:spcPct val="90000"/>
              </a:lnSpc>
              <a:spcBef>
                <a:spcPts val="700"/>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As indentured servants became harder to obtain (and retain), demand for slaves increased (400,000) in colonies by 1776</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7"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ddle Colonies--farming, manufacturing center</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1. Three large rivers (Hudson, Delaware, and Susquehanna) flowed north to south and served as trade paths. </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 Large numbers of immigrants</a:t>
            </a:r>
            <a:endParaRPr b="0" lang="en-US" sz="32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utch in Hudson Valley</a:t>
            </a:r>
            <a:endParaRPr b="0" lang="en-US" sz="28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Germans in Pennsylvania</a:t>
            </a:r>
            <a:endParaRPr b="0" lang="en-US" sz="28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Scotch-Irish in Pennsylvania</a:t>
            </a:r>
            <a:endParaRPr b="0" lang="en-US" sz="28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9"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England--rapid rivers and rocky soil</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1. 95% English immigrants, most from villages </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 Came in groups and settled in self-governing towns. New England town meeting as center of power at first, but shifted to selectmen in 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5:23:32Z</dcterms:created>
  <dc:creator>Office 2004 Test Drive User</dc:creator>
  <dc:description/>
  <dc:language>en-US</dc:language>
  <cp:lastModifiedBy>tbabcock</cp:lastModifiedBy>
  <dcterms:modified xsi:type="dcterms:W3CDTF">2009-09-23T14:19:59Z</dcterms:modified>
  <cp:revision>6</cp:revision>
  <dc:subject/>
  <dc:title>Early American Colonial Life: Politics &amp; Economics</dc:title>
</cp:coreProperties>
</file>