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2EC4-3107-4881-B3DD-6AB629B27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1D30-4B6B-4952-A7AF-921D69EEE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733C-E315-4018-A20E-072F4F17D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75D5-CA5B-4A18-8DE9-191B58D5C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A788-78BD-4271-AE51-97571FE8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071E-E199-4958-8A9A-0C171A285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1683-ECE3-4CAC-8C41-0D8CFB42E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911-17C0-4C28-81E2-0F2AE424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B5E-5D02-4634-8322-8C6D0003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646-A61D-40E1-AAC9-EA965F31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F3A-DF72-4CFB-9E78-720ED3D4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1F8-CB61-4673-A453-3B7D4205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E37-F24A-4936-A93F-1B0C30C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3FB-330C-4A6F-8069-A2D1FA82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843-46A5-4E49-B702-DB5D9D7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AC9-D4FD-42C1-B894-7CC6AC2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3E8-C6D2-48D7-8596-F48015AB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456-F9D4-44B8-8553-890D30EA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E6A-3299-4975-B61A-6B9A6194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FF76-DD71-4770-B084-6C3280FB9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olonial Society on the Eve of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0-17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Divers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Europ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s-Ir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us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of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p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byte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nom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ular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tritrade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7:26:13Z</dcterms:created>
  <dc:creator>tbabcock</dc:creator>
  <dc:description/>
  <dc:language>en-US</dc:language>
  <cp:lastModifiedBy>Student</cp:lastModifiedBy>
  <dcterms:modified xsi:type="dcterms:W3CDTF">2009-09-23T12:01:47Z</dcterms:modified>
  <cp:revision>12</cp:revision>
  <dc:subject/>
  <dc:title>Slide 1</dc:title>
</cp:coreProperties>
</file>