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BC07-D05F-48AA-99FD-8E4C8BC8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15A9-74E3-47A6-80FF-F07A20E3C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EC8-FFAF-4D39-85EF-402C1E41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2F0-85F6-400F-850E-5FF9E73A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B09-2E82-43B8-9B84-77FE919DD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3EFE-89EE-41D6-B7C7-5BE5AEA4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D1CF-F017-4E7B-BB69-AAC262AE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41F-FE27-483A-BDDE-B5102B0C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247-C7F1-4637-B269-AE045DE6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758-2EC9-41FE-862C-71EFF94F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71B-65B9-406D-AF5A-F931FFE6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235-48F5-4B9C-9C58-DA1F990B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931-7D2E-4929-9266-6B02E27E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22A-20B5-4990-8FFC-4C940CC2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F38-7FF0-4093-B44C-48BC1DE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EF7-0058-44DD-8C68-C7782874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894-BA47-480C-B09C-E12E993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066-096B-442A-AB63-9EAABAE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93E-D08B-446A-80B1-DE65CD95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A0C9-DC2B-4AFF-BADF-2FA5375F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olonial Society on the Eve of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0-17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Divers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Europ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s-Ir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us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of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p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byte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ular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tritrade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7:26:13Z</dcterms:created>
  <dc:creator>tbabcock</dc:creator>
  <dc:description/>
  <dc:language>en-US</dc:language>
  <cp:lastModifiedBy>Student</cp:lastModifiedBy>
  <dcterms:modified xsi:type="dcterms:W3CDTF">2009-09-23T12:01:47Z</dcterms:modified>
  <cp:revision>12</cp:revision>
  <dc:subject/>
  <dc:title>Slide 1</dc:title>
</cp:coreProperties>
</file>