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465D-43B4-48E2-BC7B-BC5D310DD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8B76-84CE-4811-A850-94CCAF35E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A4A7-DAEC-4910-820B-D3203123E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AE9E-CAC8-4347-B4D2-526C5FDB3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D149-49A0-4172-9CA4-8A3265C31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48B6-9E41-44F2-BDCF-A16551B7E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6C93-207D-4328-BE3F-DA1A41A76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F69-9177-47F8-9C08-70B06EAC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494-9D29-4719-B565-FED513BB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AB7-B302-4D45-9ABF-82BA7C3C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D83-3634-4B79-8AC7-BAC50C6A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34D-2D57-43A4-BB0B-F20C9818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7F8-BEBB-46F5-919D-902516FD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3BA-766D-443A-9BAE-5C3D0902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9AB-7CC2-40D7-AD81-CB01E00F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248D-2825-4205-9CDE-1622192E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4A0-847D-4F54-AC49-FC8BE2DF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5FF-6B8F-4C09-A726-E79B0A8C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49B-2C51-4035-A243-83784465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1A53-F7D1-49BD-8FB3-E11AFBD41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Colonial Society on the Eve of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00-17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nic Divers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 Europ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s-Ir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us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rch of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p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byter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i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nom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ngular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tritrade"/>
          <p:cNvPicPr/>
          <p:nvPr/>
        </p:nvPicPr>
        <p:blipFill>
          <a:blip r:embed="rId1"/>
          <a:stretch/>
        </p:blipFill>
        <p:spPr>
          <a:xfrm>
            <a:off x="533520" y="1295280"/>
            <a:ext cx="82296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7:26:13Z</dcterms:created>
  <dc:creator>tbabcock</dc:creator>
  <dc:description/>
  <dc:language>en-US</dc:language>
  <cp:lastModifiedBy>Student</cp:lastModifiedBy>
  <dcterms:modified xsi:type="dcterms:W3CDTF">2009-09-23T12:01:47Z</dcterms:modified>
  <cp:revision>12</cp:revision>
  <dc:subject/>
  <dc:title>Slide 1</dc:title>
</cp:coreProperties>
</file>