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EA31-B204-47DA-B5FA-B0F497F61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6CA4-F94B-4123-95D4-2E53738FB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041B-142E-4423-88BB-C21EC24AE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450E-AD30-4557-AF7D-B65B4CE82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1842-D0F3-4897-B037-E12829AD1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08CD-F9D1-4722-8160-C68CFEF37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6A16-2E3C-4BB5-ABFC-387D06E51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7803-6C62-4C8E-AA4D-5A9722A9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154D-5A7E-451A-8344-A81385BF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CC4-7B61-4D47-BDE5-9DCCF6C1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053-BEE2-470E-914F-AF6D9BEC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47C4-3B40-4810-AA0C-E735F394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4D22-6BE4-4CE7-B8B5-03FBB0B4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818-6686-4ED0-B6C7-657E6852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BCA3-78CD-4E33-9A9E-48AC09FB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8FE-24CA-4D2F-BF14-A7D16CFA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EBB-1155-490E-8354-ED9FAD58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B6FB-F9B0-44AB-B33B-C7FE54A7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584-F24E-4A04-81FA-E4A86D6E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0EC5-3BF9-4A7B-A10E-27BCAC68E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Colonial Society on the Eve of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00-17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nic Divers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d Europ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s-Ir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us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rch of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p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byter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i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enom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angular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tritrade"/>
          <p:cNvPicPr/>
          <p:nvPr/>
        </p:nvPicPr>
        <p:blipFill>
          <a:blip r:embed="rId1"/>
          <a:stretch/>
        </p:blipFill>
        <p:spPr>
          <a:xfrm>
            <a:off x="533520" y="1295280"/>
            <a:ext cx="82296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7:26:13Z</dcterms:created>
  <dc:creator>tbabcock</dc:creator>
  <dc:description/>
  <dc:language>en-US</dc:language>
  <cp:lastModifiedBy>Student</cp:lastModifiedBy>
  <dcterms:modified xsi:type="dcterms:W3CDTF">2009-09-23T12:01:47Z</dcterms:modified>
  <cp:revision>12</cp:revision>
  <dc:subject/>
  <dc:title>Slide 1</dc:title>
</cp:coreProperties>
</file>