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03F-4608-48F2-AA66-E9A41C10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8D7-F3A7-442C-9A7D-2904676A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1C8-6FD0-473E-95DD-69FEC936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07A-7B2B-4E21-B9E5-E2DDCEFD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474-2FDC-4796-9332-AD4120B7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743-8472-48A9-84B7-3DD5812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1AF-1DFA-4EE0-97EA-81EA49F4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2F9-9A5F-4C89-8B3E-80FD2230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37B-A5FA-4B03-B902-D117A41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A60-EECF-4A19-833A-627A4BE9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DDA-CC46-4BC2-998D-4DF36A3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296-F5DF-44B2-931B-B0D69C3F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AB5E-C74C-4782-97BF-569A75AD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lumbian Exch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 1607 under leadership of Captain John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rly settlers were interested in striking it rich, not working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 hardships in first few years, most of original settlers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 came in the form of Powhatans (especially Pocahontas)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 De La Warr escalated violence in the Colony between Colonists and Powha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Southern Plant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stability with Toba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presentative Self-Government experiment-Burg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haven for Catholics, established by Lord Balti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sugar ended 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nent state in the acceleration of sla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ffer against the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ony established by James Oglethorpe-mostly for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314360"/>
            <a:ext cx="720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E.-Most Impor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ablished the first “need” for Transatlantic Slave Tra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y of Tordesillas splits the “heathen lands” amongst Spain and 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accomplishments: Balboa (Pacific) and Magellan (Circumnavig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misadventures: Ponce de Leon, Coronado and de 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ro-Ruthless conqueror of the Incas (Peru)-Silver and Gold sent back to the Old World will floo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ices and led to a bigger 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s-Conquered Mexico, continued the “Columbian Excha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 of Spanish Ame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ontinued to build 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proselytization continues, its greatest impact can be seen in southwestern section of North America (Mi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n empire that ran from eastern coast of North America to Baja California to Central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Europe comp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nd France attempted to establish successful voyages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ot and Cartier (England) and Verrazano (France) explored Eastern Sea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de La Salle (France) down the Mississi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English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noke-Lost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 Years before James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e never revea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ata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-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Europe continued between Catholic and Protestant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I v. Phillip II (Charles V’s 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 of Spanish Armada opened up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to Spanish, English attempts at colonization were weak a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6:56:23Z</dcterms:created>
  <dc:creator>tbabcock</dc:creator>
  <dc:description/>
  <dc:language>en-US</dc:language>
  <cp:lastModifiedBy>tbabcock</cp:lastModifiedBy>
  <dcterms:modified xsi:type="dcterms:W3CDTF">2009-09-10T19:27:15Z</dcterms:modified>
  <cp:revision>23</cp:revision>
  <dc:subject/>
  <dc:title>Columbian Exchange </dc:title>
</cp:coreProperties>
</file>