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76F5-071A-43CD-90F6-64FB0B1E9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19E0-BAE6-4333-9465-122B0EDBE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5526-4C5B-4BFF-BDE3-97F8667AF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BFC1-FC26-4148-A87B-40A13B67D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A53E-B45D-453C-8206-8588EC36C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10AB-A72B-4BC4-BCD4-E4C7D0B9E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F173-EA14-41B4-9A8E-E7B4DA5A1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12D6-D398-45EC-A07F-75DBEC439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4EFA-ECB0-4BE4-8CE9-4ACFB8E61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2049-347A-469C-8F9A-1F101CF6E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5E58-7D4C-4414-B297-E5BCE4999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1477-8152-43BA-A716-6E5542D4B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A35C0-D92F-47D3-8392-DAB69188C6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olumbian Exchang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mestow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ablish in 1607 under leadership of Captain John Smi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Early settlers were interested in striking it rich, not working h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e hardships in first few years, most of original settlers d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id came in the form of Powhatans (especially Pocahontas) and tobac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rd De La Warr escalated violence in the Colony between Colonists and Powhat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ther Southern Planter Colon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gi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conomic stability with Tobac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 Representative Self-Government experiment-Burg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y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fe haven for Catholics, established by Lord Baltim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oli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ed in sugar ended in R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minent state in the acceleration of sla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org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buffer against the Spani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olony established by James Oglethorpe-mostly for deb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umbian Ex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71640" y="1314360"/>
            <a:ext cx="720072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.E.-Most Important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Established the first “need” for Transatlantic Slave Trad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anish Conquistad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eaty of Tordesillas splits the “heathen lands” amongst Spain and Portug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arly accomplishments: Balboa (Pacific) and Magellan (Circumnavigatio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arly misadventures: Ponce de Leon, Coronado and de So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anish Conquistad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zzaro-Ruthless conqueror of the Incas (Peru)-Silver and Gold sent back to the Old World will flood mar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d prices and led to a bigger banking indu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tes-Conquered Mexico, continued the “Columbian Exchang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read of Spanish Amer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nish continued to build an Emp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igious proselytization continues, its greatest impact can be seen in southwestern section of North America (Missio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d an empire that ran from eastern coast of North America to Baja California to Central and South Ame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rest of Europe compe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gland and France attempted to establish successful voyages to the New Wor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bot and Cartier (England) and Verrazano (France) explored Eastern Seabo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ert de La Salle (France) down the Mississipp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English Settl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anoke-Lost Colon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0 Years before Jamestow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te never reveal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roatan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mestown-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flict in Europe continued between Catholic and Protestant N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izabeth I v. Phillip II (Charles V’s S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eat of Spanish Armada opened up tra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ed to Spanish, English attempts at colonization were weak at b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9T16:56:23Z</dcterms:created>
  <dc:creator>tbabcock</dc:creator>
  <dc:description/>
  <dc:language>en-US</dc:language>
  <cp:lastModifiedBy>tbabcock</cp:lastModifiedBy>
  <dcterms:modified xsi:type="dcterms:W3CDTF">2009-09-10T19:27:15Z</dcterms:modified>
  <cp:revision>23</cp:revision>
  <dc:subject/>
  <dc:title>Columbian Exchange </dc:title>
</cp:coreProperties>
</file>