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634-0598-47F9-A280-E07EC17E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16C-F66D-4239-80D4-3D80D79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674-76BA-43BD-BCE7-DC578D1D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89F-BB79-46EF-B516-4D0CFC04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08A-E756-4117-9346-D046B4A4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A8A-CEEA-425E-981E-D5B71E3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6DB-3579-4D1C-92BB-46404797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4D5-1D46-4577-809D-FC22F456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376-31DD-42C3-9627-73604FA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0F7-9DB7-45BF-ACD5-822B0AD5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F1C-90B6-4AD3-81CF-5B31204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EE0-0924-41B9-852C-B06DEA8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283-4D3A-403B-8659-15B5E3E98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lumbian Exch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 1607 under leadership of Captain John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rly settlers were interested in striking it rich, not working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hardships in first few years, most of original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 came in the form of Powhatans (especially Pocahontas)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De La Warr escalated violence in the Colony between Colonists and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thern Plant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stability with Toba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presentative Self-Government experiment-Burg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haven for Catholics, established by Lord Balti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sugar ended 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nent state in the acceleration of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ffer against the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y established by James Oglethorpe-mostly for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314360"/>
            <a:ext cx="720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E.-Most Impor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ablished the first “need” for Transatlantic Slave T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y of Tordesillas splits the “heathen lands” amongst Spain and 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accomplishments: Balboa (Pacific) and Magellan (Circumnavig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misadventures: Ponce de Leon, Coronado and de 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-Ruthless conqueror of the Incas (Peru)-Silver and Gold sent back to the Old World will floo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ices and led to a bigger 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-Conquered Mexico, continued the “Columbian Excha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of Spanish Ame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tinued to build 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proselytization continues, its greatest impact can be seen in southwestern section of North America (Mi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n empire that ran from eastern coast of North America to Baja California to Central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Europe comp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nd France attempted to establish successful voyages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ot and Cartier (England) and Verrazano (France) explored Eastern Sea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de La Salle (France) down the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English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-Lost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Years before James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e never revea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ata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-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Europe continued between Catholic and Protestant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I v. Phillip II (Charles V’s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 of Spanish Armada opened up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to Spanish, English attempts at colonization were weak a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6:56:23Z</dcterms:created>
  <dc:creator>tbabcock</dc:creator>
  <dc:description/>
  <dc:language>en-US</dc:language>
  <cp:lastModifiedBy>tbabcock</cp:lastModifiedBy>
  <dcterms:modified xsi:type="dcterms:W3CDTF">2009-09-10T19:27:15Z</dcterms:modified>
  <cp:revision>23</cp:revision>
  <dc:subject/>
  <dc:title>Columbian Exchange </dc:title>
</cp:coreProperties>
</file>