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7600-1D77-4C14-895E-0762E2F0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051F-F20F-4DA7-9643-CD986A51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CD88-E01B-4445-BB7F-DAE597A95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9BCF-3383-4D86-B35F-96F6D67EB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5248-04AD-4133-9FEA-FDDD10C9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D4FF-12B3-429C-A6FD-0EA0F2C3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CC27-1F3F-4261-A14F-E1DB7FCD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44A3-BC4D-4A4F-B565-29BBA1A3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AB6F-5BBD-4BA4-8EA0-F906C36F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EAB7-65F1-4021-904D-E75EDA9C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D5F8-DFEB-4225-AE8C-A02BB966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6CF4-95BF-4719-9302-6B2FFEB9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31EB-CA8B-491A-8633-2AD0F49EF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lumbian Exchan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in 1607 under leadership of Captain John Sm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arly settlers were interested in striking it rich, not working 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e hardships in first few years, most of original settlers d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d came in the form of Powhatans (especially Pocahontas) and tobac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rd De La Warr escalated violence in the Colony between Colonists and Powhat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Southern Planter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gi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c stability with Tobac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Representative Self-Government experiment-Burg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 haven for Catholics, established by Lord Balti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ol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in sugar ended in 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inent state in the acceleration of sla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uffer against the Span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lony established by James Oglethorpe-mostly for deb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bian Ex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71640" y="1314360"/>
            <a:ext cx="72007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.E.-Most Important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stablished the first “need” for Transatlantic Slave Tra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ish Conquista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eaty of Tordesillas splits the “heathen lands” amongst Spain and Portug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rly accomplishments: Balboa (Pacific) and Magellan (Circumnavig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rly misadventures: Ponce de Leon, Coronado and de So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ish Conquista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zzaro-Ruthless conqueror of the Incas (Peru)-Silver and Gold sent back to the Old World will flood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prices and led to a bigger bank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tes-Conquered Mexico, continued the “Columbian Exchan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read of Spanish Ame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nish continued to build an Emp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us proselytization continues, its greatest impact can be seen in southwestern section of North America (Miss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an empire that ran from eastern coast of North America to Baja California to Central and Sou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t of Europe compe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 and France attempted to establish successful voyages to the New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bot and Cartier (England) and Verrazano (France) explored Eastern Sea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de La Salle (France) down the Mississip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English Sett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anoke-Lost Colon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 Years before Jamestow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e never revea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oatan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estown-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lict in Europe continued between Catholic and Protestant 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zabeth I v. Phillip II (Charles V’s S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at of Spanish Armada opened up 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d to Spanish, English attempts at colonization were weak at b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6:56:23Z</dcterms:created>
  <dc:creator>tbabcock</dc:creator>
  <dc:description/>
  <dc:language>en-US</dc:language>
  <cp:lastModifiedBy>tbabcock</cp:lastModifiedBy>
  <dcterms:modified xsi:type="dcterms:W3CDTF">2009-09-10T19:27:15Z</dcterms:modified>
  <cp:revision>23</cp:revision>
  <dc:subject/>
  <dc:title>Columbian Exchange </dc:title>
</cp:coreProperties>
</file>