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0683-844E-4035-B55F-357E6D04D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8D94-EA9F-47D0-B3E6-9F23587C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4379-7F2F-4389-A3F0-1C1D85286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CF83-8E6D-4992-8114-2B4651587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B801-1802-4749-AD63-0A7536C3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B9E5-3641-475B-BED6-02324AE8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18F9-3937-4435-940B-11E94804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B524-7D14-473A-AE46-D408544B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94DF-6D2C-4D62-865F-4189EF01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E80D-EC4F-4C21-8E6E-B1354516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CC07-6CF6-4ABE-9E1C-A60899D8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84D3-90FD-410D-A5CC-A5E72AEA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656A-A734-4249-9952-EEEA4572C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lumbian Exchan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in 1607 under leadership of Captain John Sm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arly settlers were interested in striking it rich, not working 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e hardships in first few years, most of original settlers d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d came in the form of Powhatans (especially Pocahontas) and tobac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rd De La Warr escalated violence in the Colony between Colonists and Powhat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Southern Planter Colon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gi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c stability with Tobac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Representative Self-Government experiment-Burg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 haven for Catholics, established by Lord Balti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ol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in sugar ended in 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inent state in the acceleration of sla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uffer against the Span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lony established by James Oglethorpe-mostly for deb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bian Ex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71640" y="1314360"/>
            <a:ext cx="72007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.E.-Most Important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stablished the first “need” for Transatlantic Slave Tra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ish Conquista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eaty of Tordesillas splits the “heathen lands” amongst Spain and Portug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rly accomplishments: Balboa (Pacific) and Magellan (Circumnavig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rly misadventures: Ponce de Leon, Coronado and de So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ish Conquista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zzaro-Ruthless conqueror of the Incas (Peru)-Silver and Gold sent back to the Old World will flood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prices and led to a bigger bank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tes-Conquered Mexico, continued the “Columbian Exchan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read of Spanish Amer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nish continued to build an Emp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us proselytization continues, its greatest impact can be seen in southwestern section of North America (Miss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an empire that ran from eastern coast of North America to Baja California to Central and Sou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t of Europe compe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 and France attempted to establish successful voyages to the New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bot and Cartier (England) and Verrazano (France) explored Eastern Sea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de La Salle (France) down the Mississip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English Sett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anoke-Lost Colon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 Years before Jamestow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e never revea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oatan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estown-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lict in Europe continued between Catholic and Protestant 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zabeth I v. Phillip II (Charles V’s S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at of Spanish Armada opened up 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d to Spanish, English attempts at colonization were weak at b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6:56:23Z</dcterms:created>
  <dc:creator>tbabcock</dc:creator>
  <dc:description/>
  <dc:language>en-US</dc:language>
  <cp:lastModifiedBy>tbabcock</cp:lastModifiedBy>
  <dcterms:modified xsi:type="dcterms:W3CDTF">2009-09-10T19:27:15Z</dcterms:modified>
  <cp:revision>23</cp:revision>
  <dc:subject/>
  <dc:title>Columbian Exchange </dc:title>
</cp:coreProperties>
</file>