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3F1-8BA5-4780-B227-6DEB2DCC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CA9-8800-4A2F-A734-E789D88A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2BC-EDDF-4528-8565-2A7DB04D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056-FED3-4C89-9538-73CD28A1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F29-2BD9-4D9C-B7A9-137C8457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1D8-724E-4F58-8B19-7F61A15B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AD7-B5C7-4247-85F3-66998BE9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511-AD1C-4B33-A59A-ACD162A4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21B-4444-4429-AF37-44B5A2C1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8AC-19CB-4F8D-BA76-E2A6D16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3CB-BE28-4845-8E70-A3191723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5B6-0FA9-4653-BB48-59F0EA2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9043-C177-4C97-B268-AED1605F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eministe.us/blog/wp-content/uploads/2009/08/thomas-jefferson1.JPG&amp;imgrefurl=http://feministblogs.org/tag/slavery/&amp;usg=__FeLMUugUsJgt0gDY27ed4OuQw4A=&amp;h=412&amp;w=451&amp;sz=40&amp;hl=en&amp;start=11&amp;sig2=cdvahNSsYJrlZCJIDKvD_w&amp;um=1&amp;tbnid=J0_oUtiJTz5ZqM:&amp;tbnh=116&amp;tbnw=127&amp;prev=/images%3Fq%3Dthomas%2Bjefferson%2Bhumor%26ndsp%3D20%26hl%3Den%26safe%3Dactive%26sa%3DN%26um%3D1&amp;ei=tCrnStfbK46sMZ2f2OwH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samuelatgilgal.files.wordpress.com/2009/01/napoleon_bonaparte_1175088533032877.jpg&amp;imgrefurl=http://samuelatgilgal.wordpress.com/2009/01/26/napoleon-bonaparte-the-gospel-is-not-a-book/&amp;usg=__cmHKjRseX1ZQjqAqL1brQcfZOZc=&amp;h=416&amp;w=324&amp;sz=33&amp;hl=en&amp;start=7&amp;um=1&amp;tbnid=BKrJ0JuFipfdaM:&amp;tbnh=125&amp;tbnw=97&amp;prev=/images%3Fq%3DNapoleon%26hl%3Den%26um%3D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google.com/imgres?imgurl=http://www.sheilaomalley.com/477px-James_Monroe_02.jpg&amp;imgrefurl=http://www.sheilaomalley.com/archives/2008_02.html&amp;usg=__6DnIdFkIuC0pjpSWhyKc3UWinKE=&amp;h=600&amp;w=477&amp;sz=48&amp;hl=en&amp;start=1&amp;um=1&amp;tbnid=HK-cM-vbmELyBM:&amp;tbnh=135&amp;tbnw=107&amp;prev=/images%3Fq%3DJames%2BMonroe%26hl%3Den%26um%3D1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google.com/imgres?imgurl=http://images.absoluteastronomy.com/images/encyclopediaimages/r/ro/robert_r_livingston_(1718-1775).jpg&amp;imgrefurl=http://www.absoluteastronomy.com/topics/Robert_Livingston_(1718-1775)&amp;usg=__kDrMTMycxDchzgxiWUMClBTOElc=&amp;h=291&amp;w=200&amp;sz=13&amp;hl=en&amp;start=1&amp;um=1&amp;tbnid=oU7RAXx6Wg1XOM:&amp;tbnh=115&amp;tbnw=79&amp;prev=/images%3Fq%3DRobert%2Blivingston%26hl%3Den%26um%3D1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frenchcreoles.com/CreoleCulture/famouscreoles/Toussaint_L%27Ouverture.jpg&amp;imgrefurl=http://www.frenchcreoles.com/CreoleCulture/famouscreoles/famousecreolesindex_NEW3.html&amp;usg=__hVPVF7mPIPUWXPkuh3ldITHgYpw=&amp;h=642&amp;w=450&amp;sz=199&amp;hl=en&amp;start=8&amp;um=1&amp;tbnid=VoCF6_zJXUhz6M:&amp;tbnh=137&amp;tbnw=96&amp;prev=/images%3Fq%3DToussaint%2BL%25E2%2580%2599Ouverture%26hl%3Den%26sa%3DG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history.sandiego.edu/gen/st/~ksoroka/LPterritory.jpg&amp;imgrefurl=http://history.sandiego.edu/gen/st/~ksoroka/title.html&amp;usg=__dSackKuFVuBh5c7O-6x6HO1d8pA=&amp;h=363&amp;w=511&amp;sz=54&amp;hl=en&amp;start=6&amp;um=1&amp;tbnid=ssOlQK1h5eNeAM:&amp;tbnh=93&amp;tbnw=131&amp;prev=/images%3Fq%3DLouisiana%2Bpurchase%26hl%3Den%26sa%3DX%26um%3D1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s://tuckahoe.wikispaces.com/file/view/LouisianaPurchaseMap.jpg&amp;imgrefurl=https://tuckahoe.wikispaces.com/Which%2Bterritory%2Bdid%2BJefferson%2Bpurchase%2Bfrom%2BFrance,%2Bwhich%2Bdoubled%2Bthe%2Bsize%2Bof%2Bthe%2BUnited%2BStates%253F%2B(2)%3Ff%3Dprint&amp;usg=__VaE86eUuPwAOAPpeid9jvfk73_w=&amp;h=353&amp;w=561&amp;sz=47&amp;hl=en&amp;start=6&amp;um=1&amp;tbnid=WqU7LVSRrniaYM:&amp;tbnh=84&amp;tbnw=133&amp;prev=/images%3Fq%3DLouisiana%2BTerritory%26hl%3Den%26sa%3DX%26um%3D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www.prairieghosts.com/Lewis.gif&amp;imgrefurl=http://www.prairieghosts.com/meriwet.html&amp;usg=__eQZkv2LvXftzPDxlkBUjXiNJZEI=&amp;h=397&amp;w=300&amp;sz=95&amp;hl=en&amp;start=1&amp;um=1&amp;tbnid=6Z8OvBvRw44-fM:&amp;tbnh=124&amp;tbnw=94&amp;prev=/images%3Fq%3Dlewis%26hl%3Den%26um%3D1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www.kshs.org/exhibits/blc/graphics/clark.jpg&amp;imgrefurl=http://www.kshs.org/cool3/williamclarkpapers.htm&amp;usg=__FQzxqWCaJnRKhaMz01tAJ8A5s2U=&amp;h=387&amp;w=319&amp;sz=133&amp;hl=en&amp;start=3&amp;um=1&amp;tbnid=biUQJ7E_86M9nM:&amp;tbnh=123&amp;tbnw=101&amp;prev=/images%3Fq%3Dclark%26hl%3Den%26um%3D1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shistory-search.com/shop/images/uploads/page14_1.jpg&amp;imgrefurl=http://www.ushistory-search.com/shop/americana/memoirs-of-aaron-burr/prod_61.html&amp;usg=__guaxLbQfeAqri5d_EJ6v74B8SHk=&amp;h=279&amp;w=228&amp;sz=9&amp;hl=en&amp;start=4&amp;um=1&amp;tbnid=TMcGnHccLF4QGM:&amp;tbnh=114&amp;tbnw=93&amp;prev=/images%3Fq%3Daaron%2Bburr%26hl%3Den%26um%3D1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napoleonguide.com/images/navy_british_ships.jpg&amp;imgrefurl=http://www.napoleonguide.com/pixs_britishships.htm&amp;usg=__R2liiJgxD5Y6v_by6E3AW9h4ICk=&amp;h=403&amp;w=600&amp;sz=61&amp;hl=en&amp;start=1&amp;um=1&amp;tbnid=D2cwmsLN1SYpFM:&amp;tbnh=91&amp;tbnw=135&amp;prev=/images%3Fq%3DBritish%2Bships%26hl%3Den%26um%3D1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exploringafrica.matrix.msu.edu/images/slave_routes.jpg&amp;imgrefurl=http://exploringafrica.matrix.msu.edu/teachers/curriculum/m7b/activity1.php&amp;usg=__eVilprZpq_8lZ2-S47hgthXv3Nc=&amp;h=558&amp;w=558&amp;sz=174&amp;hl=en&amp;start=11&amp;um=1&amp;tbnid=DRU8ZR0GhherYM:&amp;tbnh=133&amp;tbnw=133&amp;prev=/images%3Fq%3DAmerica%2Bgoods%2Btrade%2Broutes%2Bin%2BEurope%2Bmap%26hl%3Den%26um%3D1" TargetMode="External"/><Relationship Id="rId5" Type="http://schemas.openxmlformats.org/officeDocument/2006/relationships/image" Target="../media/image27.jpe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confettidreams.files.wordpress.com/2009/08/saving-money-clip-art.jpg&amp;imgrefurl=http://confettidreams.wordpress.com/2009/08/05/bts-school-shopping-on-a-budget/&amp;usg=__1Fki7AA7YOjMNfT-gJxEe9ZF3xU=&amp;h=288&amp;w=240&amp;sz=16&amp;hl=en&amp;start=10&amp;tbnid=vR2YOUAES7AvkM:&amp;tbnh=115&amp;tbnw=96&amp;prev=/images%3Fq%3Dmoney%2Bclip%2Bart%26gbv%3D2%26hl%3De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questgarden.com/62/83/3/080320182924/images/James_Madison.jpg&amp;imgrefurl=http://www.questgarden.com/62/83/3/080320182924/conclusion.htm&amp;usg=__61dOp5Owfwx2Npv_uXQoO7s-awg=&amp;h=348&amp;w=375&amp;sz=20&amp;hl=en&amp;start=1&amp;tbnid=PBWiscVDAm5YiM:&amp;tbnh=113&amp;tbnw=122&amp;prev=/images%3Fq%3DJames%2BMadison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aclu.org/images/safefree/adams.jpg&amp;imgrefurl=http://www.aclu.org/safefree/detention/johnadams.html&amp;usg=__PGkSXB-TvxFynAl28uKxVycnGFU=&amp;h=469&amp;w=402&amp;sz=14&amp;hl=en&amp;start=4&amp;um=1&amp;tbnid=KtR5KedeGuOvQM:&amp;tbnh=128&amp;tbnw=110&amp;prev=/images%3Fq%3Dadams%26hl%3Den%26um%3D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riverdaughter.files.wordpress.com/2009/08/jefferson.jpg&amp;imgrefurl=http://riverdaughter.wordpress.com/2009/08/30/vpresident-evil-on-fox-waterboarding-good-policy/&amp;usg=__i4LOyE_DsUewJGovaDvEz1UoGCk=&amp;h=407&amp;w=314&amp;sz=22&amp;hl=en&amp;start=1&amp;um=1&amp;tbnid=cbhaaMMGmspzHM:&amp;tbnh=125&amp;tbnw=96&amp;prev=/images%3Fq%3Djefferson%26hl%3Den%26sa%3DN%26um%3D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eteamz.com/savannahindianssoftball/images/american_indian_clipart_3.gif&amp;imgrefurl=http://www.eteamz.com/savannahindianssoftball/&amp;usg=__RbSjdoE6UxC8UnAe3f8Q354DgGE=&amp;h=200&amp;w=180&amp;sz=11&amp;hl=en&amp;start=2&amp;tbnid=saj6VaON-UcQNM:&amp;tbnh=104&amp;tbnw=94&amp;prev=/images%3Fq%3Dindians%2Bclipart%26gbv%3D2%26hl%3Den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historycomesalive.ca/canadians/images/tecumseh.jpg&amp;imgrefurl=http://www.historycomesalive.ca/canadians/images/pantherpics.htm&amp;usg=__KHEzQdExwgvf6cTiayuZPOLDaLM=&amp;h=336&amp;w=274&amp;sz=16&amp;hl=en&amp;start=1&amp;tbnid=fC95wddv-LMrMM:&amp;tbnh=119&amp;tbnw=97&amp;prev=/images%3Fq%3Dtecumseh%26gbv%3D2%26hl%3Den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legendsofamerica.com/photos-oldwest/Indian%2520fighters,%25201907,%2520Frederic%2520Remington-500.jpg&amp;imgrefurl=http://www.legendsofamerica.com/na-modoc.html&amp;usg=__Xo5dYs0pEwi3ic4xZHdCjWwHjOk=&amp;h=334&amp;w=500&amp;sz=110&amp;hl=en&amp;start=9&amp;tbnid=xJ0z983xm9ugQM:&amp;tbnh=87&amp;tbnw=130&amp;prev=/images%3Fq%3Dfighting%2BIndians%26gbv%3D2%26hl%3Den%26sa%3DX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upload.wikimedia.org/wikipedia/commons/3/3d/Battle_of_Horseshoe_Bend.jpg&amp;imgrefurl=http://commons.wikimedia.org/wiki/File:Battle_of_Horseshoe_Bend.jpg&amp;usg=__5T4f1-qtCK7KRj1nxUEKfxvfeoo=&amp;h=485&amp;w=771&amp;sz=93&amp;hl=en&amp;start=1&amp;tbnid=BPvsCGI-n5kUVM:&amp;tbnh=89&amp;tbnw=142&amp;prev=/images%3Fq%3Dbattle%2Bof%2Bhorseshoe%2Bbend%26gbv%3D2%26hl%3Den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americanheritage.com/assets/images/articles/web/20080320-JohnAdams.jpg&amp;imgrefurl=http://www.americanheritage.com/places/articles/web/20080319-Adams_National_Historical_Park_John_Adams_Historica_Houses_Travel_Tourism_Boston.shtml&amp;usg=__bhV72_Uc_DckEzACf7vG9ihdKuY=&amp;h=341&amp;w=280&amp;sz=51&amp;hl=en&amp;start=16&amp;um=1&amp;tbnid=JvQApJn42KdmDM:&amp;tbnh=120&amp;tbnw=99&amp;prev=/images%3Fq%3Dadams%26hl%3Den%26sa%3DG%26um%3D1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www.isep.org/Students/Directory/maps/france_map.jpg&amp;imgrefurl=http://www.isep.org/Students/Directory/member_site.asp%3FCSID%3D77&amp;usg=__F1Q2jyNn28ZOJixahs6Nn1IYXr8=&amp;h=327&amp;w=320&amp;sz=22&amp;hl=en&amp;start=11&amp;um=1&amp;tbnid=eqsWPoTnnXh0CM:&amp;tbnh=118&amp;tbnw=115&amp;prev=/images%3Fq%3Dfrance%26hl%3Den%26um%3D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digitalhistory.uh.edu/learning_history/burr/election1800.jpg&amp;imgrefurl=http://www.digitalhistory.uh.edu/learning_history/burr/burr_teacher.cfm&amp;usg=__ym7qxw1Sjz69ql32wPc1utgYjYI=&amp;h=217&amp;w=250&amp;sz=20&amp;hl=en&amp;start=5&amp;um=1&amp;tbnid=TWcXusDhb_X0yM:&amp;tbnh=96&amp;tbnw=111&amp;prev=/images%3Fq%3DJefferson%2Bvs.%2BBurr%2Bpresidential%2Belection%2Bof%2B1800%26hl%3Den%26um%3D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supremecourthistory.org/history/images/004_marshall.jpg&amp;imgrefurl=http://www.supremecourthistory.org/history/supremecourthistory_history_chief_004marshall.htm&amp;usg=__nN5tBAyiI88iFpe6RfS8KTYji7Y=&amp;h=400&amp;w=310&amp;sz=21&amp;hl=en&amp;start=8&amp;um=1&amp;tbnid=oSslRyu29cRbHM:&amp;tbnh=124&amp;tbnw=96&amp;prev=/images%3Fq%3DJohn%2BMarshall%26hl%3Den%26um%3D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knowledgenews.net/moxie/moxiepix/a1175.jpg&amp;imgrefurl=http://knowledgenews.net/moxie/americana/marbury-madison-2.shtml&amp;usg=__mWIAe_dn9b0WEfArgc6jhFlGUFw=&amp;h=300&amp;w=400&amp;sz=27&amp;hl=en&amp;start=1&amp;um=1&amp;tbnid=mLOaYgzpQ1pMYM:&amp;tbnh=93&amp;tbnw=124&amp;prev=/images%3Fq%3Dmarbury%2Bv.%2Bmadison%26hl%3Den%26um%3D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niahd.wm.edu/attachments/30394.jpg&amp;imgrefurl=http://niahd.wm.edu/%3Fbrowse%3Dentry%26id%3D9629&amp;usg=__75ZDwO5xUSl2jp6A7w8uwN_yZ4w=&amp;h=1025&amp;w=675&amp;sz=42&amp;hl=en&amp;start=2&amp;um=1&amp;tbnid=oZAvMqlz5zjB6M:&amp;tbnh=150&amp;tbnw=99&amp;prev=/images%3Fq%3DJohn%2BMarshall%26hl%3Den%26um%3D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upload.wikimedia.org/wikipedia/commons/9/91/United_states_supreme_court_building.png&amp;imgrefurl=http://commons.wikimedia.org/wiki/File:United_states_supreme_court_building.png&amp;usg=__7BEzPPoUCqBeSPcHPK51oYsVaFs=&amp;h=2015&amp;w=3091&amp;sz=9925&amp;hl=en&amp;start=6&amp;um=1&amp;tbnid=CbtsNUoeAY8vHM:&amp;tbnh=98&amp;tbnw=150&amp;prev=/images%3Fq%3Dsupreme%2Bcourt%2Bbuilding%26hl%3Den%26um%3D1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del.edu/CSC/images/Army-Logo.gif&amp;imgrefurl=http://www.udel.edu/CSC/brac.html&amp;usg=__EKBSmGRn2LSiGnMzbliMiWIYvgo=&amp;h=469&amp;w=350&amp;sz=10&amp;hl=en&amp;start=1&amp;um=1&amp;tbnid=jT6ofvhscjmuFM:&amp;tbnh=128&amp;tbnw=96&amp;prev=/images%3Fq%3Darmy%26hl%3Den%26um%3D1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www.fasw.navy.mil/arc/img/Navy.jpg&amp;imgrefurl=http://www.fasw.navy.mil/&amp;usg=__CS1jmjCNDPYn0-uBqsKuzkolEZw=&amp;h=900&amp;w=900&amp;sz=168&amp;hl=en&amp;start=3&amp;um=1&amp;tbnid=D_mR9_eFIUxJxM:&amp;tbnh=146&amp;tbnw=146&amp;prev=/images%3Fq%3Dnavy%26hl%3Den%26um%3D1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joelertola.com/grfx/grfx_new/barbary_map.jpg&amp;imgrefurl=http://www.wewantliberty.com/2008/06/war-on-terror.html&amp;usg=__rBGNqsEHsdLgwkfhOuKBSHwva1E=&amp;h=913&amp;w=1000&amp;sz=265&amp;hl=en&amp;start=16&amp;um=1&amp;tbnid=DQWVWR_hm9IdbM:&amp;tbnh=136&amp;tbnw=149&amp;prev=/images%3Fq%3DFour%2BBarbary%2BStates%2Bof%2BNorth%2BAfrica,%2Bc.%2B1805%2Bmap%26hl%3Den%26um%3D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n of the Jeffersoni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s-R.I.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00400" cy="222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273720" y="3048120"/>
            <a:ext cx="287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uisiana Godsen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0, the king of Spain gave the Louisiana region to Napole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oleon controlling Louisiana to Americans would lead to a blood drenched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3, Jefferson sent James Monroe to Paris to join Robert Livingston on a mission to by New Orleans and as much land to the east for $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posal fail- Jefferson form alliance with Britain (not g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aculously, Napoleon sold all of Louisiana and abandoned his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t1.gstatic.com/images?q=tbn:BKrJ0JuFipfdaM:http://samuelatgilgal.files.wordpress.com/2009/01/napoleon_bonaparte_117508853303287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4191120"/>
            <a:ext cx="1462320" cy="1885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t0.gstatic.com/images?q=tbn:HK-cM-vbmELyBM:http://www.sheilaomalley.com/477px-James_Monroe_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4419720"/>
            <a:ext cx="1342800" cy="1695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t1.gstatic.com/images?q=tbn:oU7RAXx6Wg1XOM:http://images.absoluteastronomy.com/images/encyclopediaimages/r/ro/robert_r_livingston_(1718-1775)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43600" y="4343400"/>
            <a:ext cx="121752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Napoleon Selling Louis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t1.gstatic.com/images?q=tbn:VoCF6_zJXUhz6M:http://www.frenchcreoles.com/CreoleCulture/famouscreoles/Toussaint_L%27Ouvertur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828800"/>
            <a:ext cx="117468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e had failed to conquer sugar-rich Santo Domingo, which Louisiana would supply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ssaint L’Ouverture led a group of ex-slaves who put up a stubborn resistance on the island that was ultimately broken.  He did much to set up the sale of Louisiana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fever mosquitoes were another defensiv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poleon was about to end 20 month lull with Britain.  Since they control the seas, he was afraid he would have to surrender Louis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oped selling it to the United States would allow them to be stronger and become a strong military and naval power agains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ttp://t1.gstatic.com/images?q=tbn:ssOlQK1h5eNeAM:http://history.sandiego.edu/gen/st/~ksoroka/LPterri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559480"/>
            <a:ext cx="1828800" cy="1298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in the Lo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23880"/>
            <a:ext cx="3814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 gaining Louisiana, Americans secured the western half of the richest river valley in the world and further laid the foundation of a future major pow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lay the precedent for the acquisition of foreign territory and peoples by purch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the spring of 1804, Jefferson sent Meriwether Lewis and William Clark to explore the new territ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y crossed the Missouri River, went through the Rockies, and descended down the Columbia River to the Pacific coa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1805-1806, Zebulon M. Pike explored the Southern portion of the Louisiana Territory and named the Colorado pea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http://t3.gstatic.com/images?q=tbn:WqU7LVSRrniaYM:https://tuckahoe.wikispaces.com/file/view/LouisianaPurchase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14600"/>
            <a:ext cx="3886200" cy="24541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4648320" y="2514600"/>
            <a:ext cx="819000" cy="609480"/>
            <a:chOff x="4648320" y="2514600"/>
            <a:chExt cx="819000" cy="609480"/>
          </a:xfrm>
        </p:grpSpPr>
        <p:pic>
          <p:nvPicPr>
            <p:cNvPr id="98" name="Picture 14" descr="http://t2.gstatic.com/images?q=tbn:6Z8OvBvRw44-fM:http://www.prairieghosts.com/Lewis.gif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648320" y="2514600"/>
              <a:ext cx="461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6" descr="http://t0.gstatic.com/images?q=tbn:biUQJ7E_86M9nM:http://www.kshs.org/exhibits/blc/graphics/clark.jp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029200" y="2590560"/>
              <a:ext cx="4381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aron Burr Conspira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ed the fortunes of the United States , but raised fears of succ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plotted to separate New England and New York but was halted by Hamilton in a d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Burr killed Hamilton and ended the Federalists hope of effective 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then plotted with Wilkinson’s army to separate the western part of the United St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In the fall of 1806, Burr and followers went down to meet Wilkinson but he found out Jefferson knew and deserted Bu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was arrested and tried for treason, but Chief Justice John Marshall claimed verdict needed overt acts of treason.  Therefore, Burr was acquitted and fled/exiled to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http://t2.gstatic.com/images?q=tbn:TMcGnHccLF4QGM:http://www.ushistory-search.com/shop/images/uploads/page14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057400"/>
            <a:ext cx="2549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carious Neu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75248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4: Jefferson reelected with a storm brewing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poleon provoked WAR with Britain last would last for 11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6 Britain issued Orders of the Council, closed French control ports to foreign shipping, even America, unless first came to British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8-1811 Britain impressed US citizens to join their na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7-British demanded the surrender of four alleged deserters.  London had never done this, so American commander refused the requ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response………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IRE!!!!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fferson declare war?   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t0.gstatic.com/images?q=tbn:D2cwmsLN1SYpFM:http://www.napoleonguide.com/images/navy_british_ship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90920"/>
            <a:ext cx="2971800" cy="20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ted Emb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752480"/>
            <a:ext cx="338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Act established in 1807 forbade the export of all goods from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between submission and 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t backfired because New England had deserted ports, and the south and west had piles of unexported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a storm of citizens’ anger, Congress repealed the act on March 1, 18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http://t0.gstatic.com/images?q=tbn:DRU8ZR0GhherYM:http://exploringafrica.matrix.msu.edu/images/slave_rout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20574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3"/>
          <p:cNvSpPr/>
          <p:nvPr/>
        </p:nvSpPr>
        <p:spPr>
          <a:xfrm>
            <a:off x="4952880" y="1981080"/>
            <a:ext cx="2895840" cy="289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-bye Embargo Hello Non- Intercours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276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pened trade with all nations EXCEPT England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 the embargo fail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Jefferson underestimated Britain dependence on American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,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was not carried out long enough to b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stly tha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36"/>
          <p:cNvSpPr/>
          <p:nvPr/>
        </p:nvSpPr>
        <p:spPr>
          <a:xfrm>
            <a:off x="5105520" y="2133720"/>
            <a:ext cx="1066680" cy="3809880"/>
          </a:xfrm>
          <a:prstGeom prst="downArrow">
            <a:avLst>
              <a:gd name="adj1" fmla="val 50000"/>
              <a:gd name="adj2" fmla="val 8929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38" descr="http://t0.gstatic.com/images?q=tbn:vR2YOUAES7AvkM:http://confettidreams.files.wordpress.com/2009/08/saving-money-clip-ar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2819520"/>
            <a:ext cx="1398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1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28"/>
          <p:cNvSpPr/>
          <p:nvPr/>
        </p:nvSpPr>
        <p:spPr>
          <a:xfrm>
            <a:off x="3352680" y="-228600"/>
            <a:ext cx="2590920" cy="2895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argo Brings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revives the Federalist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gland reopens old factories and erects new ones.  The foundation for American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hurt Britain and in 1812 British suspends Order of Council, but Congress declared war two day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Jefferson’s plan worked but Americans were not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ison: “Dupe of Napole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leaves office in 1809 and left a legacy of democratic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successor James Madison takes the oath on March 4, 18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in effective leadership, unable to dominate his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Intercourse Act of 1809 ends so Congress adopts Macon’s Bill No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31" descr="http://t2.gstatic.com/images?q=tbn:PBWiscVDAm5YiM:http://www.questgarden.com/62/83/3/080320182924/images/James_Madi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4495680"/>
            <a:ext cx="19047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ploma"/>
              </a:rPr>
              <a:t>Macon’s Bill No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reepy"/>
              </a:rPr>
              <a:t>The Master of Dec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untry repealed its restrictions, America would restore Non-importation against the Non-Repealing 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hort, bri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wanted a partial blockade against Britain so in August of 1810, he agreed to repeal with out any intention of doing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keep American rights, Madison issue nonimportation agains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t1.gstatic.com/images?q=tbn:IXz5GC7qS4G8DM:http://www.buttonland.com/free_powerpoint_templates/futuristic_powerpoint_background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s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s and Jefferson were the two front runners in 1800 (for p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ists’ Alien and Sedition Acts aroused many en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ian wing, robbed of war with France, split with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sper Campaig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://t1.gstatic.com/images?q=tbn:KtR5KedeGuOvQM:http://www.aclu.org/images/safefree/ada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133720"/>
            <a:ext cx="1649520" cy="192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2.gstatic.com/images?q=tbn:cbhaaMMGmspzHM:http://riverdaughter.files.wordpress.com/2009/08/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2133720"/>
            <a:ext cx="1461960" cy="1904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Whoops arouse the War Haw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” were fired up for a war with Britain like their fathers befor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 “Free Trade and Sailors’ Rights” even though they lived far from the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d if America could not fight to protect its rights, other nations would look down on its republica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ger to wipe out the renewed Indian threat to the pioneer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while, Indians watched as Kentucky, which served as a buffer and hunting reserve, was being outnumbered by white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31" descr="http://t2.gstatic.com/images?q=tbn:saj6VaON-UcQNM:http://www.eteamz.com/savannahindianssoftball/images/american_indian_clipart_3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2438280"/>
            <a:ext cx="241128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umseh and the Prop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87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ee brothers formed a confederacy of tribes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attempt at Indian alliance against whites and inspired a vibrant movement of Indian unity cultural revit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d followers to resist white ways and revive their tradi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31" descr="http://t1.gstatic.com/images?q=tbn:fC95wddv-LMrMM:http://www.historycomesalive.ca/canadians/images/tecumse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2438280"/>
            <a:ext cx="1857240" cy="2279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Fight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02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eople fear British in Canada are helping In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, 1811, American General William Henry Harrison advanced upon Tecumseh’s headquarters at Tippecanoe.  He forced Indians from the village and burned it 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13, Tecumseh was killed at the Battle of Th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him perished the dream of an Indian confede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ttp://t3.gstatic.com/images?q=tbn:xJ0z983xm9ugQM:http://www.legendsofamerica.com/photos-oldwest/Indian%2520fighters,%25201907,%2520Frederic%2520Remington-5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2743200"/>
            <a:ext cx="264780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Keep on Keep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Jackson defeated the Creek Indians at the Battle of Horseshoe Bend on March 12, 18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Indians victories end resistance to white expansion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hawks blood rises, and they shoot to wipe out Canadian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ke a declaration of war in June 18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pro-British commercial center as well as middle Atlantic states opposed war.  The vote showed dis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t0.gstatic.com/images?q=tbn:BPvsCGI-n5kUVM:http://upload.wikimedia.org/wikipedia/commons/3/3d/Battle_of_Horseshoe_Ben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665440"/>
            <a:ext cx="2895480" cy="1816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Madison’s War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Battle With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309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fight the British instead of the Fren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impressments and arming of Ind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ada on the mind of many Americans, who believed taking it would be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sition: New Englanders who were still raking in money and Pro-British, Napoleon despising Feder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Federalists opposed the War of 1812 because of the acquisition of Canada feared an increase in Jeffersonian Republic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enemies: Old England and New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ided nation vs. World’s Most Powerful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hope for vi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http://t2.gstatic.com/images?q=tbn:woVaPVUrwoQOFM:http://orchard.sbschools.net/library/links/colonies.gif"/>
          <p:cNvPicPr/>
          <p:nvPr/>
        </p:nvPicPr>
        <p:blipFill>
          <a:blip r:embed="rId4"/>
          <a:stretch/>
        </p:blipFill>
        <p:spPr>
          <a:xfrm>
            <a:off x="4419720" y="1295280"/>
            <a:ext cx="2108160" cy="243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3.gstatic.com/images?q=tbn:oqT_Xw9EIrlxBM:http://www.hertfordshire.com/pages/maps/images/great-britain-map.gif"/>
          <p:cNvPicPr/>
          <p:nvPr/>
        </p:nvPicPr>
        <p:blipFill>
          <a:blip r:embed="rId5"/>
          <a:stretch/>
        </p:blipFill>
        <p:spPr>
          <a:xfrm>
            <a:off x="7010280" y="3962520"/>
            <a:ext cx="169560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0"/>
          <p:cNvSpPr/>
          <p:nvPr/>
        </p:nvSpPr>
        <p:spPr>
          <a:xfrm rot="5495400">
            <a:off x="5105520" y="3657240"/>
            <a:ext cx="129528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blow: Adams refused to have France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s increased public debt and caused new taxes. (un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ists trash Jefferson for his religious, liberal, and slave rum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t0.gstatic.com/images?q=tbn:JvQApJn42KdmDM:http://www.americanheritage.com/assets/images/articles/web/20080320-JohnAdam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828800"/>
            <a:ext cx="13827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t2.gstatic.com/images?q=tbn:eqsWPoTnnXh0CM:http://www.isep.org/Students/Directory/maps/france_map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352680"/>
            <a:ext cx="163368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effersonian Revolution of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’s votes came from south, west, and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had same electoral votes as Aaron Burr; decided by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controlled by Federalists-wanted Bu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called it a revolution/ peaceful and orderl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t3.gstatic.com/images?q=tbn:TWcXusDhb_X0yM:http://www.digitalhistory.uh.edu/learning_history/burr/election18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676520"/>
            <a:ext cx="3504960" cy="44193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ian Restraint: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etermined to undo the Federalist abuses begotten by the anti-French hyste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en and Sedition Acts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yrs were pardoned, government remitted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ian enacted the Naturalization Law of 1802: reduced the unreasonable requirement of fourteen years of residence to the previous and more reasonable requirement of fiv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hated “excise tax” which bred bureaucrats and bore heavily on his farmer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government 1 million dollars in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Dead Clutch” of the Judici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bed” Judiciary Act of 1801 one of the last important laws passed by the expiring Federalist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6 new federal judgeships and other judici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, sealed but not delive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rshall (Federalist), cousin of Jefferson, dominated the Supreme Court with powerful intellect and command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d the American Legal tradition more profoundly than any other singl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334120" y="1143000"/>
            <a:ext cx="3809880" cy="2743200"/>
          </a:xfrm>
          <a:prstGeom prst="leftArrow">
            <a:avLst>
              <a:gd name="adj1" fmla="val 50000"/>
              <a:gd name="adj2" fmla="val 347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his last day in office, Ad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ed until 9 suppos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ng the commissions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udges; therefore, they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“midnight judg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://t1.gstatic.com/images?q=tbn:oSslRyu29cRbHM:http://www.supremecourthistory.org/history/images/004_marshal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509840" cy="1951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“midnight judges” William Marbury sued when he found out James Madison, secretary of state, didn’t deliver his appoint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mous cas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agnifies the authority of the Co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versy had clouded the question of who had the final say of the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icial Review: idea that the Supreme Court alone had the last word-AMAZING PRECEDENT-SERIOUSLY-NO JOKE!-For REAL-4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t2.gstatic.com/images?q=tbn:mLOaYgzpQ1pMYM:http://knowledgenews.net/moxie/moxiepix/a1175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1447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t3.gstatic.com/images?q=tbn:oZAvMqlz5zjB6M:http://niahd.wm.edu/attachments/3039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3276720"/>
            <a:ext cx="125748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t0.gstatic.com/images?q=tbn:CbtsNUoeAY8vHM:http://upload.wikimedia.org/wikipedia/commons/9/91/United_states_supreme_court_building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38680" y="5178600"/>
            <a:ext cx="2210040" cy="1679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, a reluctant warrio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tion: reduce the military establishment of a mere police force of twenty-five hundred officers and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ed that America might transcend the bloody wars and entangling alliances of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s distrusted large standing armies/navies less to be fe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came across the Atlantic, Jefferson hadn’t planned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t0.gstatic.com/images?q=tbn:jT6ofvhscjmuFM:http://www.udel.edu/CSC/images/Army-Logo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3733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t1.gstatic.com/images?q=tbn:D_mR9_eFIUxJxM:http://www.fasw.navy.mil/arc/img/Nav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36576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ha (Bashaw) of Tripoli declared war 1801/dissatisfied with his shar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ispatched the infant navy to the “shores of Tripoli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eace-four years later (18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OM-20% at on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a large number of little coastal craft- “Jeffs” or “mosquito fle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gunboat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t1.gstatic.com/images?q=tbn:DQWVWR_hm9IdbM:http://www.joelertola.com/grfx/grfx_new/barbary_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2666880"/>
            <a:ext cx="2133360" cy="1554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10:42Z</dcterms:created>
  <dc:creator>tbabcock</dc:creator>
  <dc:description/>
  <dc:language>en-US</dc:language>
  <cp:lastModifiedBy>tbabcock</cp:lastModifiedBy>
  <dcterms:modified xsi:type="dcterms:W3CDTF">2009-10-30T17:04:21Z</dcterms:modified>
  <cp:revision>29</cp:revision>
  <dc:subject/>
  <dc:title>Dawn of the Jeffersonian Republic</dc:title>
</cp:coreProperties>
</file>