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0059-9214-4E1D-A359-61B96C2B2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641-0DCA-4F13-9117-B8659CAC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AA6D-AF81-417E-BB8E-D9F1881B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C719-3F6B-4B20-9D30-A2A5F2C2A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8EE4-F517-49A7-B665-8A89C7868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0F81-A515-4464-B6B4-09CCF9F68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2E06-4AFC-426A-8EC9-A7637D7A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4E5-DBB1-4C83-B265-DB5438E3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DB9-EDA9-4379-BD46-41DBA907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950-A1EC-4B10-BC50-CB9D8111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191-5DF9-4BE5-9028-E1E50589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785-36DB-43C4-B212-56801970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301-B594-4228-A909-649B4F89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4E3-8386-42DE-8DF4-810586AE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141-DFCD-459A-A735-D508429E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A2C-8B51-4C4B-ACEF-3D8C9C1E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2E1-64B7-463D-85B3-93D98C9C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C6E-42E5-4ABB-9C2B-1BF68AC5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1A4-4197-4043-85F9-33300C76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A974-F035-4727-B6BA-FF3CFA932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conomic Crash and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reat as in size not great as in g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-Mr. Babs ‘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Thursday-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ic, adjustments made…panic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x-16 million shares tra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s of stock valued at $30 Billion 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 themselves in full scale depression-didn’t bottom out till 19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_Stock_market_crash_1929"/>
          <p:cNvPicPr/>
          <p:nvPr/>
        </p:nvPicPr>
        <p:blipFill>
          <a:blip r:embed="rId1"/>
          <a:stretch/>
        </p:blipFill>
        <p:spPr>
          <a:xfrm>
            <a:off x="838080" y="411120"/>
            <a:ext cx="7391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ar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overspending in 1920s, not s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Mar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 industries and over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economic crisis/War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s plumme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s dropped (halved in some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00 banks closed their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% to 25% unemployme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had job had pay cuts or hours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rate climbed 30% from 1928 to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ull_house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iti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more government involvement than other Twenties Presidents but didn’t immediately implement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localism and private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voluntar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he summoned leaders to Whit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industry leaders to maintain salaries and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ergency Committee for Employ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ordinate efforts of voluntary relief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 II-Too Little, Too 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-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onal Credit Cor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large banks could help smal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s Elections of 1930-lost House of Representatives and Senate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lection of 1932 appro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ley-Smoot Ta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ssistance fo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nstruction Financ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$2 billion –loans for banks, railroads and insurance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a Public Works Administration but wasn’t en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 Army”-Panic (Also MacArthur’s do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20:37Z</dcterms:created>
  <dc:creator>tbabcock</dc:creator>
  <dc:description/>
  <dc:language>en-US</dc:language>
  <cp:lastModifiedBy>tbabcock</cp:lastModifiedBy>
  <dcterms:modified xsi:type="dcterms:W3CDTF">2010-03-16T13:03:53Z</dcterms:modified>
  <cp:revision>20</cp:revision>
  <dc:subject/>
  <dc:title>Economic Crash and The Great Depression</dc:title>
</cp:coreProperties>
</file>