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1B8A-320C-4F96-87C8-4A975AF3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051-46F1-4BD8-942E-37E114CA0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B202-BA2A-4D00-B741-BC890E0E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9171-CDB0-4D1A-A7ED-DDA5A94AE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6DE5-7EDD-4F68-810E-E405F918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DE4-0241-4AD4-8892-22DCC2A7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E5F4-554D-4AA5-A1B6-016AED5D4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11E-2791-42BD-BCBD-1207ACD2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5B1-81CE-419B-AE61-F1D8C81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334-50B6-4D2D-82DE-093A7507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838-31E7-4FB4-816D-7A9DB5C3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CE1-7273-4D02-8FED-802A8862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076-BF2D-42D2-8D4A-A9F7301E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851-EEAA-48A1-99DD-06897394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E86-61DE-41F9-901F-2BB15E73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396-F190-4406-9A1A-52D889C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8E1-06FB-43BE-9994-DEEAEA4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241-1EC2-4645-B2DB-24C8F063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362-CB19-41A0-B832-FCA2E6A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87D9-1782-47D6-B885-98961F86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conomic Crash and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reat as in size not great as in g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Mr. Babs ‘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Thursday-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ic, adjustments made…panic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x-16 million shares tr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of stock valued at $30 Billion 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 themselves in full scale depression-didn’t bottom out till 19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Stock_market_crash_1929"/>
          <p:cNvPicPr/>
          <p:nvPr/>
        </p:nvPicPr>
        <p:blipFill>
          <a:blip r:embed="rId1"/>
          <a:stretch/>
        </p:blipFill>
        <p:spPr>
          <a:xfrm>
            <a:off x="838080" y="411120"/>
            <a:ext cx="7391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ar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verspending in 1920s, not 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 industries and over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economic crisis/War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s plumme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dropped (halved in some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00 banks closed their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% to 25% unemployme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had job had pay cuts or hours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rate climbed 30% from 1928 to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ull_house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iti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more government involvement than other Twenties Presidents but didn’t immediately implement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localism and privat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voluntar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he summoned leaders to Whit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industry leaders to maintain salaries and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ergency Committee for Employ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ordinate efforts of voluntary relief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 II-Too Little, Too 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-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onal Credit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large banks could help smal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s Elections of 1930-lost House of Representatives and Senate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lection of 1932 appro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ley-Smoot Ta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ssistance fo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nstruction Financ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$2 billion –loans for banks, railroads and insurance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a Public Works Administration but wasn’t en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 Army”-Panic (Also MacArthur’s d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20:37Z</dcterms:created>
  <dc:creator>tbabcock</dc:creator>
  <dc:description/>
  <dc:language>en-US</dc:language>
  <cp:lastModifiedBy>tbabcock</cp:lastModifiedBy>
  <dcterms:modified xsi:type="dcterms:W3CDTF">2010-03-16T13:03:53Z</dcterms:modified>
  <cp:revision>20</cp:revision>
  <dc:subject/>
  <dc:title>Economic Crash and The Great Depression</dc:title>
</cp:coreProperties>
</file>