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7F71-1220-4EC1-A816-BECE4848D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302B-996D-4D96-96F7-FC5716312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CB21-1DA9-4D95-9068-6C2C62AF4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829B-0DE3-4412-845F-295FCF461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EFB3-70A3-436B-8ADC-32A2524C5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BE20-8D33-4313-AA6A-AF905B14F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E8D4-5F00-4126-A1FB-F024DF405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D89-0100-41D2-B09C-8DF884B8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B78-5926-47E9-8023-41D21181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5E0-45CE-4A0C-AF66-0A763664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DE4-5039-4E92-AC03-E8E47332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902-0A21-47B5-8905-423DD549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F64-8E38-441A-A15D-2D3E522D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128-01F7-43CD-8094-B279BDDC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CB9-CCA7-4F0D-B26E-1CDF5B52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1F7-1DE1-40F8-A97B-A3ADCD8F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E17-8157-4F4A-B1C6-23CB2484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4A1-3030-432C-AB02-B7943551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0C8-F41F-4466-8FD3-D4269962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5123-D743-4063-9F9E-74C90E40D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conomic Crash and The Great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reat as in size not great as in goo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-Mr. Babs ‘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Thursday-Tu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ic, adjustments made…panic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x-16 million shares tra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s of stock valued at $30 Billion Do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nd themselves in full scale depression-didn’t bottom out till 19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_Stock_market_crash_1929"/>
          <p:cNvPicPr/>
          <p:nvPr/>
        </p:nvPicPr>
        <p:blipFill>
          <a:blip r:embed="rId1"/>
          <a:stretch/>
        </p:blipFill>
        <p:spPr>
          <a:xfrm>
            <a:off x="838080" y="411120"/>
            <a:ext cx="7391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Term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arm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overspending in 1920s, not s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on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on Mar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ging industries and over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economic crisis/War de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s plumme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s dropped (halved in some c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00 banks closed their d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% to 25% unemploymen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that had job had pay cuts or hours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rate climbed 30% from 1928 to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ull_house"/>
          <p:cNvPicPr/>
          <p:nvPr/>
        </p:nvPicPr>
        <p:blipFill>
          <a:blip r:embed="rId1"/>
          <a:stretch/>
        </p:blipFill>
        <p:spPr>
          <a:xfrm>
            <a:off x="99072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ver’s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iti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more government involvement than other Twenties Presidents but didn’t immediately implement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localism and private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voluntary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 he summoned leaders to Whit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industry leaders to maintain salaries and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ergency Committee for Employ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ordinate efforts of voluntary relief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ver II-Too Little, Too 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-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ional Credit Corpo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large banks could help small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terms Elections of 1930-lost House of Representatives and Senate 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Election of 1932 appro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wley-Smoot Ta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ssistance fo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onstruction Financ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$2 billion –loans for banks, railroads and insurance co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a Public Works Administration but wasn’t en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us Army”-Panic (Also MacArthur’s do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3:20:37Z</dcterms:created>
  <dc:creator>tbabcock</dc:creator>
  <dc:description/>
  <dc:language>en-US</dc:language>
  <cp:lastModifiedBy>tbabcock</cp:lastModifiedBy>
  <dcterms:modified xsi:type="dcterms:W3CDTF">2010-03-16T13:03:53Z</dcterms:modified>
  <cp:revision>20</cp:revision>
  <dc:subject/>
  <dc:title>Economic Crash and The Great Depression</dc:title>
</cp:coreProperties>
</file>