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9BA5-B35B-4F13-805B-3FA82BB4C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B5EB-C826-42FC-B09C-7971495E6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5929-3EFF-4ECF-A731-1FD5EF812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F87E-7422-47F1-989C-FA97385A7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26E7-F8B9-447C-82DA-E435690DC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E753-A48E-4575-9F21-403C25170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C82A-D5C4-4714-99E6-2BAAD2E30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C4C-D67C-46C2-A8E1-8F1FFA50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C0C-FC52-4B1D-9DD5-FB404CF7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2D44-7B9C-40E2-A693-4EF316DF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B9F-E552-45D8-BCE8-27EFB043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706-95A4-4194-A504-B71683E3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B47-2F68-4CE6-8E60-704120CC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384-F874-43C0-AD4B-F3901E2E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CFB0-FDE2-47A7-BEB1-909CA714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5DB-359B-4267-AB84-F93083B0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62F-8A76-4099-9398-99EC17AE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9F8-696F-4189-A6E6-93DFC2CC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3D3-287D-4A58-9C13-D93F8087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3245-A2C9-450B-A5DA-A88BF9F7D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conomic Crash and The Great 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reat as in size not great as in goo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-Mr. Babs ‘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Thursday-Tu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nic, adjustments made…panic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x-16 million shares tra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s of stock valued at $30 Billion Do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nd themselves in full scale depression-didn’t bottom out till 19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_Stock_market_crash_1929"/>
          <p:cNvPicPr/>
          <p:nvPr/>
        </p:nvPicPr>
        <p:blipFill>
          <a:blip r:embed="rId1"/>
          <a:stretch/>
        </p:blipFill>
        <p:spPr>
          <a:xfrm>
            <a:off x="838080" y="411120"/>
            <a:ext cx="7391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Term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Farm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overspending in 1920s, not s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on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on Mar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ging industries and over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economic crisis/War deb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s plumme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s dropped (halved in some c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00 banks closed their do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% to 25% unemploymen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that had job had pay cuts or hours 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cide rate climbed 30% from 1928 to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ull_house"/>
          <p:cNvPicPr/>
          <p:nvPr/>
        </p:nvPicPr>
        <p:blipFill>
          <a:blip r:embed="rId1"/>
          <a:stretch/>
        </p:blipFill>
        <p:spPr>
          <a:xfrm>
            <a:off x="99072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ver’s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iti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more government involvement than other Twenties Presidents but didn’t immediately implement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localism and private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voluntary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 he summoned leaders to Whit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industry leaders to maintain salaries and 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ergency Committee for Employ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ordinate efforts of voluntary relief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ver II-Too Little, Too 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-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ional Credit Corpo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large banks could help small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terms Elections of 1930-lost House of Representatives and Senate s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Election of 1932 appro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wley-Smoot Ta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ssistance fo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onstruction Finance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$2 billion –loans for banks, railroads and insurance co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a Public Works Administration but wasn’t en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us Army”-Panic (Also MacArthur’s do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3:20:37Z</dcterms:created>
  <dc:creator>tbabcock</dc:creator>
  <dc:description/>
  <dc:language>en-US</dc:language>
  <cp:lastModifiedBy>tbabcock</cp:lastModifiedBy>
  <dcterms:modified xsi:type="dcterms:W3CDTF">2010-03-16T13:03:53Z</dcterms:modified>
  <cp:revision>20</cp:revision>
  <dc:subject/>
  <dc:title>Economic Crash and The Great Depression</dc:title>
</cp:coreProperties>
</file>