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988C-C677-4F59-90CF-F8A33DF7E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F738-9618-4A3B-911C-95FF375BA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0244-2EE0-4D81-975A-91A9DB79F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5447-6271-45CE-AB48-89762C782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1C8D-0836-4847-B94D-3F674A829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1951-E71C-47B7-BE0D-35353C2F0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2F82-D971-4737-A104-64BD13E56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2930-D3B9-4D47-BEB5-BED149628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8BFF-FBA6-42F1-ACED-A3638687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03D3-3EA0-4968-A75B-7450CF515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9F79-6BF2-4B9D-AD0B-CA5CF7354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887E-3B92-4B3F-8DDC-23B033F2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5350-BAB2-4D37-8C94-343E17ED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B8CB-06F1-4189-83A6-4776436A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CAAE-7BC8-4FDB-A7E4-00C96043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E4EB-A90A-4E5C-8FB4-C7D35530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FB29-A508-4608-ADAD-EFA1792F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B875-66D4-4B55-B845-135994F3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9C94-A052-4F5B-B0D1-0D35D288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9AC7-5BBC-4B78-A6D8-2A8284C1E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conomic Crash and The Great De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reat as in size not great as in goo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-Mr. Babs ‘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ck Thursday-Tues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nic, adjustments made…panic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max-16 million shares tra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ss of stock valued at $30 Billion Doll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nd themselves in full scale depression-didn’t bottom out till 19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_Stock_market_crash_1929"/>
          <p:cNvPicPr/>
          <p:nvPr/>
        </p:nvPicPr>
        <p:blipFill>
          <a:blip r:embed="rId1"/>
          <a:stretch/>
        </p:blipFill>
        <p:spPr>
          <a:xfrm>
            <a:off x="838080" y="411120"/>
            <a:ext cx="73915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 Term 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 Farm p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overspending in 1920s, not sa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ing on cr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ing on Mar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gging industries and over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economic crisis/War deb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rts plumme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s dropped (halved in some c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500 banks closed their do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% to 25% unemployment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that had job had pay cuts or hours c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cide rate climbed 30% from 1928 to 19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full_house"/>
          <p:cNvPicPr/>
          <p:nvPr/>
        </p:nvPicPr>
        <p:blipFill>
          <a:blip r:embed="rId1"/>
          <a:stretch/>
        </p:blipFill>
        <p:spPr>
          <a:xfrm>
            <a:off x="99072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ver’s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itial 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more government involvement than other Twenties Presidents but didn’t immediately implement ac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localism and private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voluntary meas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 he summoned leaders to White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industry leaders to maintain salaries and w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mergency Committee for Employ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ordinate efforts of voluntary relief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ver II-Too Little, Too 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-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tional Credit Corpo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large banks could help small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terms Elections of 1930-lost House of Representatives and Senate se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Election of 1932 appro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wley-Smoot Ta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assistance for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construction Finance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d $2 billion –loans for banks, railroads and insurance co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a Public Works Administration but wasn’t en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us Army”-Panic (Also MacArthur’s do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3:20:37Z</dcterms:created>
  <dc:creator>tbabcock</dc:creator>
  <dc:description/>
  <dc:language>en-US</dc:language>
  <cp:lastModifiedBy>tbabcock</cp:lastModifiedBy>
  <dcterms:modified xsi:type="dcterms:W3CDTF">2010-03-16T13:03:53Z</dcterms:modified>
  <cp:revision>20</cp:revision>
  <dc:subject/>
  <dc:title>Economic Crash and The Great Depression</dc:title>
</cp:coreProperties>
</file>