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7B3-73B6-4847-A260-337A8E49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F0C-D2DD-443E-83A5-8D9FAFDC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FE6-8346-4C57-B691-7C5736E4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BA4-B0EC-4A0C-98DC-10C1BAAA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F0E-F3E7-4221-8906-4DC04D7A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3B7-B3B8-4A66-A381-AC5BFFE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E33-8654-44EF-9E5F-9E4A5EFC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189-C667-4EC7-A987-7A04516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FC0-601E-4CDE-B8A2-59257411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51A-9867-4001-9D5E-F98BA41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96A-5686-41AF-A243-AAC4ECB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353-0569-4BF5-BBBB-BBA0A9D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75E4-E51E-4E18-97DB-3D3ADFF1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ivingroomcandidate.org/commercials/1952" TargetMode="External"/><Relationship Id="rId3" Type="http://schemas.openxmlformats.org/officeDocument/2006/relationships/hyperlink" Target="http://images.google.com/imgres?imgurl=http://www.sheilaburnett-photography.com/Pictures/SPOT-Ike%2520Turner.jpg&amp;imgrefurl=http://donotcolorme.blogspot.com/2007_12_01_archive.html&amp;usg=__Pq3rn9Me8HAngI8sm7KdqUvpm8s=&amp;h=620&amp;w=451&amp;sz=60&amp;hl=en&amp;start=17&amp;um=1&amp;itbs=1&amp;tbnid=SGVzK5HXKR6ChM:&amp;tbnh=136&amp;tbnw=99&amp;prev=/images%3Fq%3DIke%26um%3D1%26hl%3Den%26safe%3Dactive%26sa%3DN%26rlz%3D1T4DMUS_enUS234US238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niprie.free.fr/images/south%2520park%2520ike.jpg&amp;imgrefurl=http://www.insidehoops.com/forum/showthread.php%3Ft%3D150972%26page%3D5&amp;usg=__RV1WD7gT6RgMmqCyOTfrBQUV5NU=&amp;h=187&amp;w=250&amp;sz=6&amp;hl=en&amp;start=7&amp;um=1&amp;itbs=1&amp;tbnid=zdxEp5Uebc9wqM:&amp;tbnh=83&amp;tbnw=111&amp;prev=/images%3Fq%3DIke%2Bsouth%2Bpark%26um%3D1%26hl%3Den%26safe%3Dactive%26rlz%3D1T4DMUS_enUS234US238%26tbs%3Disch:1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isenhower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ppy Daz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Ike for Presi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 like IK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143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59092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962520" y="4127400"/>
            <a:ext cx="327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Conservative-Tried to get away from Deficit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“Balance Budg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ly accepted many New De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ate Highway System (1956-Highway Act)-Public Spending Program that rivaled some New De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m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sumer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ca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oster Dulles Diplomacy-”Brinkmanshi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Bomb to H-Bomb (Soviets get one t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t Action-Guatemala and 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War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 and the “Eisenhower Doctr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risis and the pledge to help any country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C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Vietnam and America’s first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Coexistence” and “Open Skies” at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ian Revolt-No American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2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n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11:45Z</dcterms:created>
  <dc:creator>tbabcock</dc:creator>
  <dc:description/>
  <dc:language>en-US</dc:language>
  <cp:lastModifiedBy>tbabcock</cp:lastModifiedBy>
  <dcterms:modified xsi:type="dcterms:W3CDTF">2010-04-13T19:51:56Z</dcterms:modified>
  <cp:revision>5</cp:revision>
  <dc:subject/>
  <dc:title>Eisenhower’s America</dc:title>
</cp:coreProperties>
</file>