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3CE-08B8-46CB-B046-437F2951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01B-F02F-4D83-8139-04C8464A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449-3643-41B5-8305-E3BEA2A8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1D7-76F7-4D2D-816B-DBFFEA3E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11C0-94F4-467C-AC50-145BD862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7C86-0697-4C17-9525-8E506C6B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EED-E1D6-4CAC-B693-646EAD5F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5DA1-3F99-4BC5-8AD9-6ADAA541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9A60-5C2A-402F-A670-5A7091A2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B7A-468E-4509-9C8F-2591D0BE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D99-3F86-420A-ADD7-8EC63F63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0CD4-50AB-4891-89CF-E0065D6D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2494-23DB-4FBB-BE8D-D492C7FC4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livingroomcandidate.org/commercials/1952" TargetMode="External"/><Relationship Id="rId3" Type="http://schemas.openxmlformats.org/officeDocument/2006/relationships/hyperlink" Target="http://images.google.com/imgres?imgurl=http://www.sheilaburnett-photography.com/Pictures/SPOT-Ike%2520Turner.jpg&amp;imgrefurl=http://donotcolorme.blogspot.com/2007_12_01_archive.html&amp;usg=__Pq3rn9Me8HAngI8sm7KdqUvpm8s=&amp;h=620&amp;w=451&amp;sz=60&amp;hl=en&amp;start=17&amp;um=1&amp;itbs=1&amp;tbnid=SGVzK5HXKR6ChM:&amp;tbnh=136&amp;tbnw=99&amp;prev=/images%3Fq%3DIke%26um%3D1%26hl%3Den%26safe%3Dactive%26sa%3DN%26rlz%3D1T4DMUS_enUS234US238%26tbs%3Disch: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sniprie.free.fr/images/south%2520park%2520ike.jpg&amp;imgrefurl=http://www.insidehoops.com/forum/showthread.php%3Ft%3D150972%26page%3D5&amp;usg=__RV1WD7gT6RgMmqCyOTfrBQUV5NU=&amp;h=187&amp;w=250&amp;sz=6&amp;hl=en&amp;start=7&amp;um=1&amp;itbs=1&amp;tbnid=zdxEp5Uebc9wqM:&amp;tbnh=83&amp;tbnw=111&amp;prev=/images%3Fq%3DIke%2Bsouth%2Bpark%26um%3D1%26hl%3Den%26safe%3Dactive%26rlz%3D1T4DMUS_enUS234US238%26tbs%3Disch:1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isenhower’s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ppy Daz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Ike for Presid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 like IKE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1143000"/>
            <a:ext cx="199692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2590920"/>
            <a:ext cx="2743200" cy="205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962520" y="4127400"/>
            <a:ext cx="32763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Conservative-Tried to get away from Deficit Spe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d to “Balance Budg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ly accepted many New De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state Highway System (1956-Highway Act)-Public Spending Program that rivaled some New Deal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 Boom and Prospe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nsumer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Scare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ign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Foster Dulles Diplomacy-”Brinkmanshi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-Bomb to H-Bomb (Soviets get one to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t Action-Guatemala and 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of War in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East and the “Eisenhower Doctr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ez Crisis and the pledge to help any country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C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of Vietnam and America’s first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d War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ful Coexistence” and “Open Skies” at Gen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utni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arian Revolt-No American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-2 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m in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7:11:45Z</dcterms:created>
  <dc:creator>tbabcock</dc:creator>
  <dc:description/>
  <dc:language>en-US</dc:language>
  <cp:lastModifiedBy>tbabcock</cp:lastModifiedBy>
  <dcterms:modified xsi:type="dcterms:W3CDTF">2010-04-13T19:51:56Z</dcterms:modified>
  <cp:revision>5</cp:revision>
  <dc:subject/>
  <dc:title>Eisenhower’s America</dc:title>
</cp:coreProperties>
</file>