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A5F-62A8-4FF9-AC79-23522089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800-17AA-4C44-8E27-59E73234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CDC-344D-4AF8-A953-B0BCCC3B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2F6-5791-4882-980C-4050355D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4E0-6FDC-4F54-A744-951F6947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0A8-5612-4F12-B11B-A6659C2C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771-1787-4ACC-94CD-03954045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018-9F85-456E-8037-73562B1A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752-DF41-41F3-A09F-7A8D0A50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58F-5F72-46E1-9A97-5C2F28A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465-CCC5-4888-BB50-D9C3F64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C05-1C73-4520-B566-99275BFC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DE63-4E92-423C-8AF8-0E69128C9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ivingroomcandidate.org/commercials/1952" TargetMode="External"/><Relationship Id="rId3" Type="http://schemas.openxmlformats.org/officeDocument/2006/relationships/hyperlink" Target="http://images.google.com/imgres?imgurl=http://www.sheilaburnett-photography.com/Pictures/SPOT-Ike%2520Turner.jpg&amp;imgrefurl=http://donotcolorme.blogspot.com/2007_12_01_archive.html&amp;usg=__Pq3rn9Me8HAngI8sm7KdqUvpm8s=&amp;h=620&amp;w=451&amp;sz=60&amp;hl=en&amp;start=17&amp;um=1&amp;itbs=1&amp;tbnid=SGVzK5HXKR6ChM:&amp;tbnh=136&amp;tbnw=99&amp;prev=/images%3Fq%3DIke%26um%3D1%26hl%3Den%26safe%3Dactive%26sa%3DN%26rlz%3D1T4DMUS_enUS234US238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sniprie.free.fr/images/south%2520park%2520ike.jpg&amp;imgrefurl=http://www.insidehoops.com/forum/showthread.php%3Ft%3D150972%26page%3D5&amp;usg=__RV1WD7gT6RgMmqCyOTfrBQUV5NU=&amp;h=187&amp;w=250&amp;sz=6&amp;hl=en&amp;start=7&amp;um=1&amp;itbs=1&amp;tbnid=zdxEp5Uebc9wqM:&amp;tbnh=83&amp;tbnw=111&amp;prev=/images%3Fq%3DIke%2Bsouth%2Bpark%26um%3D1%26hl%3Den%26safe%3Dactive%26rlz%3D1T4DMUS_enUS234US238%26tbs%3Disch:1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isenhower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ppy Daz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Ike for Presi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 like IK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143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2590920"/>
            <a:ext cx="2743200" cy="20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962520" y="4127400"/>
            <a:ext cx="3276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Conservative-Tried to get away from Deficit Sp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“Balance Budg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ly accepted many New De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tate Highway System (1956-Highway Act)-Public Spending Program that rivaled some New Dea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m and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sumer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care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Foster Dulles Diplomacy-”Brinkmanshi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Bomb to H-Bomb (Soviets get one t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t Action-Guatemala and 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War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 and the “Eisenhower Doctr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z Crisis and the pledge to help any country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C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of Vietnam and America’s first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ful Coexistence” and “Open Skies” at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ian Revolt-No American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2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in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11:45Z</dcterms:created>
  <dc:creator>tbabcock</dc:creator>
  <dc:description/>
  <dc:language>en-US</dc:language>
  <cp:lastModifiedBy>tbabcock</cp:lastModifiedBy>
  <dcterms:modified xsi:type="dcterms:W3CDTF">2010-04-13T19:51:56Z</dcterms:modified>
  <cp:revision>5</cp:revision>
  <dc:subject/>
  <dc:title>Eisenhower’s America</dc:title>
</cp:coreProperties>
</file>