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3D6-42A6-45F2-B516-1A956B67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3EF-EBFB-434C-9409-12432CFF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9A8-5466-42D2-9A25-AB952EA6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6A9-C8B9-44E4-9069-C2193611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E0E-90A4-478A-AB8B-E01E4226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A2E-D545-419D-8BAA-9E01C42A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F95-15DE-478D-9517-528E82D4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7ED-8433-4124-8F40-3F0986BD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4C0-811E-4A87-A2A0-20E1D844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4E6-61BD-45D4-8E93-BBE41E93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4C4-C5EF-46BF-8FB8-1DF25D0B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DAC-0035-49A0-A186-7F25E0CE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3367-8DF8-4104-8961-761711C07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ivingroomcandidate.org/commercials/1952" TargetMode="External"/><Relationship Id="rId3" Type="http://schemas.openxmlformats.org/officeDocument/2006/relationships/hyperlink" Target="http://images.google.com/imgres?imgurl=http://www.sheilaburnett-photography.com/Pictures/SPOT-Ike%2520Turner.jpg&amp;imgrefurl=http://donotcolorme.blogspot.com/2007_12_01_archive.html&amp;usg=__Pq3rn9Me8HAngI8sm7KdqUvpm8s=&amp;h=620&amp;w=451&amp;sz=60&amp;hl=en&amp;start=17&amp;um=1&amp;itbs=1&amp;tbnid=SGVzK5HXKR6ChM:&amp;tbnh=136&amp;tbnw=99&amp;prev=/images%3Fq%3DIke%26um%3D1%26hl%3Den%26safe%3Dactive%26sa%3DN%26rlz%3D1T4DMUS_enUS234US238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sniprie.free.fr/images/south%2520park%2520ike.jpg&amp;imgrefurl=http://www.insidehoops.com/forum/showthread.php%3Ft%3D150972%26page%3D5&amp;usg=__RV1WD7gT6RgMmqCyOTfrBQUV5NU=&amp;h=187&amp;w=250&amp;sz=6&amp;hl=en&amp;start=7&amp;um=1&amp;itbs=1&amp;tbnid=zdxEp5Uebc9wqM:&amp;tbnh=83&amp;tbnw=111&amp;prev=/images%3Fq%3DIke%2Bsouth%2Bpark%26um%3D1%26hl%3Den%26safe%3Dactive%26rlz%3D1T4DMUS_enUS234US238%26tbs%3Disch:1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isenhower’s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ppy Daz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Ike for Presid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 like IKE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1143000"/>
            <a:ext cx="19969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2590920"/>
            <a:ext cx="2743200" cy="205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962520" y="4127400"/>
            <a:ext cx="3276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Conservative-Tried to get away from Deficit Spe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“Balance Budg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ly accepted many New De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tate Highway System (1956-Highway Act)-Public Spending Program that rivaled some New Deal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oom and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nsumer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care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Foster Dulles Diplomacy-”Brinkmanshi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Bomb to H-Bomb (Soviets get one t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t Action-Guatemala and 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War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East and the “Eisenhower Doctr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z Crisis and the pledge to help any country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C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of Vietnam and America’s first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ful Coexistence” and “Open Skies” at Gen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arian Revolt-No American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-2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in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7:11:45Z</dcterms:created>
  <dc:creator>tbabcock</dc:creator>
  <dc:description/>
  <dc:language>en-US</dc:language>
  <cp:lastModifiedBy>tbabcock</cp:lastModifiedBy>
  <dcterms:modified xsi:type="dcterms:W3CDTF">2010-04-13T19:51:56Z</dcterms:modified>
  <cp:revision>5</cp:revision>
  <dc:subject/>
  <dc:title>Eisenhower’s America</dc:title>
</cp:coreProperties>
</file>