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EC3-9E73-4512-904B-87A0015E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B13-11E7-4D2D-8278-C80FA1A0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6DC-897D-400E-8B03-8833BDFC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40BE-855B-4B19-9123-785D56C2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5D8-A908-4C66-A3E2-7D4B3DB7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B2E-3DE4-4BBA-8632-C54D04E4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AC8-DE58-4410-B13B-8040C24D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B2B-6012-4277-8EC0-07ED44C3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2C4-5B49-4266-BC4A-F5460CFD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6942-AA93-4197-9214-C8CDF17E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4A8-C628-401C-90D0-CDED168C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0E09-C1A1-429A-959A-AA194C65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226F-3BEF-47F3-B164-B4C23F698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livingroomcandidate.org/commercials/1952" TargetMode="External"/><Relationship Id="rId3" Type="http://schemas.openxmlformats.org/officeDocument/2006/relationships/hyperlink" Target="http://images.google.com/imgres?imgurl=http://www.sheilaburnett-photography.com/Pictures/SPOT-Ike%2520Turner.jpg&amp;imgrefurl=http://donotcolorme.blogspot.com/2007_12_01_archive.html&amp;usg=__Pq3rn9Me8HAngI8sm7KdqUvpm8s=&amp;h=620&amp;w=451&amp;sz=60&amp;hl=en&amp;start=17&amp;um=1&amp;itbs=1&amp;tbnid=SGVzK5HXKR6ChM:&amp;tbnh=136&amp;tbnw=99&amp;prev=/images%3Fq%3DIke%26um%3D1%26hl%3Den%26safe%3Dactive%26sa%3DN%26rlz%3D1T4DMUS_enUS234US238%26tbs%3Disch: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sniprie.free.fr/images/south%2520park%2520ike.jpg&amp;imgrefurl=http://www.insidehoops.com/forum/showthread.php%3Ft%3D150972%26page%3D5&amp;usg=__RV1WD7gT6RgMmqCyOTfrBQUV5NU=&amp;h=187&amp;w=250&amp;sz=6&amp;hl=en&amp;start=7&amp;um=1&amp;itbs=1&amp;tbnid=zdxEp5Uebc9wqM:&amp;tbnh=83&amp;tbnw=111&amp;prev=/images%3Fq%3DIke%2Bsouth%2Bpark%26um%3D1%26hl%3Den%26safe%3Dactive%26rlz%3D1T4DMUS_enUS234US238%26tbs%3Disch:1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isenhower’s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ppy Daz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Ike for Presid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 like IKE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1143000"/>
            <a:ext cx="199692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2590920"/>
            <a:ext cx="2743200" cy="205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962520" y="4127400"/>
            <a:ext cx="32763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Conservative-Tried to get away from Deficit Spe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d to “Balance Budg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ly accepted many New De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state Highway System (1956-Highway Act)-Public Spending Program that rivaled some New Deal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Boom and Prosp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nsumer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Scare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ign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Foster Dulles Diplomacy-”Brinkmanshi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-Bomb to H-Bomb (Soviets get one to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t Action-Guatemala and 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of War in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East and the “Eisenhower Doctr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ez Crisis and the pledge to help any country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C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of Vietnam and America’s first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d War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ful Coexistence” and “Open Skies” at Gen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utni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arian Revolt-No American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-2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 in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7:11:45Z</dcterms:created>
  <dc:creator>tbabcock</dc:creator>
  <dc:description/>
  <dc:language>en-US</dc:language>
  <cp:lastModifiedBy>tbabcock</cp:lastModifiedBy>
  <dcterms:modified xsi:type="dcterms:W3CDTF">2010-04-13T19:51:56Z</dcterms:modified>
  <cp:revision>5</cp:revision>
  <dc:subject/>
  <dc:title>Eisenhower’s America</dc:title>
</cp:coreProperties>
</file>