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2B9E-59CE-4CE3-B97E-CF754FC2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4C19-FBC3-4630-84AC-9EC7A0B0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A2BD-86D4-47B1-9DD7-DC9CB049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93DF-5792-4884-9011-42D00019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0562-7E0F-4B51-AB92-B273A913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BE2D-8A3B-4C9A-B1BA-E7B7B87D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6372-E553-420B-8B13-93B5E1B8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18A1-A7A8-40A9-B017-340B8A0D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274D-0379-48E0-9634-EF19D64F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19B1-C33B-4F2D-8813-D7AE5B5A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4607-B90A-460A-BFFA-494607F5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E74E-4A9A-4D39-85F2-B1A8D4E4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81E6-0512-4D09-86B9-DB2CF6107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livingroomcandidate.org/commercials/1952" TargetMode="External"/><Relationship Id="rId3" Type="http://schemas.openxmlformats.org/officeDocument/2006/relationships/hyperlink" Target="http://images.google.com/imgres?imgurl=http://www.sheilaburnett-photography.com/Pictures/SPOT-Ike%2520Turner.jpg&amp;imgrefurl=http://donotcolorme.blogspot.com/2007_12_01_archive.html&amp;usg=__Pq3rn9Me8HAngI8sm7KdqUvpm8s=&amp;h=620&amp;w=451&amp;sz=60&amp;hl=en&amp;start=17&amp;um=1&amp;itbs=1&amp;tbnid=SGVzK5HXKR6ChM:&amp;tbnh=136&amp;tbnw=99&amp;prev=/images%3Fq%3DIke%26um%3D1%26hl%3Den%26safe%3Dactive%26sa%3DN%26rlz%3D1T4DMUS_enUS234US238%26tbs%3Disch:1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sniprie.free.fr/images/south%2520park%2520ike.jpg&amp;imgrefurl=http://www.insidehoops.com/forum/showthread.php%3Ft%3D150972%26page%3D5&amp;usg=__RV1WD7gT6RgMmqCyOTfrBQUV5NU=&amp;h=187&amp;w=250&amp;sz=6&amp;hl=en&amp;start=7&amp;um=1&amp;itbs=1&amp;tbnid=zdxEp5Uebc9wqM:&amp;tbnh=83&amp;tbnw=111&amp;prev=/images%3Fq%3DIke%2Bsouth%2Bpark%26um%3D1%26hl%3Den%26safe%3Dactive%26rlz%3D1T4DMUS_enUS234US238%26tbs%3Disch:1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isenhower’s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ppy Daz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Ike for Presid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 like IKE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1143000"/>
            <a:ext cx="199692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14400" y="2590920"/>
            <a:ext cx="2743200" cy="2050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962520" y="4127400"/>
            <a:ext cx="327636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Conservative-Tried to get away from Deficit Spe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ed to “Balance Budge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ly accepted many New De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state Highway System (1956-Highway Act)-Public Spending Program that rivaled some New Deal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y Boom and Prospe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Consumer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Scare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ign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Foster Dulles Diplomacy-”Brinkmanshi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-Bomb to H-Bomb (Soviets get one to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t Action-Guatemala and I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of War in K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East and the “Eisenhower Doctri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ez Crisis and the pledge to help any country in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C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of Vietnam and America’s first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d War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ful Coexistence” and “Open Skies” at Gen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utni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garian Revolt-No American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-2 In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sm in 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7:11:45Z</dcterms:created>
  <dc:creator>tbabcock</dc:creator>
  <dc:description/>
  <dc:language>en-US</dc:language>
  <cp:lastModifiedBy>tbabcock</cp:lastModifiedBy>
  <dcterms:modified xsi:type="dcterms:W3CDTF">2010-04-13T19:51:56Z</dcterms:modified>
  <cp:revision>5</cp:revision>
  <dc:subject/>
  <dc:title>Eisenhower’s America</dc:title>
</cp:coreProperties>
</file>