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B06-1303-42A4-8B85-D07B7FD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97E-675F-4278-B630-10BE24A6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6B2-2AE3-43B8-8452-1DAA9CF2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504-42BF-47B7-92C7-27A395E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B68-6808-4688-B96E-060A59E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98D-AA62-4B71-975E-5C8916C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357-5ADE-4B81-B571-8BF7F74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892-3E4E-41C7-AD6B-7D4A19F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6F2-745B-474F-BB0E-598DF98D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591-33CD-4ADD-939D-0DDCD84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E5F-F819-4FEC-BAF5-53FDD27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CC6-015A-474A-A4E4-5EEF93C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1EF-BAB1-418B-81B2-8E8E23C3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video.yahoo.com/watch/1101553/4033410" TargetMode="External"/><Relationship Id="rId3" Type="http://schemas.openxmlformats.org/officeDocument/2006/relationships/hyperlink" Target="http://video.yahoo.com/watch/1101553/4033410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mericanrhetoric.com/speeches/ronaldreaganbrandenburggate.htm" TargetMode="External"/><Relationship Id="rId3" Type="http://schemas.openxmlformats.org/officeDocument/2006/relationships/hyperlink" Target="http://www.americanrhetoric.com/speeches/ronaldreaganbrandenburggate.htm" TargetMode="External"/><Relationship Id="rId4" Type="http://schemas.openxmlformats.org/officeDocument/2006/relationships/hyperlink" Target="http://www.americanrhetoric.com/speeches/ronaldreaganbrandenburggate.htm" TargetMode="External"/><Relationship Id="rId5" Type="http://schemas.openxmlformats.org/officeDocument/2006/relationships/hyperlink" Target="http://www.americanrhetoric.com/speeches/ronaldreaganbrandenburggate.htm" TargetMode="External"/><Relationship Id="rId6" Type="http://schemas.openxmlformats.org/officeDocument/2006/relationships/hyperlink" Target="http://www.remixamerica.org/videos/mr-gorbachev-open-this-gate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tocity.com/vtogallery/main.php%3Fg2_view%3Dcore.DownloadItem%26g2_itemId%3D3218%26g2_serialNumber%3D2&amp;imgrefurl=http://vtocity.com/vtoblogs/%3Fp%3D216&amp;usg=___UIsSxn1FJB1g0PVwH4UZBcDSq4=&amp;h=413&amp;w=550&amp;sz=41&amp;hl=en&amp;start=33&amp;sig2=RUfdsF3fLyL4mVh8ZVAr0Q&amp;tbnid=MGQMS7XKcNj4PM:&amp;tbnh=100&amp;tbnw=133&amp;prev=/images%3Fq%3Diranian%2Bhostages%2Breleased%26gbv%3D2%26ndsp%3D20%26hl%3Den%26safe%3Dactive%26sa%3DN%26start%3D20&amp;ei=RTElSq6aA4bFmQeNlYTcB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ning of the 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of Confus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 - Land Of Confusio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ous “Cold Warr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up the rhetoric and tensions of the cold war.  In many ways undoing what had been done by Nixon’s Dé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Defense Initiative or “Star W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-Contra af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pons to Iran via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age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for Contras in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FP-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Mikhail Gorbachev, Margaret Thatcher (Iron Lady), Reagan’s tough talk will lead to diplomat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leaders became very willing to discuss policies that would open the Soviet Union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litical leaders of the time, such as Pope John Paul II, also were essential to the end of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Gorbachev, tear down this wal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Remarks at the Brandenburg Gate on the 40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Anniversary of the Marshall Plan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"Mr. Gorbachev, open this gate..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the Cold War-Policies of Mikhail Gorbach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nost and Perestro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y of maximal publicity, openness, and transparency in the activities of all government institutions in the Soviet Union, together with freedom of information, introduced by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the stagnation process, breaking down the braking mechanism, creating a dependable and effective mechanism for acceleration of social and economic progress and giving it greater dynam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omics” or trickle down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hom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I.D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 (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f the 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an Gul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mise of “Thousands Points of light” and a New Worl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y lips, no new ta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Leslie Lynch King Jr. aka  Gerald Ford (1974-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’s Presidency is based o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attempted to get past Watergate and the feelings of loss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ives Nixon a full Presidential P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turns 200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Jefferson Clinton (1992-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country as social liberal but moderate on econom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Conflicts with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Lewi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James Carter (1976-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er, “Outs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 treaty with Egypt and Israel (Camp David Ac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ucce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Issues-Fuel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 Hostag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2640"/>
            <a:ext cx="73915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Assured 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dea of M.A.D. is discussed.  In the end, the writer contends that in the world of M.A.D., there can be no winner.  But, is this the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the pros and cons of living in a world dominated by two super powers who are willing to destroy each other in a move that would guarantee their own de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 (1980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he failing economy and falling popularity to usher in “Reagan R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on ticket of small federal government and Cold Wa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cknamed the “Great Communicator” and the “Teflon”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40:24Z</dcterms:created>
  <dc:creator>tbabcock</dc:creator>
  <dc:description/>
  <dc:language>en-US</dc:language>
  <cp:lastModifiedBy>tbabcock</cp:lastModifiedBy>
  <dcterms:modified xsi:type="dcterms:W3CDTF">2010-04-28T12:12:43Z</dcterms:modified>
  <cp:revision>31</cp:revision>
  <dc:subject/>
  <dc:title>Ford and Beyond</dc:title>
</cp:coreProperties>
</file>