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021-949A-4913-ABFB-2CCC0CB7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73E-BE82-440B-A045-64EDC666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CC6-D852-49CF-8EE2-43A46628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D89-FC87-48FE-A83B-F0856685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7D5A-237E-48F9-9345-EEAF67F8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60BA-5FA8-43A7-9039-150A3F00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D54-72AF-42AE-8851-0DB22F27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F3C-6A3C-462A-9869-BC2B07D1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B0DB-C24B-4E55-B5CE-08D5F4A8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B455-2F45-4AA3-93D8-EB6A177C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567-ACBB-4BF0-9CE5-533D2FCC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599A-E18C-4E57-AC7C-FE891E27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998B-495E-471B-B592-DC56AE367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video.yahoo.com/watch/1101553/4033410" TargetMode="External"/><Relationship Id="rId3" Type="http://schemas.openxmlformats.org/officeDocument/2006/relationships/hyperlink" Target="http://video.yahoo.com/watch/1101553/4033410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americanrhetoric.com/speeches/ronaldreaganbrandenburggate.htm" TargetMode="External"/><Relationship Id="rId3" Type="http://schemas.openxmlformats.org/officeDocument/2006/relationships/hyperlink" Target="http://www.americanrhetoric.com/speeches/ronaldreaganbrandenburggate.htm" TargetMode="External"/><Relationship Id="rId4" Type="http://schemas.openxmlformats.org/officeDocument/2006/relationships/hyperlink" Target="http://www.americanrhetoric.com/speeches/ronaldreaganbrandenburggate.htm" TargetMode="External"/><Relationship Id="rId5" Type="http://schemas.openxmlformats.org/officeDocument/2006/relationships/hyperlink" Target="http://www.americanrhetoric.com/speeches/ronaldreaganbrandenburggate.htm" TargetMode="External"/><Relationship Id="rId6" Type="http://schemas.openxmlformats.org/officeDocument/2006/relationships/hyperlink" Target="http://www.remixamerica.org/videos/mr-gorbachev-open-this-gate" TargetMode="External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tocity.com/vtogallery/main.php%3Fg2_view%3Dcore.DownloadItem%26g2_itemId%3D3218%26g2_serialNumber%3D2&amp;imgrefurl=http://vtocity.com/vtoblogs/%3Fp%3D216&amp;usg=___UIsSxn1FJB1g0PVwH4UZBcDSq4=&amp;h=413&amp;w=550&amp;sz=41&amp;hl=en&amp;start=33&amp;sig2=RUfdsF3fLyL4mVh8ZVAr0Q&amp;tbnid=MGQMS7XKcNj4PM:&amp;tbnh=100&amp;tbnw=133&amp;prev=/images%3Fq%3Diranian%2Bhostages%2Breleased%26gbv%3D2%26ndsp%3D20%26hl%3Den%26safe%3Dactive%26sa%3DN%26start%3D20&amp;ei=RTElSq6aA4bFmQeNlYTcBw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d and Bey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ginning of the E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 of Confusio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nesis - Land Of Confusion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rious “Cold Warri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d up the rhetoric and tensions of the cold war.  In many ways undoing what had been done by Nixon’s Dé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Defense Initiative or “Star Wa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an-Contra aff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pons to Iran via 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ages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for Contras in Nicar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 (FP-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Mikhail Gorbachev, Margaret Thatcher (Iron Lady), Reagan’s tough talk will lead to diplomatic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leaders became very willing to discuss policies that would open the Soviet Union to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litical leaders of the time, such as Pope John Paul II, also were essential to the end of the Cold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. Gorbachev, tear down this wall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"Remarks at the Brandenburg Gate on the 40</a:t>
            </a:r>
            <a:r>
              <a:rPr b="0" lang="en-US" sz="4800" spc="-1" strike="noStrike" u="sng" baseline="30000">
                <a:solidFill>
                  <a:srgbClr val="009999"/>
                </a:solidFill>
                <a:uFillTx/>
                <a:latin typeface="Arial"/>
                <a:hlinkClick r:id="rId4"/>
              </a:rPr>
              <a:t>th</a:t>
            </a:r>
            <a:r>
              <a:rPr b="0" lang="en-US" sz="4800" spc="-1" strike="noStrike" u="sng" baseline="30000">
                <a:solidFill>
                  <a:srgbClr val="009999"/>
                </a:solidFill>
                <a:uFillTx/>
                <a:latin typeface="Arial"/>
                <a:hlinkClick r:id="rId5"/>
              </a:rPr>
              <a:t> Anniversary of the Marshall Plan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"Mr. Gorbachev, open this gate...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nd of the Cold War-Policies of Mikhail Gorbache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nost and Perestro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icy of maximal publicity, openness, and transparency in the activities of all government institutions in the Soviet Union, together with freedom of information, introduced by Gorbach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ing the stagnation process, breaking down the braking mechanism, creating a dependable and effective mechanism for acceleration of social and economic progress and giving it greater dynam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 Dome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omics” or trickle down 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e of home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I.D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H.W. Bush (4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of the Berli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ian Gulf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mise of “Thousands Points of light” and a New World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my lips, no new tax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he Economy Stupi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ident Leslie Lynch King Jr. aka  Gerald Ford (1974-197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d’s Presidency is based on h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d attempted to get past Watergate and the feelings of loss in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gives Nixon a full Presidential Pard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 turns 200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iam Jefferson Clinton (1992-20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he economy stupi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 country as social liberal but moderate on economic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fare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 Conflicts with Ir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ca Lewin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ident James Carter (1976-198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reformer, “Outsid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ce treaty with Egypt and Israel (Camp David Acc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Succes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l Issues-Fuel Shor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an Hostag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12640"/>
            <a:ext cx="73915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ually Assured De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ovi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r G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idea of M.A.D. is discussed.  In the end, the writer contends that in the world of M.A.D., there can be no winner.  But, is this the c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list the pros and cons of living in a world dominated by two super powers who are willing to destroy each other in a move that would guarantee their own de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nald Reagan (1980-198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d the failing economy and falling popularity to usher in “Reagan Revolutio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 on ticket of small federal government and Cold War f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cknamed the “Great Communicator” and the “Teflon” Pres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3:40:24Z</dcterms:created>
  <dc:creator>tbabcock</dc:creator>
  <dc:description/>
  <dc:language>en-US</dc:language>
  <cp:lastModifiedBy>tbabcock</cp:lastModifiedBy>
  <dcterms:modified xsi:type="dcterms:W3CDTF">2010-04-28T12:12:43Z</dcterms:modified>
  <cp:revision>31</cp:revision>
  <dc:subject/>
  <dc:title>Ford and Beyond</dc:title>
</cp:coreProperties>
</file>