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5C33-0179-45EF-9E09-7791866F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7BD5-0F9D-42BF-AE65-09E3D6C5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8822-4EB2-44D1-AA75-53A0ADEA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70A1-13DB-4F50-A871-E242F5221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D68E-107B-41C0-AF00-BAF35C51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B0F3-F952-4E5F-B21A-BB380C50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B84-39E4-405B-8DD6-4B01D3F8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34B9-1EDF-4B7A-A439-3A5B5BA2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6831-1C87-4686-934B-42A2A45F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9AD1-2934-4C09-B95E-BD472B99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60A-FC8E-4D4E-854F-D8A4B897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247F-E441-4873-A352-1B13B071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E9DB-7D1F-4076-A7F3-8CB1EAC9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24C-0526-4B0D-9F8D-5C6CFE44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183-7B14-4643-80F6-31132CF7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82C-0128-4948-8CD5-6CC5B5C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345-5860-4D14-9DB1-FE0CB459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E38-0E83-4D81-A047-F35C05C1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CFE-F7E4-451D-9D55-0EE13A1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3E2-32E4-41F2-A149-10A13CE7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4F9-D3C4-4369-8C66-A5B4FFF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BF3-C658-43A4-99DC-278A9DB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806-A9BB-4FFF-A62B-771D569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053-1C18-4B5D-9F22-865551C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452-6E44-4241-864C-6C518B79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2D2-D0A1-4142-9C2B-B28653B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E7CC-791C-4FF3-AB63-6ABA5EB9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ndblog.typepad.com/photos/uncategorized/2007/11/05/vanderbilt.jpg&amp;imgrefurl=http://pndblog.typepad.com/pndblog/annals_of_wealth/&amp;usg=__RHQ402OQ0qAiYzEU8FhzkiTmAtA=&amp;h=320&amp;w=240&amp;sz=28&amp;hl=en&amp;start=2&amp;um=1&amp;itbs=1&amp;tbnid=kf8pkxvSktUwaM:&amp;tbnh=118&amp;tbnw=89&amp;prev=/images%3Fq%3Dcornelius%2Bvanderbilt%26hl%3Den%26safe%3Dactive%26rlz%3D1T4DMUS_enUS234US238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olaf.edu/people/becker/antitrust/statutes/sherman.htm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ius Vanderbilt owned “New York Cent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to popularize steel ra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ersonal wealth valued at close to $100 M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ated a million to found Vanderbilt University in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8769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ism Dinner Party: Two Follow-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“Necessity the Mother of Invention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similar in the “stories” of each inven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ber Barons or Captains of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to America from 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s to r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-private secretary of Superint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made him a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d for a cheap way to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achinery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ed talent w/ sto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STEEL sale made him first Billio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efeller-Standard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arn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’t beat’em, join’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in Trus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their stock into group of trus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turn, companies were entitled to dividends on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egal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1870-2-3% of Refining business and 90% of refining business in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wages-sold lower and then would rais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OBBER BARON-but gave away a lot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0 million funded University of Chicago medic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Ingredients for Industrialism Pi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-Edwin Dr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usville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b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products of refining-gasoline originally thrown 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omes one of America’s most lucrative ex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roots Movements-The G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ed by misuse of land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nn v. Illin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itizens-Muckr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Jacob R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of Citizens-Un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ederation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very reluctant to regu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n’t have a history of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easures were not eff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ate Commerce Act (18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erman Anti-Trust Act (18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Major Labor U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as there a ne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cluded: Low wages, long hours, equal pay and child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did not regulate business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ion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reasons someone would want to join a 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-P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in Spring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Unions and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abor Union (NLU) (Sylvis l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of Labor (Stephens then Powd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Labor (AF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ailway Union (AR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Workers of the World  aka “Wobblies”  (IW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ill lead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Strike of 187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ymarket Affair (18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stead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llman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ngredients for 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-Bessem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and Iron ab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Oxygen into Iron-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MMM….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ity-Thomas Ed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zard on Menlo Park, N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home becomes an invention fac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inghouse developed after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N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les-Typewr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and Watson-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job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continental railro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ontory Point, Utah (Golden Spik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of Civil War 30,000 miles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times that in 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F. Do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ld 24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. 18, 1883-sycro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 of to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ron, steel, coal, lumber and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irth of towns-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 car-Sleeper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’s treatment of workers-Tow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l in the “Golden Age of Laissez-Fai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Co. set up by Union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d too much and “donated” shares to representatives in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Pacific had taken about $2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, deception w/ prices also rails allowed to do what it “needs to do” after being given government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31:03Z</dcterms:created>
  <dc:creator>tbabcock</dc:creator>
  <dc:description/>
  <dc:language>en-US</dc:language>
  <cp:lastModifiedBy>tbabcock</cp:lastModifiedBy>
  <dcterms:modified xsi:type="dcterms:W3CDTF">2010-02-24T16:01:11Z</dcterms:modified>
  <cp:revision>24</cp:revision>
  <dc:subject/>
  <dc:title>Indurstrialism</dc:title>
</cp:coreProperties>
</file>