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23E-61BA-4AD8-866C-588530A90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272-C0FE-44E9-BFA8-C1265416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1F9F-434B-4F74-9B95-2E28EDC3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17AB-E000-4477-88CF-12DFA30D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3C20-F08D-4CA2-925D-E09235B4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0F9-5925-4DED-958F-C302D33A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4B26-B20B-4732-9724-28F31E64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90A-C704-46C7-B06F-58A4C882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EFD-3CE3-41C1-AE0B-AEF12893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78F-87E0-4ED2-BCB0-7B966D45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FE38-D194-4C60-B638-64F5D5A7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4FAD-1879-4945-A3CB-849DFFA0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90D-22DF-4549-8A1A-B67E07D6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919-9288-438D-9E6A-FEEE62CA8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A7E-F18B-4D86-A709-7CC08F93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74F-4351-435F-B478-48BDCBFA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7CB-5564-43DC-B2DE-08836AE1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CAF-B107-4AC3-BBA3-59B96CAA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6BB-BA78-4E04-8290-8667947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F4E-43BA-42E7-BAE7-68A864B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155-EE89-46C9-B149-30E3310E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D6C-F2F8-4A28-8E3E-7555B8AA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A86-90A2-40E3-9AFC-0B80E24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5B3-B434-4FDE-8FED-22B0550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93C-0FA1-4471-8419-50FFA95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255-659E-4434-B447-EF2E39D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2221-1A79-4135-A6C1-873FEAF0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ndblog.typepad.com/photos/uncategorized/2007/11/05/vanderbilt.jpg&amp;imgrefurl=http://pndblog.typepad.com/pndblog/annals_of_wealth/&amp;usg=__RHQ402OQ0qAiYzEU8FhzkiTmAtA=&amp;h=320&amp;w=240&amp;sz=28&amp;hl=en&amp;start=2&amp;um=1&amp;itbs=1&amp;tbnid=kf8pkxvSktUwaM:&amp;tbnh=118&amp;tbnw=89&amp;prev=/images%3Fq%3Dcornelius%2Bvanderbilt%26hl%3Den%26safe%3Dactive%26rlz%3D1T4DMUS_enUS234US238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olaf.edu/people/becker/antitrust/statutes/sherman.htm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ius Vanderbilt owned “New York Cent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to popularize steel ra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ersonal wealth valued at close to $100 M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ated a million to found Vanderbilt University in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8769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ism Dinner Party: Two Follow-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“Necessity the Mother of Invention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similar in the “stories” of each inven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ber Barons or Captains of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to America from 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s to r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-private secretary of Superint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made him a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d for a cheap way to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achinery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ed talent w/ sto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STEEL sale made him first Billio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efeller-Standard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arn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’t beat’em, join’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in Trus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their stock into group of trus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turn, companies were entitled to dividends on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egal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1870-2-3% of Refining business and 90% of refining business in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wages-sold lower and then would rais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OBBER BARON-but gave away a lot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0 million funded University of Chicago medic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Ingredients for Industrialism Pi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-Edwin Dr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usville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b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products of refining-gasoline originally thrown 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omes one of America’s most lucrative ex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roots Movements-The G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ed by misuse of land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nn v. Illin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itizens-Muckr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Jacob R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of Citizens-Un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ederation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very reluctant to regu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n’t have a history of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easures were not eff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ate Commerce Act (18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erman Anti-Trust Act (18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Major Labor U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as there a ne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cluded: Low wages, long hours, equal pay and child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did not regulate business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ion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reasons someone would want to join a 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-P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in Spring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Unions and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abor Union (NLU) (Sylvis l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of Labor (Stephens then Powd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Labor (AF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ailway Union (AR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Workers of the World  aka “Wobblies”  (IW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ill lead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Strike of 187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ymarket Affair (18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stead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llman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ngredients for 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-Bessem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and Iron ab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Oxygen into Iron-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MMM….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ity-Thomas Ed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zard on Menlo Park, N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home becomes an invention fac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inghouse developed after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N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les-Typewr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and Watson-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job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continental railro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ontory Point, Utah (Golden Spik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of Civil War 30,000 miles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times that in 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F. Do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ld 24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. 18, 1883-sycro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 of to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ron, steel, coal, lumber and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irth of towns-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 car-Sleeper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’s treatment of workers-Tow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l in the “Golden Age of Laissez-Fai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Co. set up by Union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d too much and “donated” shares to representatives in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Pacific had taken about $2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, deception w/ prices also rails allowed to do what it “needs to do” after being given government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31:03Z</dcterms:created>
  <dc:creator>tbabcock</dc:creator>
  <dc:description/>
  <dc:language>en-US</dc:language>
  <cp:lastModifiedBy>tbabcock</cp:lastModifiedBy>
  <dcterms:modified xsi:type="dcterms:W3CDTF">2010-02-24T16:01:11Z</dcterms:modified>
  <cp:revision>24</cp:revision>
  <dc:subject/>
  <dc:title>Indurstrialism</dc:title>
</cp:coreProperties>
</file>