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68FF-E322-4CA0-9CC0-F4816765C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FE6D-CB23-4981-88D4-D073C13A1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42D5-85AF-49C4-BD23-FF33E386A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F9E3-542D-4846-9AF8-33A105568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02D8-BD69-4F47-9302-544D973B8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BFC8-B0F1-4CBC-AD06-587263D80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9218-B7A9-4FE2-A966-CF3FA22F2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9F9D-0E9F-42E7-81C6-D8AAEBCBB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7EFE-E7F8-45B7-86A3-FE70DC3A5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B8B7-371E-4B36-BDC6-3A8B6EFBB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E839-39F5-4037-8844-08C0B86D9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573E-9DC8-40E9-8C0F-6A616E794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2C00-0C76-4699-8840-796BC8DC1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4DE0-A693-4562-9F3A-BBA59579A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015-C0AC-4667-A6AC-AB99051C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CD2-D8EF-4E4B-9D5E-BAD8A39F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ACE-013D-4D2C-83BE-6FABDCDE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3E0-B1C8-40A9-8059-FD8A42E3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CC8-0334-4E55-8E75-77F6ABE8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79E-779B-40BE-9B8A-FD5E0E3E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5DF-CB0F-484A-A774-93A2FE61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183-6D01-46D3-BB41-9F228FDB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6C3-B4C2-4F59-8695-87F4F034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53C-A21F-4616-B399-38D1A478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464-AF24-4A29-A0C9-54684B80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7A6-8123-4514-8833-76F5EFC6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5F18-B95A-4CE7-B58B-23B1E5665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ndblog.typepad.com/photos/uncategorized/2007/11/05/vanderbilt.jpg&amp;imgrefurl=http://pndblog.typepad.com/pndblog/annals_of_wealth/&amp;usg=__RHQ402OQ0qAiYzEU8FhzkiTmAtA=&amp;h=320&amp;w=240&amp;sz=28&amp;hl=en&amp;start=2&amp;um=1&amp;itbs=1&amp;tbnid=kf8pkxvSktUwaM:&amp;tbnh=118&amp;tbnw=89&amp;prev=/images%3Fq%3Dcornelius%2Bvanderbilt%26hl%3Den%26safe%3Dactive%26rlz%3D1T4DMUS_enUS234US238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tolaf.edu/people/becker/antitrust/statutes/sherman.html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rb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elius Vanderbilt owned “New York Centr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ed to popularize steel ra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personal wealth valued at close to $100 Mill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ated a million to found Vanderbilt University in Tennes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4876920"/>
            <a:ext cx="2743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ialism Dinner Party: Two Follow-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“Necessity the Mother of Invention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similar in the “stories” of each inven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ber Barons or Captains of Indu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n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to America from Scot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gs to ri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-private secretary of Superint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 that made him a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ed for a cheap way to 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achinery an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ed talent w/ stock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and horizont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STEEL sale made him first Billio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D. Rockefe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efeller-Standard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arne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an’t beat’em, join’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ed in Trust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ed their stock into group of trus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turn, companies were entitled to dividends on pro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legal m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1870-2-3% of Refining business and 90% of refining business in 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wages-sold lower and then would raise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ROBBER BARON-but gave away a lot of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00 million funded University of Chicago medical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Ingredients for Industrialism Pi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IL-Edwin Dr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usville, 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il b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products of refining-gasoline originally thrown a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omes one of America’s most lucrative ex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s of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roots Movements-The G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red by misuse of land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nn v. Illin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Citizens-Muckr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Jacob Ri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 of Citizens-Un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Federation of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ernment very reluctant to regu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dn’t have a history of reg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easures were not eff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tate Commerce Act (18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herman Anti-Trust Act (18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th of Major Labor U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was there a need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included: Low wages, long hours, equal pay and child la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ernment did not regulate business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nioniz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reasons someone would want to join a U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-P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nt in Spring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Unions and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Labor Union (NLU) (Sylvis le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ghts of Labor (Stephens then Powder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Federation of Labor (AF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Railway Union (AR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gene V. Debs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Workers of the World  aka “Wobblies”  (IW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ill lead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eat Strike of 187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ymarket Affair (188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stead Strike (189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llman Strike (189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ngredients for 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L-Bessem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and Iron abu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ct Oxygen into Iron-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lroa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MMM….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icity-Thomas Edi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zard on Menlo Park, N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home becomes an invention fac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stinghouse developed after E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VENTION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les-Typewr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 and Watson-Tele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job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of 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continental railroa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montory Point, Utah (Golden Spik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 of Civil War 30,000 miles of 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 times that in 18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of 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F. Dow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ld 24 Z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. 18, 1883-sycron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rth of tow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ron, steel, coal, lumber and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Birth of towns-Necess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ullman car-Sleeper C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ullman’s treatment of workers-Tow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l in the “Golden Age of Laissez-Fair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Mobi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Co. set up by Union Pa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d too much and “donated” shares to representatives in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 Pacific had taken about $23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, deception w/ prices also rails allowed to do what it “needs to do” after being given government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6:31:03Z</dcterms:created>
  <dc:creator>tbabcock</dc:creator>
  <dc:description/>
  <dc:language>en-US</dc:language>
  <cp:lastModifiedBy>tbabcock</cp:lastModifiedBy>
  <dcterms:modified xsi:type="dcterms:W3CDTF">2010-02-24T16:01:11Z</dcterms:modified>
  <cp:revision>24</cp:revision>
  <dc:subject/>
  <dc:title>Indurstrialism</dc:title>
</cp:coreProperties>
</file>