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D922-E2C8-4834-BA8C-D227FABAA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ED48-34D3-43D5-A915-B2E095437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FD3B-6B79-4D8F-B139-A43AB321D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AF17-786E-4941-9A86-746D32B4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3CD-07A1-4AD0-A8B0-0AA893FC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BE45-816A-4CCD-BCB9-096D2E63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6440-783C-450E-ABAA-FF7461F1A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3A76-31F4-4D2D-9184-84328CC50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3BFE-A330-4DA3-8404-04161F00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9189-C634-4D89-8C92-A16DCB09F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BA41-BF33-4610-84BB-78B62E7A8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397-224C-4EA8-9A47-DA12DCE10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3885-3D4D-4E07-A189-E36A7CA95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C5B2-E32D-4EA0-8362-2058195F9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EA7-2B45-4382-AB17-E02B9D5D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061-D9A8-4B6D-9629-B9E22B29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0ED-CA9C-407B-ABE8-B1DC9519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D64-6714-4FE8-A43E-B8C6AA0C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727-AE84-4196-8720-59FAC962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FA1-D7F5-4E54-87AD-8BEFA5F4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F11-2C3A-4D62-9F10-46CD1FFE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D20-9D90-4B64-B28F-67C3B073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180-A8E5-4A98-AC4D-54AC766D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50D-A632-45E9-B439-D245B17F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109-7DDF-4520-8A26-F3DA50DF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DBF-8DE9-4D5B-9388-51ACC5FB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D52C-C1F2-4101-AA23-67533960D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ndblog.typepad.com/photos/uncategorized/2007/11/05/vanderbilt.jpg&amp;imgrefurl=http://pndblog.typepad.com/pndblog/annals_of_wealth/&amp;usg=__RHQ402OQ0qAiYzEU8FhzkiTmAtA=&amp;h=320&amp;w=240&amp;sz=28&amp;hl=en&amp;start=2&amp;um=1&amp;itbs=1&amp;tbnid=kf8pkxvSktUwaM:&amp;tbnh=118&amp;tbnw=89&amp;prev=/images%3Fq%3Dcornelius%2Bvanderbilt%26hl%3Den%26safe%3Dactive%26rlz%3D1T4DMUS_enUS234US238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olaf.edu/people/becker/antitrust/statutes/sherman.html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lius Vanderbilt owned “New York Centr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to popularize steel ra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ersonal wealth valued at close to $100 Mi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ated a million to found Vanderbilt University in Tenne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87692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ism Dinner Party: Two Follow-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“Necessity the Mother of Invention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similar in the “stories” of each inven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ber Barons or Captains of Indu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n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to America from Sco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gs to r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-private secretary of Superint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that made him a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ed for a cheap way to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achinery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ed talent w/ stock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nd horizont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STEEL sale made him first Billio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D. Rockef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efeller-Standard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arn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’t beat’em, join’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in Trust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ed their stock into group of trus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turn, companies were entitled to dividends on 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egal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1870-2-3% of Refining business and 90% of refining business in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wages-sold lower and then would rais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OBBER BARON-but gave away a lot of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0 million funded University of Chicago medical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Ingredients for Industrialism Pi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-Edwin Dr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usville, 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 b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products of refining-gasoline originally thrown 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omes one of America’s most lucrative ex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s of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roots Movements-The G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red by misuse of land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nn v. Illin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Citizens-Muckr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Jacob Ri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of Citizens-Un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Federation of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very reluctant to regu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dn’t have a history of re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easures were not eff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tate Commerce Act (18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erman Anti-Trust Act (18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of Major Labor U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as there a need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included: Low wages, long hours, equal pay and child la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did not regulate business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nion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reasons someone would want to join a U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-P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in Spring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Unions and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Labor Union (NLU) (Sylvis l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ghts of Labor (Stephens then Powde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ederation of Labor (AF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Railway Union (AR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gene V. Deb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Workers of the World  aka “Wobblies”  (IW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ill lead to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eat Strike of 187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ymarket Affair (18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stead Strike (18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llman Strike (18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ngredients for 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L-Bessem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and Iron abu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ct Oxygen into Iron-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MMM….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icity-Thomas Ed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zard on Menlo Park, N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home becomes an invention fac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stinghouse developed after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NTION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les-Typewr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 and Watson-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jobs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continental railro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ontory Point, Utah (Golden Spik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of Civil War 30,000 miles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times that in 1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F. Do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ld 24 Z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. 18, 1883-sycron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rth of tow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ron, steel, coal, lumber and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irth of towns-Neces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ullman car-Sleeper C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ullman’s treatment of workers-Tow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l in the “Golden Age of Laissez-Fair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Mobi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Co. set up by Union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d too much and “donated” shares to representatives in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Pacific had taken about $2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, deception w/ prices also rails allowed to do what it “needs to do” after being given government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6:31:03Z</dcterms:created>
  <dc:creator>tbabcock</dc:creator>
  <dc:description/>
  <dc:language>en-US</dc:language>
  <cp:lastModifiedBy>tbabcock</cp:lastModifiedBy>
  <dcterms:modified xsi:type="dcterms:W3CDTF">2010-02-24T16:01:11Z</dcterms:modified>
  <cp:revision>24</cp:revision>
  <dc:subject/>
  <dc:title>Indurstrialism</dc:title>
</cp:coreProperties>
</file>