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431-EFE2-413D-9A60-EA928E86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2C4-5389-40D4-A6BF-E8725769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B5B-8AE2-40F9-8705-FAD72995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3FA-69A9-4221-8CD1-3C530755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CF8B-7B33-4C8C-95B9-74FF32FE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0A64-AC8A-4B32-A94B-328EB738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03D2-EFFB-4DBE-B42C-B3888239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B73F-8EBA-441B-9C6C-EC9B16C3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D311-DF0F-41F1-A302-7EC126A9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25D-C512-4F34-B93F-16F617C1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051-4D1A-43A4-A0D6-04062E51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EC21-F78E-45CD-A77D-4D54A30E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8C08-FCA4-4B86-ABD4-3F300C5AA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ivingroomcandidate.org/commercials/1964/peace-little-girl-daisy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BJ’s Presid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le of two Presi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0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Domina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Rights Accompl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tnam or “Hey, hey LBJ, how many kids did you kill today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 Society: NEW DEAL 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1871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9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son (D) v. Goldwater (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vingroomcandidate.org/commercials/1964/peace-little-girl-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at Societ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Tax 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on Pover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ary and Secondary Education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mmigration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at Society”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Foundation of the Arts and Huma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abinet positions-DOT and H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unding for Public Housing and Crime Prev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7:09:11Z</dcterms:created>
  <dc:creator>tbabcock</dc:creator>
  <dc:description/>
  <dc:language>en-US</dc:language>
  <cp:lastModifiedBy>tbabcock</cp:lastModifiedBy>
  <dcterms:modified xsi:type="dcterms:W3CDTF">2010-04-26T12:08:39Z</dcterms:modified>
  <cp:revision>15</cp:revision>
  <dc:subject/>
  <dc:title>LBJ’s Presidency</dc:title>
</cp:coreProperties>
</file>