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3E5B-9554-47B2-BC7C-37F6EF34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2C2-2B91-4531-99AF-C3C22661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222-CF71-42BE-B728-4C3EB66D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D9B4-ED77-45D2-99AD-5765023C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82FE-0844-414B-89BC-5C404A86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E719-B458-41F6-9A00-412E79D8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155-8421-4432-BF7B-CD52BA7A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F2E-EDE9-4A6E-A651-EE327D3A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B51-1723-4B6A-A759-E9756531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19FD-E4AC-4863-B5A5-14BB75EF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B77E-E847-4204-9D10-72FB6C51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DB52-7AA7-4793-86C8-4D63CF88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33C5-EF21-4280-8DAB-76A3A4CB2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ivingroomcandidate.org/commercials/1964/peace-little-girl-daisy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BJ’s Presid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le of two Presi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0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Domina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Rights Accompl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tnam or “Hey, hey LBJ, how many kids did you kill today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 Society: NEW DEAL I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1871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9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son (D) v. Goldwater (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ivingroomcandidate.org/commercials/1964/peace-little-girl-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eat Societ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Tax 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on Pover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ary and Secondary Education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mmigration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eat Society”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Foundation of the Arts and Huma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abinet positions-DOT and H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unding for Public Housing and Crime Preven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7:09:11Z</dcterms:created>
  <dc:creator>tbabcock</dc:creator>
  <dc:description/>
  <dc:language>en-US</dc:language>
  <cp:lastModifiedBy>tbabcock</cp:lastModifiedBy>
  <dcterms:modified xsi:type="dcterms:W3CDTF">2010-04-26T12:08:39Z</dcterms:modified>
  <cp:revision>15</cp:revision>
  <dc:subject/>
  <dc:title>LBJ’s Presidency</dc:title>
</cp:coreProperties>
</file>