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B424-674A-49F6-B0D9-3DBB63F9A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A6EC-0F9A-4205-8203-6E9DBD5DB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74A8-7520-429A-9EBA-607B21070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7744-2CC8-4425-9621-6934F2D29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AA51-D163-4C82-90AC-721D384C2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15E1-D9ED-4FDA-9300-EA549F2EF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7C2F-4325-4268-9A4E-85407A138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A8C4-521D-4661-BBE6-61CAB74F5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92E4-6E58-4BB9-8810-8CD07F7DB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2A50-FD3A-4DDA-A6B9-60295727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245B-9938-49F3-A3A7-5BE1DE5CA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0AA2-98EF-42EC-879B-532189D5A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68D28-07E1-4C7C-A433-C8DCA16B00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livingroomcandidate.org/commercials/1964/peace-little-girl-daisy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BJ’s Presid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ale of two Presid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604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Dominant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vil Rights Accomplish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tnam or “Hey, hey LBJ, how many kids did you kill today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reat Society: NEW DEAL I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4114800"/>
            <a:ext cx="18716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ion of 196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son (D) v. Goldwater (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livingroomcandidate.org/commercials/1964/peace-little-girl-dai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Great Society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vil R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me Tax c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 on Povert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mentary and Secondary Education 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Immigration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Great Society” (Continue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 Foundation of the Arts and Huma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abinet positions-DOT and H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funding for Public Housing and Crime Preven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7:09:11Z</dcterms:created>
  <dc:creator>tbabcock</dc:creator>
  <dc:description/>
  <dc:language>en-US</dc:language>
  <cp:lastModifiedBy>tbabcock</cp:lastModifiedBy>
  <dcterms:modified xsi:type="dcterms:W3CDTF">2010-04-26T12:08:39Z</dcterms:modified>
  <cp:revision>15</cp:revision>
  <dc:subject/>
  <dc:title>LBJ’s Presidency</dc:title>
</cp:coreProperties>
</file>