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8C2-172C-4DBE-B955-A488658C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B10-5B85-4804-AC5E-BDF9F7F4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3E7-5DE4-492D-A354-E5203444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509-34CA-41F3-97FD-C78F497C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55E-0AFC-4B11-98E2-4DD8CD37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6FC-63BD-40D4-9F7E-971612D4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151-BBED-4436-BCA5-66936116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375-981F-42D4-8DC1-1FFE6BE1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F6E-44A1-41C7-B9AC-110C9AF9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671-F461-441A-96B3-1CFAA79E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ECA-6F04-4A05-8CFB-E28C02D0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981-C478-46AC-B296-4B1AF153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B0BE-ED7C-47A8-A20C-6E74A9C23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vingroomcandidate.org/commercials/1964/peace-little-girl-daisy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BJ’s Presid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le of two Presi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0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Domina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Rights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tnam or “Hey, hey LBJ, how many kids did you kill toda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Society: NEW DEAL 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187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9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son (D) v. Goldwater (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vingroomcandidate.org/commercials/1964/peace-little-girl-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Socie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Tax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on Pover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ry and Secondary Educ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mmigrati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Society”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Foundation of the Arts and Huma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binet positions-DOT and H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unding for Public Housing and Crime Pre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7:09:11Z</dcterms:created>
  <dc:creator>tbabcock</dc:creator>
  <dc:description/>
  <dc:language>en-US</dc:language>
  <cp:lastModifiedBy>tbabcock</cp:lastModifiedBy>
  <dcterms:modified xsi:type="dcterms:W3CDTF">2010-04-26T12:08:39Z</dcterms:modified>
  <cp:revision>15</cp:revision>
  <dc:subject/>
  <dc:title>LBJ’s Presidency</dc:title>
</cp:coreProperties>
</file>