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6CD-8710-44D8-8DE4-FEAA58E7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8F4-FA2B-44FF-BCE7-CB87CD47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3E4-DDB5-466B-BEE3-89ED341B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0A6-705E-47C9-BB57-47908DD1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BD8A-E4BE-4E30-8674-7BCFB38E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1F41-5987-4377-9639-49729E51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63BD-E4B0-4590-9994-B751F9F9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F94B-E09F-4D30-863A-09FABD59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8A7-927C-4531-BF9C-71720B42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96B-9214-4569-B7A0-0B12E6B5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9A0-8E7F-4379-8795-AAED31C5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6E84-7E5E-4D68-AB91-57889EE9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903D-5FCC-4815-B8AD-B14E51E46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vingroomcandidate.org/commercials/1964/peace-little-girl-daisy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BJ’s Presid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le of two Presi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0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Domina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Rights Accomp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tnam or “Hey, hey LBJ, how many kids did you kill toda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 Society: NEW DEAL 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187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9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son (D) v. Goldwater (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vingroomcandidate.org/commercials/1964/peace-little-girl-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at Societ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Tax 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on Pover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ary and Secondary Education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mmigration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at Society”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Foundation of the Arts and Huma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abinet positions-DOT and H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unding for Public Housing and Crime Prev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7:09:11Z</dcterms:created>
  <dc:creator>tbabcock</dc:creator>
  <dc:description/>
  <dc:language>en-US</dc:language>
  <cp:lastModifiedBy>tbabcock</cp:lastModifiedBy>
  <dcterms:modified xsi:type="dcterms:W3CDTF">2010-04-26T12:08:39Z</dcterms:modified>
  <cp:revision>15</cp:revision>
  <dc:subject/>
  <dc:title>LBJ’s Presidency</dc:title>
</cp:coreProperties>
</file>