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648-829F-4074-AB74-2F798469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1AE-ECE1-4978-8579-D1F13FF2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8AF2-B830-4737-9E59-E0E115D3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94E-7291-4233-8D99-0BF075E6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608-524A-4FEB-9161-04123A23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040-2836-4CDA-9B6D-CDAB8159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736-BD47-4981-8730-801DB5B7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F60B-75A2-41A2-8DA7-16EBDF06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1D9-DDC8-446B-80C7-3E93DF9E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2EF4-FE7B-4927-A90A-2917B444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1E5-E1C6-4D76-BA4F-99AD7FF0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6F87-FD63-48D2-B4BA-DAD0127E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1F7F-A55B-408B-B05F-C589112D2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ixon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am not a crook?” (Read like Ron Burgun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tn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ised to end war “Peace with Hon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tnamiz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talks with extended bom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is over by 19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gon falls in 1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nte-Met with Mao in 197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real Cold Warrior could pull off this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to recognition of China in 19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 I-Strategic Arms Limitations trea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Powers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Day War on Israel-America supports 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flation, already present, wors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gate-Abuses by the White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House/Executive Privile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York Times v. United States (197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EP-Committee to re-elect the Presi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ing and entering of Watergate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olid proof that Nixon ordered any of B+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of fi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achment begins-Nixon R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ift of power to Executive sub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 shamed man leaves D.C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57:39Z</dcterms:created>
  <dc:creator>tbabcock</dc:creator>
  <dc:description/>
  <dc:language>en-US</dc:language>
  <cp:lastModifiedBy>tbabcock</cp:lastModifiedBy>
  <dcterms:modified xsi:type="dcterms:W3CDTF">2010-04-26T13:16:21Z</dcterms:modified>
  <cp:revision>18</cp:revision>
  <dc:subject/>
  <dc:title>Nixon Years</dc:title>
</cp:coreProperties>
</file>