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7B47-502D-48E2-B1DD-21A5A7C62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DC0F-D062-4174-936A-7A66C5D2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B9B7-D79F-4878-85E8-D977ED596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21E1-EFA2-4B47-AB4B-39F95E4E4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3CDB-2515-4C89-93A4-ADBC4A58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BB99-124D-4EFF-96E8-316B8B3F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3DBE-4125-41D3-AF74-C12369F0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0AD2-6937-457C-96F5-F644FF12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4E81-310C-4842-8324-FEC82057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029D-2E8D-41AF-BC32-478DC598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47C5-89A1-427E-8788-625B6B87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26C2-6D31-4323-BB87-D5D789C9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9337-544E-40CB-8DAD-25A5557E8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ixon Y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 am not a crook?” (Read like Ron Burgund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etn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ised to end war “Peace with Hon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tnamiz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ce talks with extended bomb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 is over by 19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igon falls in 19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d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tente-Met with Mao in 197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 real Cold Warrior could pull off this m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d to recognition of China in 19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T I-Strategic Arms Limitations trea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 Powers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 Day War on Israel-America supports Isra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ar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flation, already present, wors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ergate-Abuses by the White Ho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House/Executive Privile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w York Times v. United States (197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EP-Committee to re-elect the Presid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ing and entering of Watergate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olid proof that Nixon ordered any of B+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g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ng t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mber of fi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eachment begins-Nixon R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hift of power to Executive subs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A shamed man leaves D.C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57:39Z</dcterms:created>
  <dc:creator>tbabcock</dc:creator>
  <dc:description/>
  <dc:language>en-US</dc:language>
  <cp:lastModifiedBy>tbabcock</cp:lastModifiedBy>
  <dcterms:modified xsi:type="dcterms:W3CDTF">2010-04-26T13:16:21Z</dcterms:modified>
  <cp:revision>18</cp:revision>
  <dc:subject/>
  <dc:title>Nixon Years</dc:title>
</cp:coreProperties>
</file>