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C0E-D638-4223-9565-E5404DB7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69BA-A6C9-4077-A1D9-259BD3E4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45C-141D-44CD-AFF9-BB3175EA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894-03E5-4666-8B87-07FC5A38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77F-7446-4E66-9D03-6233CFF2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01F-A998-4152-B045-1E9EB902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B11-4C7E-45D2-A6FA-80BBAA85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61F-13E9-4FEF-84D1-D159FDAC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460-EC9B-47CA-B4B6-4DD1DB6F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42C-3719-4A00-8EE6-B3649ADA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5FD-528C-46E0-84B0-E6744A1D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5AB-640F-4D82-A21D-5FC60A97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B248-C007-4DC7-B48A-A6D2BC8CC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ixon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am not a crook?” (Read like Ron Burgun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ised to end war “Peace with Hon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tnamiz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talks with extended bo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is over by 19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gon falls in 1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nte-Met with Mao in 197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real Cold Warrior could pull off this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recognition of China in 19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I-Strategic Arms Limitations trea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Powers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Day War on Israel-America supports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flation, already present, wors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gate-Abuses by the White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House/Executive Privile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York Times v. United States (197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EP-Committee to re-elect the Presi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ing and entering of Watergate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olid proof that Nixon ordered any of B+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of fi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achment begins-Nixon R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ift of power to Executive sub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 shamed man leaves D.C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57:39Z</dcterms:created>
  <dc:creator>tbabcock</dc:creator>
  <dc:description/>
  <dc:language>en-US</dc:language>
  <cp:lastModifiedBy>tbabcock</cp:lastModifiedBy>
  <dcterms:modified xsi:type="dcterms:W3CDTF">2010-04-26T13:16:21Z</dcterms:modified>
  <cp:revision>18</cp:revision>
  <dc:subject/>
  <dc:title>Nixon Years</dc:title>
</cp:coreProperties>
</file>