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ADC-08A6-4EF0-B8F3-26F6F76F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FA6-0711-4F03-9EE4-C42CF3FA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455-9447-4E1E-AA39-46CC6895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B79-649D-44CB-B518-888B8549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0B3-C41F-481E-A8A5-19C10BE8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922-8AC8-484E-B7E7-7915941D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C7F-6208-4FFF-87FC-C269025A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E95-DED5-4A50-980A-EFC83A68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84A-F008-429F-A536-3FE124C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27D-03CD-4868-9B31-11CA741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250-B0A4-4320-B22B-B4700F8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77C-ED23-4CB3-8732-FE5DED94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2DE-6851-4446-9DAA-88BA56DCF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scovered it before he discovered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ake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 starts to become inhabited after the last Ice Age sub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Native (Indigenous) Americans settle in all part of North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dibly developed cultures, languages and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-Visitors (Pre-Columb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kings”-Norse Seafarers from Scandina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al “Discover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emporary settlements in Eastern North America (Can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s-Increased desire for Foreign goods after centuries of warfa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uese success early prompted competition from many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holomeu Dias-to the Southern par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o de Gama-Cape of Good Hope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, Gold and Gl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going on in Europ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us’ Lega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37:25Z</dcterms:created>
  <dc:creator>tbabcock</dc:creator>
  <dc:description/>
  <dc:language>en-US</dc:language>
  <cp:lastModifiedBy>tbabcock</cp:lastModifiedBy>
  <dcterms:modified xsi:type="dcterms:W3CDTF">2009-09-09T18:53:21Z</dcterms:modified>
  <cp:revision>17</cp:revision>
  <dc:subject/>
  <dc:title>Pre-Columbus</dc:title>
</cp:coreProperties>
</file>