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DEE4-FC4B-475C-A242-8E9F3230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9164-F8D5-410F-A8E0-924ED09B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13BE-4618-461E-8117-B31ECE49C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A812-B84E-4029-8D3C-FBFA587A8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924A-2DEC-47B5-A046-CD8C5F9F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2725-4B1F-4E54-A4D8-0EA771FC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3701-12E2-4EE2-8051-F029BF07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5192-76E0-4871-A9B3-B1FC8D5D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D4B4-D014-4718-8F5D-A224E701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997E-4708-493A-B51B-5495D0B5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5534-97CE-4129-861A-3EFD5A8D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3178-FEE7-4027-B1FE-BF174F03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077E-01D1-4044-9096-B0A210EE4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Colum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discovered it before he discovered 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rica Takes Sha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 America starts to become inhabited after the last Ice Age sub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Native (Indigenous) Americans settle in all part of North and Sout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dibly developed cultures, languages and cus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-Visitors (Pre-Columbu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kings”-Norse Seafarers from Scandinav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idental “Discover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temporary settlements in Eastern North America (Cana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usades-Increased desire for Foreign goods after centuries of warfare and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uguese success early prompted competition from many compet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tholomeu Dias-to the Southern part of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co de Gama-Cape of Good Hope to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d, Gold and Gl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going on in Europe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9480" y="0"/>
            <a:ext cx="815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746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bus’ Legac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llai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18:37:25Z</dcterms:created>
  <dc:creator>tbabcock</dc:creator>
  <dc:description/>
  <dc:language>en-US</dc:language>
  <cp:lastModifiedBy>tbabcock</cp:lastModifiedBy>
  <dcterms:modified xsi:type="dcterms:W3CDTF">2009-09-09T18:53:21Z</dcterms:modified>
  <cp:revision>17</cp:revision>
  <dc:subject/>
  <dc:title>Pre-Columbus</dc:title>
</cp:coreProperties>
</file>