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7C4-64F1-4D53-9CD5-A869A598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D70-A42E-44A3-8A2F-5785E1F2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2C0-75C2-4423-AA23-267C42CE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F11-92B0-48BE-B54A-4CEC4272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3E5-2743-4415-8B13-03F22D12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AA7-9550-41F7-AB2C-BA506561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3B0-2270-445B-B0A5-35E73043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957-1102-44C4-9A62-5CB9A35E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982-6445-4507-B625-740C91E7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7D0-5D06-46C0-8BDB-60D921D3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B4C-B26C-4D6F-A1EE-BF05E3DB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39B-D9C7-4E9A-935B-1C90F98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B823-0448-4FA3-9CE5-5F1D8E40D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scovered it before he discovered 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Take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 starts to become inhabited after the last Ice Age sub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Native (Indigenous) Americans settle in all part of North 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dibly developed cultures, languages and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-Visitors (Pre-Columbu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kings”-Norse Seafarers from Scandina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dental “Discover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emporary settlements in Eastern North America (Cana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ades-Increased desire for Foreign goods after centuries of warfare an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uese success early prompted competition from many 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holomeu Dias-to the Southern part of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o de Gama-Cape of Good Hope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, Gold and Gl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going on in Europ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us’ Lega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ll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37:25Z</dcterms:created>
  <dc:creator>tbabcock</dc:creator>
  <dc:description/>
  <dc:language>en-US</dc:language>
  <cp:lastModifiedBy>tbabcock</cp:lastModifiedBy>
  <dcterms:modified xsi:type="dcterms:W3CDTF">2009-09-09T18:53:21Z</dcterms:modified>
  <cp:revision>17</cp:revision>
  <dc:subject/>
  <dc:title>Pre-Columbus</dc:title>
</cp:coreProperties>
</file>