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678-0E23-4903-BAA2-A774A607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37B-7858-442D-AB49-E48EE66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C00-A832-4098-B4B0-E5AC5F9E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C53-4FE0-49DC-98C8-1319339F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072-3F0C-420B-8A41-B4B1255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2B9-4F85-4861-9CDC-F4448F7B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C1F-305E-43A7-8E97-C6DAB1FC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D59-E902-4262-884A-7F5B954D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9C2-B28C-4DC3-A11C-0F7DB79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675-B7FD-4571-BF23-BDA0EA4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957-CA8C-4B93-9F8B-2C8D2C0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4FA-23C7-4AC3-8F87-D12E554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55EC-3A64-4404-8D72-431B64D7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scovered it before he discovered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ake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 starts to become inhabited after the last Ice Age sub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Native (Indigenous) Americans settle in all part of North 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developed cultures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-Visitors (Pre-Columb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kings”-Norse Seafarers from Scandina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al “Discover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emporary settlements in Eastern North America (Can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-Increased desire for Foreign goods after centuries of warfare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 success early prompted competition from many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holomeu Dias-to the Southern par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o de Gama-Cape of Good Hope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, Gold and Gl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going on in Europ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us’ Leg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37:25Z</dcterms:created>
  <dc:creator>tbabcock</dc:creator>
  <dc:description/>
  <dc:language>en-US</dc:language>
  <cp:lastModifiedBy>tbabcock</cp:lastModifiedBy>
  <dcterms:modified xsi:type="dcterms:W3CDTF">2009-09-09T18:53:21Z</dcterms:modified>
  <cp:revision>17</cp:revision>
  <dc:subject/>
  <dc:title>Pre-Columbus</dc:title>
</cp:coreProperties>
</file>