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77F-0E48-4519-87B2-9A2A0F8D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28F-C8E4-417D-ADCA-670031DF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C3F-CCCA-4FC6-83B7-7CA3C2A7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0D8-2BEE-4FA9-BB36-A816E10C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04B-CCA5-44FA-BBE0-3568BD1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C52-DDC8-4E0B-BD7A-0642FB23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B1B-4B70-4B14-BA71-0EFA2ABC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1EE-CB05-4DA9-8514-72A59602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1DE-CBBD-4FF6-996A-368784E1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290-C222-4F40-B726-00B2B341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148-01CE-45DA-8E6E-BC12DBF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43E-5F09-419C-A62E-6B429ACB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9BA9-BF4D-4370-B083-561023D4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ling the Northern Colon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 Reformation Conti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VIII establishes the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of England keeps many of the traditions of the Catholic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ligious groups form out of the church, including many who wish to “Purify”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lony of Separa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tters” as they were without legal right to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 Males signed the “Mayflower Comp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et backs but stuck to thei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ed a “Thanksgiv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Bradford was their l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d with Massachusetts bay in 16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husetts B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their chance to leave in the disbanding of Parliament 16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olony of non-separatist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inthrop was leader who believed that they were the model for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 trading, fishing and ship building help it become a financia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upon a Hi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let us choose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, and our se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ive; by obeying 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, and cleaving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 is our lif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rosper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7:33:28Z</dcterms:created>
  <dc:creator>tbabcock</dc:creator>
  <dc:description/>
  <dc:language>en-US</dc:language>
  <cp:lastModifiedBy>tbabcock</cp:lastModifiedBy>
  <dcterms:modified xsi:type="dcterms:W3CDTF">2009-09-14T17:56:44Z</dcterms:modified>
  <cp:revision>12</cp:revision>
  <dc:subject/>
  <dc:title>Settling the Northern Colonies </dc:title>
</cp:coreProperties>
</file>