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18B-927A-44C0-97CD-DE49F129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8E45-A97D-4965-B6BD-04FB3871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303-BAD5-4E57-8B21-EF14CD0D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8E6-7D68-4BD4-8823-C3F38129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D44-2568-400D-BF79-AC82D6C8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0E66-3100-4987-87DD-0CE2D8B2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0DF-9A46-4864-8EAC-F195831D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86C-8BA4-4A17-BC04-2477FACF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FE5-A585-44EF-A16F-B38453D2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A14-0838-48B9-8EAD-AB2DE5EE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8327-69D8-4141-ABD8-1C6FB83F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3C1-2C44-4D5A-8331-904C8A93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BCBC-B346-4E4A-9E8E-5F6862E2C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tling the Northern Colon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stant Reformation Conti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VIII establishes the Church of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of England keeps many of the traditions of the Catholic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eligious groups form out of the church, including many who wish to “Purify”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y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olony of Separa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tters” as they were without legal right to 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 Males signed the “Mayflower Compa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set backs but stuck to their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ebrated a “Thanksgiv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Bradford was their lea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ged with Massachusetts bay in 16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flower Co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achusetts B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w their chance to leave in the disbanding of Parliament 16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colony of non-separatist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Winthrop was leader who believed that they were the model for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 trading, fishing and ship building help it become a financial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 upon a Hil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let us choose lif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, and our se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ive; by obeying 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, and cleaving to h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 is our life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prosper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7:33:28Z</dcterms:created>
  <dc:creator>tbabcock</dc:creator>
  <dc:description/>
  <dc:language>en-US</dc:language>
  <cp:lastModifiedBy>tbabcock</cp:lastModifiedBy>
  <dcterms:modified xsi:type="dcterms:W3CDTF">2009-09-14T17:56:44Z</dcterms:modified>
  <cp:revision>12</cp:revision>
  <dc:subject/>
  <dc:title>Settling the Northern Colonies </dc:title>
</cp:coreProperties>
</file>