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77D-C3C6-48F4-B010-76520D1F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162-31B7-4538-995B-93085C46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C48-7BAB-4207-AD80-8D707606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9E5-C5B1-4714-A91C-6C5A6569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F3C-2ED7-45CD-ADA3-4D27BF70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A22-C86B-4B18-8BA7-7369D18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20F-20DF-48BA-8DF4-0E208D8E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4B7-F454-4816-9798-46F3575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A0F-1E21-43EA-AFC5-7A3B9589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3FF-C6C9-400D-8679-AB13EABD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39D-5A61-40B2-9470-36A87C25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3AD-2299-44A1-8B87-78EE6DD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A168-0509-42DA-AD4D-63630D7C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ing the Northern Colon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 Reformation Conti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I establishes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of England keeps many of the traditions of 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ligious groups form out of the church, including many who wish to “Purify”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lony of Separa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tters” as they were without legal right to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 Males signed the “Mayflower Comp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et backs but stuck to thei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d a “Thanksgiv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Bradford was their l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d with Massachusetts bay in 16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 B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their chance to leave in the disbanding of Parliament 16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olony of non-separatist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nthrop was leader who believed that they were the model for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ing, fishing and ship building help it become a financi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upon a Hi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let us choose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, and our s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ive; by obeying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, and cleaving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 is our lif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sper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7:33:28Z</dcterms:created>
  <dc:creator>tbabcock</dc:creator>
  <dc:description/>
  <dc:language>en-US</dc:language>
  <cp:lastModifiedBy>tbabcock</cp:lastModifiedBy>
  <dcterms:modified xsi:type="dcterms:W3CDTF">2009-09-14T17:56:44Z</dcterms:modified>
  <cp:revision>12</cp:revision>
  <dc:subject/>
  <dc:title>Settling the Northern Colonies </dc:title>
</cp:coreProperties>
</file>