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DF7-1EAE-49E4-833A-2E8594EF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889-029C-4C0B-AE13-E4FAEA60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99D-4015-4A71-ACCF-C435ABA7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483-3EAA-499F-BA05-0442EC75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E84-2445-4810-9A18-0D332872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F12-4C6D-407F-AA7E-DA4072C7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9C3-8973-43AE-9FE8-231AAE72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5FF-1A6D-41F3-A9C0-F4447579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D0B-3F25-4499-BD9A-C033B9FF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413-5CAC-4E20-BBF1-32E007A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7ED-92CC-4214-94F8-17A71E40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3A8-A253-44BB-B8C7-E8361879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1CE7-5889-4EFC-A5F8-4138900AA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tling the Northern Colon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stant Reformation Conti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VIII establishes the Church of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of England keeps many of the traditions of the Catholic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eligious groups form out of the church, including many who wish to “Purify”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y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olony of Separa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tters” as they were without legal right to 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 Males signed the “Mayflower Compa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set backs but stuck to their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brated a “Thanksgiv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Bradford was their lea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ed with Massachusetts bay in 16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achusetts B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 their chance to leave in the disbanding of Parliament 16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colony of non-separatist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Winthrop was leader who believed that they were the model for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 trading, fishing and ship building help it become a financial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upon a Hil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let us choose lif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, and our se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ive; by obeying 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, and cleaving to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 is our life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prosper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7:33:28Z</dcterms:created>
  <dc:creator>tbabcock</dc:creator>
  <dc:description/>
  <dc:language>en-US</dc:language>
  <cp:lastModifiedBy>tbabcock</cp:lastModifiedBy>
  <dcterms:modified xsi:type="dcterms:W3CDTF">2009-09-14T17:56:44Z</dcterms:modified>
  <cp:revision>12</cp:revision>
  <dc:subject/>
  <dc:title>Settling the Northern Colonies </dc:title>
</cp:coreProperties>
</file>