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811-9F74-4247-A06F-407D5075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BDB-DF3B-4787-A074-8C1C3F5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EFD-AE67-42A6-8DE0-CDB024DE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F6B-0748-4B04-A80B-8646AD98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F1E-BCEC-452C-AEAC-CFD51C0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269-07CB-42E2-A85C-0C6B8FB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10F-6553-49F1-BAFF-1411AAE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350-A98F-4DCA-B643-C79EB7BE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F84-65BB-423A-B515-E99D6A1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CEE-02F1-4A2F-9662-05F3ECA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0B1-6A10-49B9-8CCA-93340E04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1D7-957D-4E2D-963B-1C7A982C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E9AE-B848-41F4-80BA-979977EE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ing the Northern Colon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 Reformation Conti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VIII establishes the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of England keeps many of the traditions of 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ligious groups form out of the church, including many who wish to “Purify”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lony of Separa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tters” as they were without legal right to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 Males signed the “Mayflower Comp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et backs but stuck to thei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d a “Thanksgiv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Bradford was their l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with Massachusetts bay in 16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husetts B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their chance to leave in the disbanding of Parliament 16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olony of non-separatist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nthrop was leader who believed that they were the model for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ing, fishing and ship building help it become a financi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upon a Hi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let us choose lif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, and our se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ive; by obeying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, and cleaving to hi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 is our lif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sper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33:28Z</dcterms:created>
  <dc:creator>tbabcock</dc:creator>
  <dc:description/>
  <dc:language>en-US</dc:language>
  <cp:lastModifiedBy>tbabcock</cp:lastModifiedBy>
  <dcterms:modified xsi:type="dcterms:W3CDTF">2009-09-14T17:56:44Z</dcterms:modified>
  <cp:revision>12</cp:revision>
  <dc:subject/>
  <dc:title>Settling the Northern Colonies </dc:title>
</cp:coreProperties>
</file>