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B3E-BDAC-4139-9FA0-3CA3FA6F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BEE-CB2F-4D7C-AC5B-619B4687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307-06A1-40EC-BBF9-28125ABA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7FA-73E8-49F2-8213-D1D4E78A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156-8BBB-4D7C-84DA-F2DBEBAE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FE1-E9A3-4884-B7FA-B6922035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BEA-5099-47C6-BB57-B3F4E0E2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5C5-0540-4B07-8B2A-20F87DB6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8B0-4B9C-48A8-9FDA-A74ECF5D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784-2B9B-49DA-95DD-B686DE14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970-EEA2-45AE-B65F-F961BD8A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5F8-48C9-40BD-97F0-9D2D9570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AF62-8F56-4D82-9603-7B28288DC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ling the Northern Colon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 Reformation Conti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VIII establishes the Church of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of England keeps many of the traditions of the Catholic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ligious groups form out of the church, including many who wish to “Purify”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olony of Separa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tters” as they were without legal right to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 Males signed the “Mayflower Compa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et backs but stuck to thei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ed a “Thanksgiv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Bradford was their lea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d with Massachusetts bay in 16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achusetts B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 their chance to leave in the disbanding of Parliament 16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colony of non-separatist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inthrop was leader who believed that they were the model for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 trading, fishing and ship building help it become a financia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upon a Hi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let us choose lif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, and our se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ive; by obeying 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, and cleaving to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 is our life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rosper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7:33:28Z</dcterms:created>
  <dc:creator>tbabcock</dc:creator>
  <dc:description/>
  <dc:language>en-US</dc:language>
  <cp:lastModifiedBy>tbabcock</cp:lastModifiedBy>
  <dcterms:modified xsi:type="dcterms:W3CDTF">2009-09-14T17:56:44Z</dcterms:modified>
  <cp:revision>12</cp:revision>
  <dc:subject/>
  <dc:title>Settling the Northern Colonies </dc:title>
</cp:coreProperties>
</file>