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E8BD9-19FB-410F-AC36-324A3865E4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0381D-1911-430E-90CE-2E9B676FAE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24F89-ED96-43DB-87AF-02BC166F0D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88AD7-6F1B-48E1-8B5D-4E1A1BD1AD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A9D07-3796-4CFF-A4AB-A1784243CA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DD65B-404A-4A1B-8302-F0F3236D5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520CD-6AF7-4157-81A4-740931534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211D3-4ED1-426A-9FD5-39988C1A78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DFE7B-11DD-4724-AA97-C5C7AD1DE5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92652-6851-4ED6-AD3E-0F628005E5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2465B-AE1A-4AAF-9D54-E64D18C0E2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CE866-9535-4F11-839D-5A26441F57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159DC-D6EF-4EC2-A097-FBC2A148BE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2A1B-659C-40CD-A4A9-83F93E861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F8AE9-790D-4266-807D-771AB5FA13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FB0C5-0935-4737-8422-C1CFD6A64B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CA124-6FF0-4D2A-9C98-176C94C335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93A16-4983-45A3-A3CA-A3CBD39DDF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DEA11-23DD-44F3-AEB4-48B0674D3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E39BD-EF2A-4129-9720-3F03D2E2C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98DA3-9FF5-49F2-8FB9-C1B8759B85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4C1FE-E69E-47C9-8571-45885338AD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89945-2981-439E-8FDC-9614988E2B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0F027-5A40-4225-9A8A-7CA6B265A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AA49A-0492-4471-ADFC-61B02C81A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6EE3D-43B5-43B8-863D-2F89EEFFE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F96D1-5F10-4D23-83B4-DE158ECFB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04591-D9C6-4AF0-8728-D5ADDCEBA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63F26-EF5F-4BCD-B912-286138FA2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DFDB9-A634-4803-B407-545C06A26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C7A26-A57A-43F6-B2A3-DB9FE8F1C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C0B92-9067-4A03-9FF2-132AEED27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D194C-9501-492C-95FA-77492DABC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C58F5-78A0-46B4-89D5-4B4AA64AF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2D6BA-FF89-462C-8487-C86868F6E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70B59-645F-4C48-B31F-25DE31DB7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1B3A5-F63C-444C-8EE3-155A495E86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F3F2B-A7A2-4D6F-B6BE-9A20D8A1A6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traileraddict.com/content/samuel-goldwyn-films/supersize_me.jpg&amp;imgrefurl=http://www.traileraddict.com/poster/super-size-me&amp;usg=__gmjqXzl49yVZ19zRhVxuQtlwFkc=&amp;h=579&amp;w=400&amp;sz=39&amp;hl=en&amp;start=3&amp;um=1&amp;itbs=1&amp;tbnid=wBHQD2h1Erpr0M:&amp;tbnh=134&amp;tbnw=93&amp;prev=/images%3Fq%3Dsupersize%2Bme%26um%3D1%26hl%3Den%26safe%3Dactive%26sa%3DN%26rlz%3D1T4DMUS_enUS234US238%26tbs%3Disch:1" TargetMode="External"/><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rogressive Movem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erSize</a:t>
            </a:r>
            <a:endParaRPr b="0" lang="en-US" sz="4400" spc="-1" strike="noStrike">
              <a:solidFill>
                <a:srgbClr val="000000"/>
              </a:solidFill>
              <a:latin typeface="Arial"/>
            </a:endParaRPr>
          </a:p>
        </p:txBody>
      </p:sp>
      <p:pic>
        <p:nvPicPr>
          <p:cNvPr id="59" name="" descr="">
            <a:hlinkClick r:id="rId1"/>
          </p:cNvPr>
          <p:cNvPicPr/>
          <p:nvPr/>
        </p:nvPicPr>
        <p:blipFill>
          <a:blip r:embed="rId2"/>
          <a:stretch/>
        </p:blipFill>
        <p:spPr>
          <a:xfrm>
            <a:off x="1828800" y="1828800"/>
            <a:ext cx="533412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of Progressive Reform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ndustrialization, with all its increase in productivity and the number of consumer goods, created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Labor unrest </a:t>
            </a:r>
            <a:br>
              <a:rPr sz="2000"/>
            </a:br>
            <a:r>
              <a:rPr b="0" lang="en-US" sz="2000" spc="-1" strike="noStrike">
                <a:solidFill>
                  <a:srgbClr val="000000"/>
                </a:solidFill>
                <a:latin typeface="Arial"/>
              </a:rPr>
              <a:t>2) Wasteful use of natural resources </a:t>
            </a:r>
            <a:br>
              <a:rPr sz="2000"/>
            </a:br>
            <a:r>
              <a:rPr b="0" lang="en-US" sz="2000" spc="-1" strike="noStrike">
                <a:solidFill>
                  <a:srgbClr val="000000"/>
                </a:solidFill>
                <a:latin typeface="Arial"/>
              </a:rPr>
              <a:t>3) Abuses of corporate power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Growing cities magnified problems of poverty, disease, crime, and corrup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Influx of immigrants and rise of new managerial class upset traditional class alignme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Massive depression (1893-1897) convinced many that equal opportunity was out of reach for many Americ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middle clas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middle class composed of young professional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ought to apply principles of professions to problems of society</a:t>
            </a:r>
            <a:br>
              <a:rPr sz="2800"/>
            </a:br>
            <a:r>
              <a:rPr b="0" lang="en-US" sz="2800" spc="-1" strike="noStrike">
                <a:solidFill>
                  <a:srgbClr val="000000"/>
                </a:solidFill>
                <a:latin typeface="Arial"/>
              </a:rPr>
              <a:t>2. Strong faith in progress and the ability of educated people to overcome problems </a:t>
            </a:r>
            <a:br>
              <a:rPr sz="2800"/>
            </a:br>
            <a:r>
              <a:rPr b="0" lang="en-US" sz="2800" spc="-1" strike="noStrike">
                <a:solidFill>
                  <a:srgbClr val="000000"/>
                </a:solidFill>
                <a:latin typeface="Arial"/>
              </a:rPr>
              <a:t>3. Rise in volunteer organizations organized to address issues (National Association for the Advancement of Colored People, Salvation Army</a:t>
            </a:r>
            <a:br>
              <a:rPr sz="2800"/>
            </a:br>
            <a:r>
              <a:rPr b="0" lang="en-US" sz="2800" spc="-1" strike="noStrike">
                <a:solidFill>
                  <a:srgbClr val="000000"/>
                </a:solidFill>
                <a:latin typeface="Arial"/>
              </a:rPr>
              <a:t>4. Mainly urb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Individuals and group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kraking journalists attacked corruption and scandal with a sense of moral outrag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reformers (many opposed to traditional party politic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ists--frustrated workers who promised to destroy capitalism. Led by Eugene Debs (who polled 900,000 votes for president in 1912), socialists were rejected by most Progressives as too extreme in their goals and metho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ckraker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pton Sinclair-”The Jungl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da Tarbell-”Standard Oil”</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coln Steffens-”Shame of the Citie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cob Riis-”How the Other Half Live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Changes”</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f you could fix one problem in America today, what would you fix and why</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ity and State Government Reform </a:t>
            </a:r>
            <a:br>
              <a:rPr sz="4000"/>
            </a:b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es enlist the help of City Manager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level reform efforts championed by Robert La Follette of Wisconsi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primary to give voters control over candidate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itiative</a:t>
            </a:r>
            <a:r>
              <a:rPr b="0" lang="en-US" sz="2000" spc="-1" strike="noStrike">
                <a:solidFill>
                  <a:srgbClr val="000000"/>
                </a:solidFill>
                <a:latin typeface="Arial"/>
              </a:rPr>
              <a:t>--allowed 5% of voters to "initiate" laws in state legislatures </a:t>
            </a:r>
            <a:br>
              <a:rPr sz="2000"/>
            </a:br>
            <a:r>
              <a:rPr b="0" i="1" lang="en-US" sz="2000" spc="-1" strike="noStrike">
                <a:solidFill>
                  <a:srgbClr val="000000"/>
                </a:solidFill>
                <a:latin typeface="Arial"/>
              </a:rPr>
              <a:t>Referendum</a:t>
            </a:r>
            <a:r>
              <a:rPr b="0" lang="en-US" sz="2000" spc="-1" strike="noStrike">
                <a:solidFill>
                  <a:srgbClr val="000000"/>
                </a:solidFill>
                <a:latin typeface="Arial"/>
              </a:rPr>
              <a:t>--in some states voters could then pass initiatives into laws </a:t>
            </a:r>
            <a:br>
              <a:rPr sz="2000"/>
            </a:br>
            <a:r>
              <a:rPr b="0" lang="en-US" sz="2000" spc="-1" strike="noStrike">
                <a:solidFill>
                  <a:srgbClr val="000000"/>
                </a:solidFill>
                <a:latin typeface="Arial"/>
              </a:rPr>
              <a:t>R</a:t>
            </a:r>
            <a:r>
              <a:rPr b="0" i="1" lang="en-US" sz="2000" spc="-1" strike="noStrike">
                <a:solidFill>
                  <a:srgbClr val="000000"/>
                </a:solidFill>
                <a:latin typeface="Arial"/>
              </a:rPr>
              <a:t>ecall</a:t>
            </a:r>
            <a:r>
              <a:rPr b="0" lang="en-US" sz="2000" spc="-1" strike="noStrike">
                <a:solidFill>
                  <a:srgbClr val="000000"/>
                </a:solidFill>
                <a:latin typeface="Arial"/>
              </a:rPr>
              <a:t>--by petition voters could force an offical to stand for re-election at any tim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ubernator</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Picture 7" descr="CommandoPoster"/>
          <p:cNvPicPr/>
          <p:nvPr/>
        </p:nvPicPr>
        <p:blipFill>
          <a:blip r:embed="rId1"/>
          <a:stretch/>
        </p:blipFill>
        <p:spPr>
          <a:xfrm>
            <a:off x="457200" y="1600200"/>
            <a:ext cx="3962520" cy="4495680"/>
          </a:xfrm>
          <a:prstGeom prst="rect">
            <a:avLst/>
          </a:prstGeom>
          <a:ln w="0">
            <a:noFill/>
          </a:ln>
        </p:spPr>
      </p:pic>
      <p:pic>
        <p:nvPicPr>
          <p:cNvPr id="76" name="Picture 8" descr="governator"/>
          <p:cNvPicPr/>
          <p:nvPr/>
        </p:nvPicPr>
        <p:blipFill>
          <a:blip r:embed="rId2"/>
          <a:stretch/>
        </p:blipFill>
        <p:spPr>
          <a:xfrm>
            <a:off x="4724280" y="1600200"/>
            <a:ext cx="388620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gressive Programs-Successes</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ive educ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Dewey led movement that focused on personal growth and learning through experie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men began attending colleges in large numb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lement houses--Jane Addams and others established group homes in city slums to aid poor urban residents.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clin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es (Continued)</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men's righ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the number of employed women stayed constant the types of jobs started to ch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lotte Perkins Gilman attacked the male monopoly on opportunity and declared that domesticity was an obsolete value for American wom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aret Sanger led the movement to provide birth control to prevent unwanted pregnancies among poor wom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ffragists urged that women be given the franchise, which came on the national level with the 19th Amendment (19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80880" y="0"/>
            <a:ext cx="8382240" cy="6462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gressive ERRORS (Get it…ha)</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genics (Too F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Rights (Not Far Enoug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hibition (Too F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Saloon League and Women's Christian Temperance Union fought alcoholism on the state level through blue laws and on the national level with the 18th Amendment which prohibited the manufacture, sale, and transportation of liquor.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eugenic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5" descr="Modifiedmurderchart-78976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s Reforms-Square Deal</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power of the presidency (a "bully pulpit") as no president since Lincoln, T.R. loved to lead and to fight those he felt were not acting in America's best interes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l Strike--When coal mine owners refused to deal with the union in a 1902 strike, T.R. summonsed them and the head of the mine workers to the White House and threatened to use army troops to keep the mines open. Owners backed down and T.R. was credited with ending the strik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ern Securities Case--T.R. used the Sherman Antitrust Act to attack a railroad monopoly. Supreme Court ordered the company to dissolv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ed Departments of Labor and Commerce to the Cabine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pburn Act (1906), strengthening the Interstate Commerce Commissio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ged Congressional approval of the Pure Food and Drug Act (1906), which forbade impure foods and required labeling of ingredients of foods and dru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s Reforms </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rvation reform added massive areas to the national forests (total of 190 million acre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red forests to the U.S. Forest Service headed by Gifford Pinchot, who insisted that trees be planted as well as harvest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drew millions of acres of public land from sale to protect resource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public land sale revenues to build dams and canal syste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ft and the Election of 1912</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ublican successor Taft proved to be less progressive than T.R. in the areas of tariff reform and conserva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ne-Aldrich Tariff (heralded by Taft as "the best tariff passed by the Republican Party") protected industries and kept consumer prices high</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ublic land sale scandal in Alaska pitted Pinchot against Secretary of Interior Ballinger. Taft fired Pincho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ion of 1912</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lson (D)</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 (Progressive or Bull Moose Party)</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ft (R)</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bs (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fin (Prohibi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lson’s “New Freedom”</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f reform--Underwood Tariff (1913) gave first significant tariff reduction since 1860s as Wilson personally delivered his goals to Congres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cy and banking reform-- Creation of Federal Reserve System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ed as bankers' banks and prevent "runs" on bank assets</a:t>
            </a:r>
            <a:br>
              <a:rPr sz="2000"/>
            </a:br>
            <a:r>
              <a:rPr b="0" lang="en-US" sz="2000" spc="-1" strike="noStrike">
                <a:solidFill>
                  <a:srgbClr val="000000"/>
                </a:solidFill>
                <a:latin typeface="Arial"/>
              </a:rPr>
              <a:t>Federal reserve notes issued a flexible new currency to the banking syste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yton Antitrust Act (1914) to restrict monopolies and set up a Federal Trade Commission to stop unfair practices which may ari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riis2"/>
          <p:cNvPicPr/>
          <p:nvPr/>
        </p:nvPicPr>
        <p:blipFill>
          <a:blip r:embed="rId1"/>
          <a:stretch/>
        </p:blipFill>
        <p:spPr>
          <a:xfrm>
            <a:off x="1371600" y="380880"/>
            <a:ext cx="6629400" cy="556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bandits_roost"/>
          <p:cNvPicPr/>
          <p:nvPr/>
        </p:nvPicPr>
        <p:blipFill>
          <a:blip r:embed="rId1"/>
          <a:stretch/>
        </p:blipFill>
        <p:spPr>
          <a:xfrm>
            <a:off x="1295280" y="0"/>
            <a:ext cx="6782040" cy="688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riis1"/>
          <p:cNvPicPr/>
          <p:nvPr/>
        </p:nvPicPr>
        <p:blipFill>
          <a:blip r:embed="rId1"/>
          <a:stretch/>
        </p:blipFill>
        <p:spPr>
          <a:xfrm>
            <a:off x="990720" y="685800"/>
            <a:ext cx="7315200" cy="514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riis4"/>
          <p:cNvPicPr/>
          <p:nvPr/>
        </p:nvPicPr>
        <p:blipFill>
          <a:blip r:embed="rId1"/>
          <a:stretch/>
        </p:blipFill>
        <p:spPr>
          <a:xfrm>
            <a:off x="1371600" y="380880"/>
            <a:ext cx="6667560" cy="610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68eb9eb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9f69dfd8"/>
          <p:cNvPicPr/>
          <p:nvPr/>
        </p:nvPicPr>
        <p:blipFill>
          <a:blip r:embed="rId1"/>
          <a:stretch/>
        </p:blipFill>
        <p:spPr>
          <a:xfrm>
            <a:off x="533520" y="0"/>
            <a:ext cx="81532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childeren%20sleeping"/>
          <p:cNvPicPr/>
          <p:nvPr/>
        </p:nvPicPr>
        <p:blipFill>
          <a:blip r:embed="rId1"/>
          <a:stretch/>
        </p:blipFill>
        <p:spPr>
          <a:xfrm>
            <a:off x="609480" y="0"/>
            <a:ext cx="80773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15:15:01Z</dcterms:created>
  <dc:creator>tbabcock</dc:creator>
  <dc:description/>
  <dc:language>en-US</dc:language>
  <cp:lastModifiedBy>tbabcock</cp:lastModifiedBy>
  <dcterms:modified xsi:type="dcterms:W3CDTF">2010-03-04T15:26:24Z</dcterms:modified>
  <cp:revision>21</cp:revision>
  <dc:subject/>
  <dc:title>The Progressive Movement </dc:title>
</cp:coreProperties>
</file>