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738D-8478-44EF-9B50-955B24453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47A4-A666-4F1A-BA98-81B692F81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FB14-0F00-4D97-9A76-FBA86CFD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876C-19A7-490F-8B55-64675D16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DEDD-E6A6-41F6-8D11-3436E5C68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046D-196B-4ED9-88E4-7C4E443D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8E88-EB27-4AF9-ADEF-9B15134ED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8A89-F585-4C6F-AEA3-2D03B737E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C569-975E-4781-BD97-F304D9BB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D32-4F3A-47D4-9C83-FDEC69001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AF3D-5EDB-4B8F-A478-9BFC28D6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C533-ADFE-42A9-9217-D2A67AF69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3AB1-B33B-480D-990D-897B88F3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BDC8-2699-493D-BE29-BA563692B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1F1F-C2EA-4E85-97DD-E87A4179A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C988-F016-4EDA-B81A-9425F716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8F40-D1F4-47C4-917F-B54FC12E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AD7B-1C70-4DBB-AD53-AB9A8687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685D-3CFA-423E-9099-7D5140A7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C32-6EEC-476D-BB89-07292779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D46-B50C-4A05-9418-0068360B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E92-68FD-442B-BC48-7C8EE297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1D0-2038-4A3A-A2DC-E0739121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9E5-96A8-47F9-BBF4-D7403896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720-E8A1-4C90-A409-C3F7C08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9B0-DEB3-4D1B-9D50-70867286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A29-27F9-4F10-8547-586D300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C3B-2F0A-44F6-A1EB-FE536B37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163-93E7-4B62-AF22-D43E206B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E35-0C33-4D5B-8C07-3FBD1E2F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0BB-22A9-4321-BF4D-9100E1A6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FC51-E859-41DF-9679-7D0228DF9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3289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Revolution is Coming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mperial Wars and Colonial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victory thanks to new prime minister William P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mised colonists they would not pay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centrated on taking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complished with retaking of Louisbourg, 1758, Quebec, 1759, and Montreal in 1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.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ace treaty- Treaty of Paris- signed in 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ain acquired French Canada and Spanish F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ain got LA and claims west of  Mississip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rench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power on continent virtually e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) Effect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r. Britain gets unchallenged supremacy in NA and global naval supre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urther increased tension b/w Brit and Amer. col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foreseen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examples of unforeseen consequence during the “French and Indian War” and its afterm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policy of salutary neglect was abando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iggest reason was financial- Amer. colonists needed to pay for continued Brit protection of its frontiers (NOT directly to repay debt from war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599160" y="1905120"/>
            <a:ext cx="2544840" cy="28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ntiac’s Rebellion-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A angry about increased colonial  movement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ntiac’s alliance destroyed forts from NY to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ts sent regular troops to put down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lamation of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 prohibited colonists from settling west of Appalachians in order to prevent more hostility with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. colonists view it as an attempt to control settlement and slap in  face after victory i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y ignored and moved west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ugar Act (Rev Act of 17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ually decreased duty on foreign sugar and other luxuries but would be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lso included law providing for stricter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ICE ADMIRALTY courts were established for those who were accused of smuggling- 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E. Quartering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lonists forced to provide food and living quarters for Brit soldiers stationed in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1. Stamps had to be placed on most printed paper in colonies including legal documents, newspapers, pamphlets, and 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that Europe’s hostilities are going to begin to spill into their colonial possessions (Specifically four different wars), what impact can you foresee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. First direct tax on col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Met with 4 forms of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iolence- mobs, burn in effigy, tar and f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conomic- boycott- high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litical- unifies colonies- Form Stamp Act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clarator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liament repealed the Stamp Act but enacted this to  assert that Parliament had the right to make laws for the colonies “in all cases whatsoeve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ral European wars spilled over into the colonies from 1689-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ing William’s War- stale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een Anne’s War- mostly a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talemat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too but Britain did get control of Nova Scotia from France and trading rights in Spanis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King George’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glethorpe managed to ward off Sp.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 colonists captured Louisbourg which controlled access to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7000" indent="-35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returned it to French for gains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/ British tension grew as a result of perceived British indifference to their efforts and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n Years’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ench began to build series of forts in northern Ohio River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. Washington went out to stop their work at Fort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shington’s militia was unsuccessful- forced to surrender-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) Initially war went badly for Br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5- Braddock and Brits routed by smaller French and N.A. force near Ft.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6-57- attempted Brit invasion of Fr Canada repul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6094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261800" indent="-420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gov’t called for colonial representatives to meet at Albany NY in 17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. Franklin key in composing plan for intercolonial gov’t and system for recruiting troops, collecting taxes, and defending selves from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3)Plan never took effect because colonies were not willing to hand over any taxation power- does set precedent for colonial cooperation in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’s attempt at Persu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572000" y="3862440"/>
            <a:ext cx="360" cy="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30:14Z</dcterms:created>
  <dc:creator>tbabcock</dc:creator>
  <dc:description/>
  <dc:language>en-US</dc:language>
  <cp:lastModifiedBy>tbabcock</cp:lastModifiedBy>
  <dcterms:modified xsi:type="dcterms:W3CDTF">2009-10-01T11:57:03Z</dcterms:modified>
  <cp:revision>13</cp:revision>
  <dc:subject/>
  <dc:title>“The Revolution is Coming!”</dc:title>
</cp:coreProperties>
</file>