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C23-8DA0-4310-944C-0F4DEDB4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060C-2F0D-49D6-BAEB-E23426DF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B322-B485-4BA4-8C39-84AC21A1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9AA5-88B9-4E6F-AF7B-F23DF5ED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7A73-1F43-4D01-9030-EBFC9D9E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E61-A702-43A6-98C7-B3E87AAF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297C-072E-4FA2-8A1C-D44D66706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F197-7454-4E2B-90C7-59C44A52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A766-B1AF-4E0F-B6E8-2F6F734D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E85F-7E40-4A32-8A54-3FD52F53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76A-DB88-4AB1-9B4F-29A04FFD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590-E260-4691-915A-D6C82EF3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DEDE-0AA7-497F-87C4-F1536D7C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9B5C-7AE6-47BE-8EDF-F3CC7E36E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8498-2E8E-4604-B39C-2B49F54B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93B-CB77-482F-BE05-14E2E488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0E5F-FA6E-4E1C-B13F-0A4908E78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0D11-B566-42D9-B0A1-71A64156C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F83F-C0CE-49BC-ADB9-F7F44BF5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BA0-9FD5-423F-B902-53A9EC86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DBA-2A06-4DA8-BCAE-5353039F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390-6FCB-4313-9DF5-9F6167EE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E75-BA3E-4635-A876-A278185F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E7A-AB7D-49D9-AA54-338DAC07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83B-A529-48B3-8F8B-D070F6BF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813-E049-4B26-BB04-7D696C3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302-DCAA-4788-8D88-00351CBC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2CE-EA91-492C-884F-333D3117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DBF-A4C3-432F-89E2-77E12E6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B9C-B38E-4196-BD44-842EF5C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B7A-F0C6-4FE0-B4ED-8A0A6BC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1FD9-5521-4311-AE5F-20A0D4CE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Revolution is Coming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mperial Wars and Colonial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victory thanks to new prime minister William P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mised colonists they would not pay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centrated on taking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omplished with retaking of Louisbourg, 1758, Quebec, 1759, and Montreal in 1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.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ace treaty- Treaty of Paris- signed in 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ain acquired French Canada and Spanish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ain got LA and claims west of  Mississip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rench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power on continent virtually 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) Effect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r. Britain gets unchallenged supremacy in NA and global naval supre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urther increased tension b/w Brit and Amer. 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foreseen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examples of unforeseen consequence during the “French and Indian War” and its afterm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policy of salutary neglect was abando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ggest reason was financial- Amer. colonists needed to pay for continued Brit protection of its frontiers (NOT directly to repay debt from war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599160" y="19051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ntiac’s Rebellion-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A angry about increased colonial  movement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ntiac’s alliance destroyed forts from NY to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ts sent regular troops to put down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 prohibited colonists from settling west of Appalachians in order to prevent more hostility with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. colonists view it as an attempt to control settlement and slap in  face after victory i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y ignored and moved west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gar Act (Rev Act of 17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ually decreased duty on foreign sugar and other luxuries but would be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lso included law providing for stricte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ICE ADMIRALTY courts were established for those who were accused of smuggling- 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. Quartering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lonists forced to provide food and living quarters for Brit soldiers stationed i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. Stamps had to be placed on most printed paper in colonies including legal documents, newspapers, pamphlets, and 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that Europe’s hostilities are going to begin to spill into their colonial possessions (Specifically four different wars), what impact can you foresee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 First direct tax on col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Met with 4 form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olence- mobs, burn in effigy, tar and f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conomic- boycott- high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litical- unifies colonies- Form Stamp Act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clarator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liament repealed the Stamp Act but enacted this to  assert that Parliament had the right to make laws for the colonies “in all cases whatsoev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ral European wars spilled over into the colonies from 1689-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ing William’s War-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een Anne’s War- mostly a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alemat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too but Britain did get control of Nova Scotia from France and trading rights in Spanis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King George’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glethorpe managed to ward off Sp.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 colonists captured Louisbourg which controlled access to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700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returned it to French for gain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/ British tension grew as a result of perceived British indifference to their efforts an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n Years’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ench began to build series of forts in northern Ohio River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. Washington went out to stop their work at Fort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hington’s militia was unsuccessful- forced to surrender-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) Initially war went badly for B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5- Braddock and Brits routed by smaller French and N.A. force near Ft.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6-57- attempted Brit invasion of Fr Canada repul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6094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gov’t called for colonial representatives to meet at Albany NY in 17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. Franklin key in composing plan for intercolonial gov’t and system for recruiting troops, collecting taxes, and defending selves from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3)Plan never took effect because colonies were not willing to hand over any taxation power- does set precedent for colonial cooperation i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’s attempt at Persu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572000" y="3862440"/>
            <a:ext cx="360" cy="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30:14Z</dcterms:created>
  <dc:creator>tbabcock</dc:creator>
  <dc:description/>
  <dc:language>en-US</dc:language>
  <cp:lastModifiedBy>tbabcock</cp:lastModifiedBy>
  <dcterms:modified xsi:type="dcterms:W3CDTF">2009-10-01T11:57:03Z</dcterms:modified>
  <cp:revision>13</cp:revision>
  <dc:subject/>
  <dc:title>“The Revolution is Coming!”</dc:title>
</cp:coreProperties>
</file>