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4848-C645-4BD4-BE07-4B18FA7AD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C855-4C5E-45E5-9D6A-45FAE6949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7FC5-8B71-4810-8F36-E84E0CADC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8F67-16D9-49D3-9536-A016D5917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DB11-1F31-4DED-B0C6-7FBF239EA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5FDB-4E2D-4A21-A3FD-8286A0113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14EC-3BFA-4A54-8807-C0CCF864A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574B-3C8A-4E73-815E-C3DE60A2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74A3-0079-4D4F-9FE9-BE4BA0838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456A-E323-42CF-A854-7829C7AA7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6893-2CAE-4FED-B3C3-1075F6A39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E44A-9F35-4743-9B58-A89134EB5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1EF2-0926-4F99-ADA9-A871F789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BD30-0359-4317-8ACB-268ABD312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EDD0-C555-4626-92A4-E6234C88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A371-617F-45AF-AD67-67C04A9B7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3CD3-73DD-4B08-B81E-38065B43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09F1-39E2-4D49-984C-02F6CB33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8432-CC83-4769-BF9A-F08FD449B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644B-0452-4147-8C2A-CAAB5EA0A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B75B-FBA9-4A0E-AA80-3CF716EE3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3260-E3B8-45DC-9E54-471EEC0DF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7CCF-78F6-4E72-8ABF-51527366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CA9-B6D1-456B-870C-E33E25A4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FC2-1AC3-484E-AC9A-392DA4AD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020-EBD8-4E2E-AC5B-17265E56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46F-6433-4F6C-B5F1-4C8D1037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D10-9ADA-4F7A-A5FD-7D031413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DCC-7F4A-4ABA-884A-F4A19AE9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988-54EE-43A2-97D8-ACE9F034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412-324F-4A7C-B144-FF20E77B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6D6-C032-4ACD-BF79-2BEB6E96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A64-5812-48D0-9BE5-708D8F8C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CEE-B3BE-49A3-8AD2-B7D5588A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BAA-1249-4CC4-A85E-65214C3F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83B5-6A45-44AA-9BF9-3C0E8AE30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7rbs_nazi-tex-avery-blitz-wolf-wwii" TargetMode="External"/><Relationship Id="rId2" Type="http://schemas.openxmlformats.org/officeDocument/2006/relationships/hyperlink" Target="http://www.bcdb.com/cartoon_video/25052-Tokyo_Woe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tatic.youku.com/v1.0.0014/v/swf/qplayer.swf?VideoIDS=cc00XMjkwOTk0NzY&amp;embedid=-&amp;showAd=0" TargetMode="External"/><Relationship Id="rId2" Type="http://schemas.openxmlformats.org/officeDocument/2006/relationships/hyperlink" Target="http://static.youku.com/v1.0.0014/v/swf/qplayer.swf?VideoIDS=cc00XMjkwOTk0NzY&amp;embedid=-&amp;showAd=0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ontent.cdlib.org/ark:/13030/kt3p30207v/hi-res&amp;imgrefurl=http://content.cdlib.org/ark:/13030/kt3p30207v/%3FdocId%3Dkt3p30207v%26brand%3Doac%26layout%3Dprintable-details&amp;usg=__FvOE4M_eokwGVNMhI7Jl4_aCsYY=&amp;h=800&amp;w=505&amp;sz=114&amp;hl=en&amp;start=19&amp;sig2=KGGRkiiJp2GlWKy2UcSvNQ&amp;um=1&amp;tbnid=QN8EJNrTii8VBM:&amp;tbnh=143&amp;tbnw=90&amp;prev=/images%3Fq%3Djapanese%2Binternment%26hl%3Den%26safe%3Dactive%26rlz%3D1T4DMUS_enUS234US239%26sa%3DN%26um%3D1&amp;ei=okcASoHSJ4KdlQem7qGgCw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lorado.gov/dpa/doit/archives/wwcod/image8-2.gif&amp;imgrefurl=http://www.colorado.gov/dpa/doit/archives/wwcod/granada.htm&amp;usg=__pxMfflOM1nvJDGknkIjv478_oR8=&amp;h=465&amp;w=578&amp;sz=225&amp;hl=en&amp;start=5&amp;sig2=UKyH_T_juvIjjQcYSRlGxg&amp;um=1&amp;tbnid=epTuvivONmSIgM:&amp;tbnh=108&amp;tbnw=134&amp;prev=/images%3Fq%3Djapanese%2Binternment%26hl%3Den%26safe%3Dactive%26rlz%3D1T4DMUS_enUS234US239%26sa%3DN%26um%3D1&amp;ei=okcASoHSJ4KdlQem7qGgCw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ise of Dictators and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rld At W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itler2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cism in Spain-Francisco Fran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Francisco Franco takes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Civil War in 19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American volunteers-Abraham Lincoln Brig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1939-Facist dictator installed-500,000 d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franco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irohito"/>
          <p:cNvPicPr/>
          <p:nvPr/>
        </p:nvPicPr>
        <p:blipFill>
          <a:blip r:embed="rId1"/>
          <a:stretch/>
        </p:blipFill>
        <p:spPr>
          <a:xfrm>
            <a:off x="1676520" y="1731960"/>
            <a:ext cx="58672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-Emperor Hiroh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-Hideki To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ojo"/>
          <p:cNvPicPr/>
          <p:nvPr/>
        </p:nvPicPr>
        <p:blipFill>
          <a:blip r:embed="rId1"/>
          <a:stretch/>
        </p:blipFill>
        <p:spPr>
          <a:xfrm>
            <a:off x="762120" y="1676520"/>
            <a:ext cx="7848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American Re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Neutrality Acts (1935 and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Various neutrality acts to keep us ou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Amended many times to keep up with acts of ag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ash and C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All help short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Axis powers unite 1940-Japan, Germany and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Isolation V.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Lend-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ve toward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 plans fo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defense spending after Axis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im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 wins third term against Wendell Willkie (19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ic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 towards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-boats sink 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ate passes bill that allows merchant ships to be a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for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Hitler invades Soviet Union, U.S. expands Lend-Lease to 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arl 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ese aggression goes un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unprotected in South and Southeast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nvasion and take over of French Indochina, U.S. allows trade treaty to ex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 follows, Japan is in desperate need 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7th, 19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 403 killed and over a thousand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nty-one ships and eight battleships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300 aircraft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ith Japan declared on the 8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and Italy declare war three day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tz Wolf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ugs Bun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Duckta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okyo Wo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aly-The Rise of Benito Mussoli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rible inflation and 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s-some Communist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and upper classes worried looked to strong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ic 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cism-Nationalistic and placed the state above the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million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 Million draf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Milit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C- Women’s Auxiliary Army Co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Shut down Auto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, planes, boats and command car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yards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back to work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44, 18 million were laboring in a war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illion women were working at 60% of a man’s pay (Mom-Mom worked on the Railro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pportunities for min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lip Randolph leader of Brotherhood of Sleeping car po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tened march on Washing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DR called on Unions to be more inclusive-March call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blinded me with scie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of Scientific Research and Development (OR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ar and S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T to fight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 B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2- The Manhatta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enheimer in charge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bomb as quickly as possible, beat Germans to the bo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dvice based on a letter from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Trinity, Little Boy and Fat Ma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Arial"/>
              </a:rPr>
              <a:t>"Now I Have Become Death the Destroyer of Worlds</a:t>
            </a:r>
            <a:r>
              <a:rPr b="0" lang="en-US" sz="5400" spc="-1" strike="noStrike">
                <a:solidFill>
                  <a:srgbClr val="996633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Robert Oppenhei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Battles (Examp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aving Private Ryan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"Flags of our Fathers"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fro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oot Suit Riot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apanese Inter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Korematsu v. United States (1944)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ecutive order #90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14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t Suiters or Pachu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0"/>
            <a:ext cx="5562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panese Int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33520"/>
            <a:ext cx="7162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aly-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-”Fasc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2-supporters of Mussolini marched on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Shirts” uniforms of fol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appointed him leader of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Duce”-“Made trains run of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Fred Korematsu, with President Clinton, receives the Congressional Medal of Hon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mussolini1"/>
          <p:cNvPicPr/>
          <p:nvPr/>
        </p:nvPicPr>
        <p:blipFill>
          <a:blip r:embed="rId1"/>
          <a:stretch/>
        </p:blipFill>
        <p:spPr>
          <a:xfrm>
            <a:off x="106668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 Union-The Rise of Joseph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e Stalin makes it official-Russia is Soviet Union in 19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nin dies in 19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ggle for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lin wins in power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his competition will be killed or j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-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al and Industrial growth–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shes public farms-collectives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second most industrialized state behind U.S in 19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ges-kill off ene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8 to 13 million k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nes killed even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talin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e of National Socialism: Nazi Germany and Adolph Hit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Intense In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Depression due to the failure of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Hos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Weimar Republic-Weak and in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Didn’t have democratic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Strong fear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ermany-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ise o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own shirts-Hitler’s Th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32-Nazi strongest party in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ugs burn down Reichstag-Blames it on the Commu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33-Chancellor-decalres Third Reich-Thousand year 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8:34:54Z</dcterms:created>
  <dc:creator>tbabcock</dc:creator>
  <dc:description/>
  <dc:language>en-US</dc:language>
  <cp:lastModifiedBy>tbabcock</cp:lastModifiedBy>
  <dcterms:modified xsi:type="dcterms:W3CDTF">2010-04-29T17:50:33Z</dcterms:modified>
  <cp:revision>36</cp:revision>
  <dc:subject/>
  <dc:title>The Rise of Dictators and WWII</dc:title>
</cp:coreProperties>
</file>