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84FF-D529-48D5-BB17-F33F99BAE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1F69-3B4C-4AC9-8A7D-5FA99F613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FA5B-906B-429D-B0AC-C2DC56DEA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5460-CCDB-437A-BB01-DF13100E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A65E-9336-416B-9F5D-46D410563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CC9D-5864-4FEB-B469-320FC6CE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6A42-1ECB-4BD0-94E7-960DD281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6922-E0A8-4B77-B062-439BC0DED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D73A-7187-4D2F-AF09-63D0469B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40EA-1AB4-4195-AEEF-619DE2E6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5290-52EE-45BC-9C89-99AE4A7F3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CA9A-0EBD-4210-A10D-AD0D3429F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0CF2-9352-4A87-B1A8-623C8040F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E2AD-1F82-47EE-8E58-12200496A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F075-23B3-4861-8DEB-4E484766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6561-CA5A-4A4B-88F1-83AE71E5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1614-6C1C-4801-8C20-6B4DA8326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4542-4AF3-4316-ADC0-063028D04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C26A-77FF-4C49-A826-1A1FDE28F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6B83-6FEF-4E6B-8BEF-39E8190B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F3AB-D2CA-4DC9-BEE9-0C321BB26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6264-D2F1-4411-A6F8-AF388B6E3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09CC-0607-4A2B-930B-73E1CF83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1FF-11F3-4098-BCDA-6D6FCEF2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CBA-85E1-4CB7-ACC4-E9020406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BD7-D48F-4B70-B83A-069B3BDE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EBD-32B8-405F-8E19-343FF9FD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925-AFF2-47A3-9343-60A8A1AB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A40-C140-43A6-B807-6FAD5690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7AE-2FAC-4758-9CDC-2D24110C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519-B8DC-4519-ADD1-DFEBFA36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3C3-D4F8-4863-B3BC-00EAED5E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FD2-B883-42E6-8FD1-4DB8A19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FB6-734C-412E-83E2-54748C48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069-06FF-4439-9DAB-829B1E55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3CC3-0F3B-4FD6-AE07-E94E36C14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7rbs_nazi-tex-avery-blitz-wolf-wwii" TargetMode="External"/><Relationship Id="rId2" Type="http://schemas.openxmlformats.org/officeDocument/2006/relationships/hyperlink" Target="http://www.bcdb.com/cartoon_video/25052-Tokyo_Woe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tatic.youku.com/v1.0.0014/v/swf/qplayer.swf?VideoIDS=cc00XMjkwOTk0NzY&amp;embedid=-&amp;showAd=0" TargetMode="External"/><Relationship Id="rId2" Type="http://schemas.openxmlformats.org/officeDocument/2006/relationships/hyperlink" Target="http://static.youku.com/v1.0.0014/v/swf/qplayer.swf?VideoIDS=cc00XMjkwOTk0NzY&amp;embedid=-&amp;showAd=0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ntent.cdlib.org/ark:/13030/kt3p30207v/hi-res&amp;imgrefurl=http://content.cdlib.org/ark:/13030/kt3p30207v/%3FdocId%3Dkt3p30207v%26brand%3Doac%26layout%3Dprintable-details&amp;usg=__FvOE4M_eokwGVNMhI7Jl4_aCsYY=&amp;h=800&amp;w=505&amp;sz=114&amp;hl=en&amp;start=19&amp;sig2=KGGRkiiJp2GlWKy2UcSvNQ&amp;um=1&amp;tbnid=QN8EJNrTii8VBM:&amp;tbnh=143&amp;tbnw=90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lorado.gov/dpa/doit/archives/wwcod/image8-2.gif&amp;imgrefurl=http://www.colorado.gov/dpa/doit/archives/wwcod/granada.htm&amp;usg=__pxMfflOM1nvJDGknkIjv478_oR8=&amp;h=465&amp;w=578&amp;sz=225&amp;hl=en&amp;start=5&amp;sig2=UKyH_T_juvIjjQcYSRlGxg&amp;um=1&amp;tbnid=epTuvivONmSIgM:&amp;tbnh=108&amp;tbnw=134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ise of Dictators and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rld At W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itler2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cism in Spain-Francisco Fran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Francisco Franco take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ivil War in 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American volunteers-Abraham Lincoln Brig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1939-Facist dictator installed-500,000 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ranco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irohito"/>
          <p:cNvPicPr/>
          <p:nvPr/>
        </p:nvPicPr>
        <p:blipFill>
          <a:blip r:embed="rId1"/>
          <a:stretch/>
        </p:blipFill>
        <p:spPr>
          <a:xfrm>
            <a:off x="1676520" y="1731960"/>
            <a:ext cx="58672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Emperor Hiroh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Hideki To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ojo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American Re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Neutrality Acts (1935 and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Various neutrality acts to keep us ou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Amended many times to keep up with acts of ag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ash and C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ll help short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xis powers unite 1940-Japan, Germany and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Isolation V.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Lend-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ve toward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plans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defense spending after Axis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im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wins third term against Wendell Willkie (19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 towards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-boats sink 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ate passes bill that allows merchant ships to be a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Hitler invades Soviet Union, U.S. expands Lend-Lease to 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ese aggression goes un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unprotected in South and Southeast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vasion and take over of French Indochina, U.S. allows trade treaty to ex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 follows, Japan is in desperate need 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7th, 1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 403 killed and over a thousand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nty-one ships and eight battleships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300 aircraft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ith Japan declared on the 8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and Italy declare war three day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tz Wol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ugs Bun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Duckt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kyo Wo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aly-The Rise of Benito Mussol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rible inflation and 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s-some Communist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nd upper classes worried looked to strong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ic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cism-Nationalistic and placed the state above the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million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Million draf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Milit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C- Women’s Auxiliary Army Co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Shut down Auto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, planes, boats and command car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yards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back to work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44, 18 million were laboring in a war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illion women were working at 60% of a man’s pay (Mom-Mom worked on the Railro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for min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lip Randolph leader of Brotherhood of Sleeping car po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tened march on Washing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DR called on Unions to be more inclusive-March call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blinded me with sci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Scientific Research and Development (OR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ar and S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T to fight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B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2- The Manhatta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enheimer in charge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bomb as quickly as possible, beat Germans to the b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dvice based on a letter from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Trinity, Little Boy and Fat Ma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Arial"/>
              </a:rPr>
              <a:t>"Now I Have Become Death the Destroyer of Worlds</a:t>
            </a: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Robert Oppenhei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Battles (Examp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aving Private Ryan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"Flags of our Fathers"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fro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oot Suit Riot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panese Int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orematsu v. United States (1944)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ecutive order #90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14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t Suiters or Pachu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5562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panese Int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33520"/>
            <a:ext cx="7162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aly-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-”Fas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supporters of Mussolini marched on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Shirts” uniforms of fol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appointed him leader of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Duce”-“Made trains run of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Fred Korematsu, with President Clinton, receives the Congressional Medal of Ho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mussolini1"/>
          <p:cNvPicPr/>
          <p:nvPr/>
        </p:nvPicPr>
        <p:blipFill>
          <a:blip r:embed="rId1"/>
          <a:stretch/>
        </p:blipFill>
        <p:spPr>
          <a:xfrm>
            <a:off x="10666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Union-The Rise of Joseph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e Stalin makes it official-Russia is Soviet Union in 19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nin dies in 19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ggle for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lin wins in power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his competition will be killed or j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-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al and Industrial growth–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shes public farms-collectives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second most industrialized state behind U.S in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ges-kill off ene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8 to 13 million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nes killed eve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talin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 of National Socialism: Nazi Germany and Adolph Hit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Intense 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epression due to the failure of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Hos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Weimar Republic-Weak and in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idn’t have democratic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Strong fear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rmany-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ise o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own shirts-Hitler’s Th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2-Nazi strongest party i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ugs burn down Reichstag-Blames it on the Commu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3-Chancellor-decalres Third Reich-Thousand year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34:54Z</dcterms:created>
  <dc:creator>tbabcock</dc:creator>
  <dc:description/>
  <dc:language>en-US</dc:language>
  <cp:lastModifiedBy>tbabcock</cp:lastModifiedBy>
  <dcterms:modified xsi:type="dcterms:W3CDTF">2010-04-29T17:50:33Z</dcterms:modified>
  <cp:revision>36</cp:revision>
  <dc:subject/>
  <dc:title>The Rise of Dictators and WWII</dc:title>
</cp:coreProperties>
</file>