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B62-B118-4864-95FA-94AF70C8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E8F-3CDC-4FBF-BAD5-065CC40D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C6A-53F4-41AB-87AC-FD2F8135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66B-205C-4D5D-AD9D-D6A6AD8D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3E4-20E9-4339-90E6-B3878FA4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ED0-08DC-4395-99A1-BF6A2BE8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2511-22E9-4129-89D0-03968D0B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14A1-DDCD-4A99-AFD4-A16F180F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E81-0785-4870-AA08-081B44BD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DD4-8B16-4D59-839A-C327BD00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5A7-E256-4265-9F50-59D2FEE4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DD6-FEA4-4E53-9A53-D734211F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21C1-53A6-468A-BCAF-48C126E4D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ss.sfsu.edu/tygiel/Hist427/427ads/listerin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quotationsbook.com/assets/shared/img/262/470px-Louis_Armstrong_NYWTS_3.jpg&amp;imgrefurl=http://quotationsbook.com/author/photos/262/&amp;usg=__V8L8iBeVghqLlG68BuaC97Vs7OA=&amp;h=599&amp;w=470&amp;sz=41&amp;hl=en&amp;start=2&amp;um=1&amp;itbs=1&amp;tbnid=Zpx7ja8QQ0DwQM:&amp;tbnh=135&amp;tbnw=106&amp;prev=/images%3Fq%3Dlouis%2Barmstrong%26um%3D1%26hl%3Den%26safe%3Dactive%26sa%3DN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1920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Return to Normalcy” 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Jazz Age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23960" y="0"/>
            <a:ext cx="56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listerine.jpg (107582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1931 Listerine Antiseptic #000326"/>
          <p:cNvPicPr/>
          <p:nvPr/>
        </p:nvPicPr>
        <p:blipFill>
          <a:blip r:embed="rId1"/>
          <a:stretch/>
        </p:blipFill>
        <p:spPr>
          <a:xfrm>
            <a:off x="137160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1925 Johnson's Floor Wax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palmolive1921"/>
          <p:cNvPicPr/>
          <p:nvPr/>
        </p:nvPicPr>
        <p:blipFill>
          <a:blip r:embed="rId1"/>
          <a:stretch/>
        </p:blipFill>
        <p:spPr>
          <a:xfrm>
            <a:off x="762120" y="0"/>
            <a:ext cx="74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1920 Measure of progress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tising in the Roaring 2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dvertising say about the (1920’s) time period it was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are the target audi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uld any of these influence you in purchasing these produ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-”Talk the Tal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language of a certain time period say about that time peri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5 sayings/phrases/vocab used specifically to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azz 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some types of Music “Controversial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examples of controversial songs/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809880"/>
            <a:ext cx="3276360" cy="247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223668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791320" y="3809880"/>
            <a:ext cx="30477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war American Attitu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illusionment following World War I (and Spanish Flu) particularly among veterans, artists, and intellect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mericans were obsessed with materia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ar of Bolshevism/Communism (Red Sc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lmer R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ar of foreig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ise of the Nativist Ku Klux Klan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ments of the 1920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undamentalism vs. Moder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opes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sperity and Consume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truction of European economies during World War I left the U.S. as the only major industrial 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eap, readily available energy sources made expansion afford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ed States was a lending nation during teens and Twenties (WWI and the Dawes Plan of 1920’s for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ublican Gover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onservative presidents (Harding, Coolidge, and Hoover) encouraged a warm relationship between business and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ren G. Harding--1921-1923-- ("I am a man of limited talents from a small town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vin “Silent Cal” Coolidge--1923-1929--("The business of America is business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bert Hoover--1929-1933-- was much more progressive than his predecess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Zeitgeis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1-”Shut the Do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2-”Science v. Relig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3-”A Voice for the Voicel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4-”National Prohibition, a Failed Experi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5-”Prosperity and Consumerism-Keeping up with the Jone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dmeth, Greg D. "U.S. History Resources“ http://home.earthlink.net/~gfeldmeth/USHistory.html (31 March 19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79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3:15:56Z</dcterms:created>
  <dc:creator>tbabcock</dc:creator>
  <dc:description/>
  <dc:language>en-US</dc:language>
  <cp:lastModifiedBy>tbabcock</cp:lastModifiedBy>
  <dcterms:modified xsi:type="dcterms:W3CDTF">2010-04-19T18:53:43Z</dcterms:modified>
  <cp:revision>23</cp:revision>
  <dc:subject/>
  <dc:title>The 1920s </dc:title>
</cp:coreProperties>
</file>