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7336-57F2-42DC-915B-50BB2A893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5DCB-7338-4712-972E-B1DB70D0F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7388-9C7F-454E-8DAB-05A9966FE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D52D-EBDF-4DE0-94ED-9785F8B8C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D712-DEE8-47E0-B44D-065769CC1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18E4-35C6-4DEB-AFC0-96C89A20D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5BED-92BE-4ADB-9668-B733D4786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3DA5-3C6F-4824-8AE4-B035E296E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76EF-87C5-48A3-90D2-88BF32A0B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DDE5-551A-4646-ACD7-485B5F5BD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F807-74D9-41D3-9C15-FCBC75882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6499-603F-4435-8165-DF41D68DD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6F891-0C7F-4FC1-B120-CEB54B14D9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bss.sfsu.edu/tygiel/Hist427/427ads/listerine.jp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quotationsbook.com/assets/shared/img/262/470px-Louis_Armstrong_NYWTS_3.jpg&amp;imgrefurl=http://quotationsbook.com/author/photos/262/&amp;usg=__V8L8iBeVghqLlG68BuaC97Vs7OA=&amp;h=599&amp;w=470&amp;sz=41&amp;hl=en&amp;start=2&amp;um=1&amp;itbs=1&amp;tbnid=Zpx7ja8QQ0DwQM:&amp;tbnh=135&amp;tbnw=106&amp;prev=/images%3Fq%3Dlouis%2Barmstrong%26um%3D1%26hl%3Den%26safe%3Dactive%26sa%3DN%26tbs%3Disch:1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The 1920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 Return to Normalcy” o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he Jazz Age”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623960" y="0"/>
            <a:ext cx="5614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219320" y="0"/>
            <a:ext cx="6553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listerine.jpg (107582 bytes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00200" y="685800"/>
            <a:ext cx="5486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1931 Listerine Antiseptic #000326"/>
          <p:cNvPicPr/>
          <p:nvPr/>
        </p:nvPicPr>
        <p:blipFill>
          <a:blip r:embed="rId1"/>
          <a:stretch/>
        </p:blipFill>
        <p:spPr>
          <a:xfrm>
            <a:off x="1371600" y="0"/>
            <a:ext cx="6324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143000" y="0"/>
            <a:ext cx="6781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838080" y="0"/>
            <a:ext cx="7315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1925 Johnson's Floor Wax"/>
          <p:cNvPicPr/>
          <p:nvPr/>
        </p:nvPicPr>
        <p:blipFill>
          <a:blip r:embed="rId1"/>
          <a:stretch/>
        </p:blipFill>
        <p:spPr>
          <a:xfrm>
            <a:off x="914400" y="0"/>
            <a:ext cx="7238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palmolive1921"/>
          <p:cNvPicPr/>
          <p:nvPr/>
        </p:nvPicPr>
        <p:blipFill>
          <a:blip r:embed="rId1"/>
          <a:stretch/>
        </p:blipFill>
        <p:spPr>
          <a:xfrm>
            <a:off x="762120" y="0"/>
            <a:ext cx="7467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1920 Measure of progress"/>
          <p:cNvPicPr/>
          <p:nvPr/>
        </p:nvPicPr>
        <p:blipFill>
          <a:blip r:embed="rId1"/>
          <a:stretch/>
        </p:blipFill>
        <p:spPr>
          <a:xfrm>
            <a:off x="1219320" y="0"/>
            <a:ext cx="6781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vertising in the Roaring 20’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advertising say about the (1920’s) time period it was releas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o are the target audienc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ould any of these influence you in purchasing these produc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nguage-”Talk the Talk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es language of a certain time period say about that time perio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nk of 5 sayings/phrases/vocab used specifically toda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Jazz Age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makes some types of Music “Controversial”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 examples of controversial songs/mu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362320" y="3809880"/>
            <a:ext cx="3276360" cy="2475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0" y="3809880"/>
            <a:ext cx="2236680" cy="30481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5791320" y="3809880"/>
            <a:ext cx="304776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twar American Attitud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isillusionment following World War I (and Spanish Flu) particularly among veterans, artists, and intellectu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mericans were obsessed with materialis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ear of Bolshevism/Communism (Red Scar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almer Ra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ear of foreign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ise of the Nativist Ku Klux Klan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vements of the 1920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rohib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Fundamentalism vs. Modernis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copes T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rosperity and Consumeris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estruction of European economies during World War I left the U.S. as the only major industrial n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heap, readily available energy sources made expansion affordab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United States was a lending nation during teens and Twenties (WWI and the Dawes Plan of 1920’s for examp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ublican Governmen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conservative presidents (Harding, Coolidge, and Hoover) encouraged a warm relationship between business and govern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rren G. Harding--1921-1923-- ("I am a man of limited talents from a small town"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vin “Silent Cal” Coolidge--1923-1929--("The business of America is business"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bert Hoover--1929-1933-- was much more progressive than his predecess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Zeitgeist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ssue #1-”Shut the Doo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ssue #2-”Science v. Religio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ssue #3-”A Voice for the Voiceles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ssue #4-”National Prohibition, a Failed Experimen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ssue #5-”Prosperity and Consumerism-Keeping up with the Jonese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ldmeth, Greg D. "U.S. History Resources“ http://home.earthlink.net/~gfeldmeth/USHistory.html (31 March 1998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676520" y="0"/>
            <a:ext cx="5790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1T13:15:56Z</dcterms:created>
  <dc:creator>tbabcock</dc:creator>
  <dc:description/>
  <dc:language>en-US</dc:language>
  <cp:lastModifiedBy>tbabcock</cp:lastModifiedBy>
  <dcterms:modified xsi:type="dcterms:W3CDTF">2010-04-19T18:53:43Z</dcterms:modified>
  <cp:revision>23</cp:revision>
  <dc:subject/>
  <dc:title>The 1920s </dc:title>
</cp:coreProperties>
</file>