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AF8-C914-4B70-886E-4A89B97C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7B3-853D-4563-8350-0B737E38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D0B-CCEE-4ED0-B103-0BD89BB2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4BC-54DA-48EB-AC40-5F24DBCD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337-2C3E-47D1-AC0D-A23A58A8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3CF-4564-4452-99BF-A5281523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81F-EF07-4D58-96B9-7B51A433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B09-8739-4CE1-89ED-B75F011E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006-E45C-46ED-8BE5-81BF76E4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D58-CA75-4C76-9D07-F48C26B2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2B3-A058-4E29-B334-EF31EF6B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06C-98C5-4700-BFE2-1B042E2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DB14-5B5A-4D98-AD47-5B45CCD27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ss.sfsu.edu/tygiel/Hist427/427ads/listerin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quotationsbook.com/assets/shared/img/262/470px-Louis_Armstrong_NYWTS_3.jpg&amp;imgrefurl=http://quotationsbook.com/author/photos/262/&amp;usg=__V8L8iBeVghqLlG68BuaC97Vs7OA=&amp;h=599&amp;w=470&amp;sz=41&amp;hl=en&amp;start=2&amp;um=1&amp;itbs=1&amp;tbnid=Zpx7ja8QQ0DwQM:&amp;tbnh=135&amp;tbnw=106&amp;prev=/images%3Fq%3Dlouis%2Barmstrong%26um%3D1%26hl%3Den%26safe%3Dactive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1920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Return to Normalcy”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Jazz Age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23960" y="0"/>
            <a:ext cx="56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listerine.jpg (10758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1931 Listerine Antiseptic #000326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1925 Johnson's Floor Wax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almolive1921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1920 Measure of progress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 in the Roaring 2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dvertising say about the (1920’s) time period it was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the target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 any of these influence you in purchasing these produ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”Talk the T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language of a certain time period say about that time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5 sayings/phrases/vocab used specificall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azz 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some types of Music “Controvers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xamples of controversial songs/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809880"/>
            <a:ext cx="3276360" cy="247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2366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91320" y="3809880"/>
            <a:ext cx="3047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war American At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illusionment following World War I (and Spanish Flu) particularly among veterans, artists, and intellec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ns were obsessed with materi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Bolshevism/Communism (Red S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lmer R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ar of foreig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se of the Nativist Ku Klux Klan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s of the 1920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ndamentalism vs. Moder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opes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sperity and Consume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truction of European economies during World War I left the U.S. as the only major industrial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ap, readily available energy sources made expansion afford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ed States was a lending nation during teens and Twenties (WWI and the Dawes Plan of 1920’s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blican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nservative presidents (Harding, Coolidge, and Hoover) encouraged a warm relationship between business and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en G. Harding--1921-1923-- ("I am a man of limited talents from a small town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 “Silent Cal” Coolidge--1923-1929--("The business of America is business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bert Hoover--1929-1933-- was much more progressive than his prede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eitgeis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1-”Shut the Do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2-”Science v. Relig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3-”A Voice for the Voicel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4-”National Prohibition, a Failed Experi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 #5-”Prosperity and Consumerism-Keeping up with the Jone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meth, Greg D. "U.S. History Resources“ http://home.earthlink.net/~gfeldmeth/USHistory.html (31 March 19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15:56Z</dcterms:created>
  <dc:creator>tbabcock</dc:creator>
  <dc:description/>
  <dc:language>en-US</dc:language>
  <cp:lastModifiedBy>tbabcock</cp:lastModifiedBy>
  <dcterms:modified xsi:type="dcterms:W3CDTF">2010-04-19T18:53:43Z</dcterms:modified>
  <cp:revision>23</cp:revision>
  <dc:subject/>
  <dc:title>The 1920s </dc:title>
</cp:coreProperties>
</file>