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9250-C7CF-4B3B-BC96-88E12EB3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91A4-1923-4A48-AC9A-87FE3BBA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E83D-E8E3-4602-B17A-9E6AB7DE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587-5ADD-4869-9E39-EA26373A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F9F-95BF-4DC3-A39C-2B4645873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E08A-6120-47C9-A9B3-C03D06BC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EDD-9546-4C83-9D1A-05549C16E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589-0219-4633-807D-32587173D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4A7-2637-4766-BF3C-5B2E6E02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0713-0D03-4A1B-B3C7-E2B7A5079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0F4-4818-46BF-969F-7CF8DDA1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36E-5DEA-42BA-B46F-A63008B5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01F4-1D5E-4082-9914-7F61C946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1409-3C95-44D2-9DAE-A0A20C4B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6A90-E51C-45F4-B7B5-891D24CF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F09F-1B8A-4F47-8910-24DABF499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09D4-6C45-483E-B46C-B69B70DE2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4126-4712-48C2-B5A3-A6883D81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4A92-A8B1-446C-B50A-5E9D8B4E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660-B7DE-420B-9901-E131702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A13-7E54-44B2-A566-0F013850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B99-ADB6-4F90-9727-30047433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DD2-0652-4194-8692-36FC821B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3A5-3D19-4F42-BF3F-293DD72A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218-0F20-4230-B2FD-27CD0A1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B9E-4694-4B6D-A9D8-1E09796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213-020F-408B-87F7-0CBE0670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54E-49F5-4130-BC0F-EFA9089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A33-866A-49B5-8B7F-B324A480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CF8-7202-44D4-8599-872DF18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C09-0EAC-4B06-8130-C3B829C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F487-36E4-44BB-8752-17B7D1547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Revolution is Coming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mperial Wars and Colonial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victory thanks to new prime minister William P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mised colonists they would not pay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centrated on taking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omplished with retaking of Louisbourg, 1758, Quebec, 1759, and Montreal in 1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.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ace treaty- Treaty of Paris- signed in 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ain acquired French Canada and Spanish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ain got LA and claims west of  Mississip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rench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power on continent virtually 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) Effect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r. Britain gets unchallenged supremacy in NA and global naval supre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urther increased tension b/w Brit and Amer. 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foreseen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examples of unforeseen consequence during the “French and Indian War” and its afterm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policy of salutary neglect was abando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ggest reason was financial- Amer. colonists needed to pay for continued Brit protection of its frontiers (NOT directly to repay debt from war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599160" y="19051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ntiac’s Rebellion-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A angry about increased colonial  movement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ntiac’s alliance destroyed forts from NY to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ts sent regular troops to put down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 prohibited colonists from settling west of Appalachians in order to prevent more hostility with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. colonists view it as an attempt to control settlement and slap in  face after victory i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y ignored and moved west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gar Act (Rev Act of 17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ually decreased duty on foreign sugar and other luxuries but would be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lso included law providing for stricte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ICE ADMIRALTY courts were established for those who were accused of smuggling- 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. Quartering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lonists forced to provide food and living quarters for Brit soldiers stationed i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. Stamps had to be placed on most printed paper in colonies including legal documents, newspapers, pamphlets, and 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that Europe’s hostilities are going to begin to spill into their colonial possessions (Specifically four different wars), what impact can you foresee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 First direct tax on col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Met with 4 form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olence- mobs, burn in effigy, tar and f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conomic- boycott- high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litical- unifies colonies- Form Stamp Act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clarator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liament repealed the Stamp Act but enacted this to  assert that Parliament had the right to make laws for the colonies “in all cases whatsoev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ral European wars spilled over into the colonies from 1689-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ing William’s War-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een Anne’s War- mostly a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alemat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too but Britain did get control of Nova Scotia from France and trading rights in Spanis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King George’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glethorpe managed to ward off Sp.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 colonists captured Louisbourg which controlled access to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700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returned it to French for gain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/ British tension grew as a result of perceived British indifference to their efforts an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n Years’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ench began to build series of forts in northern Ohio River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. Washington went out to stop their work at Fort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hington’s militia was unsuccessful- forced to surrender-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) Initially war went badly for B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5- Braddock and Brits routed by smaller French and N.A. force near Ft.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6-57- attempted Brit invasion of Fr Canada repul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6094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gov’t called for colonial representatives to meet at Albany NY in 17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. Franklin key in composing plan for intercolonial gov’t and system for recruiting troops, collecting taxes, and defending selves from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3)Plan never took effect because colonies were not willing to hand over any taxation power- does set precedent for colonial cooperation i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’s attempt at Persu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572000" y="3862440"/>
            <a:ext cx="360" cy="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30:14Z</dcterms:created>
  <dc:creator>tbabcock</dc:creator>
  <dc:description/>
  <dc:language>en-US</dc:language>
  <cp:lastModifiedBy>tbabcock</cp:lastModifiedBy>
  <dcterms:modified xsi:type="dcterms:W3CDTF">2009-10-01T11:57:03Z</dcterms:modified>
  <cp:revision>13</cp:revision>
  <dc:subject/>
  <dc:title>“The Revolution is Coming!”</dc:title>
</cp:coreProperties>
</file>