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F67B-D5F0-4DB0-B0DC-9C3DE20AD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9E35-AE10-4E92-9B11-C5FFBB976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A5DF-1147-49CD-9260-E351C57C3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B0D4-D0C7-4C27-B08E-B22761885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331A-AEE0-4D28-B340-930B3AE4C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EBDA-695B-4410-86C3-03CB0FA80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AAF9-C21C-4B87-8C01-C54768108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6E37-1305-4235-9BC5-D9D9B8B86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1B05-0090-4131-9205-CE8623F06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819D-9E77-4590-B9D8-2C2737E6C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28F3-D8FE-462F-A182-137AF720F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D885-3507-495D-9714-FA6D727E0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0932-E921-43B3-984D-676A8BF41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8B50-B05D-46E1-B0B2-AE4DF03AF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9C2A-FDA9-4CE9-9186-897E7009A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8F74-00AA-4300-921F-787411484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F93C-EB2A-46D4-ACB5-071ED7737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F4F9-CE50-4F76-BE65-6BF5A4000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06D1-85FC-476D-828A-CFFB771FE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9780-F5C3-4EF7-9C46-0068A6D92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C2A7-B7B7-4E80-97A9-1AFB7A4E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D3EE-8B6C-4C7A-927B-969993F8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249E-0DD2-4A11-94B2-BA90CFB42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1992-29E7-46FF-8514-E3E15E2F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C107-180F-4D7B-855A-7577EC7F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A210-85C7-4891-98BB-6A9FED9D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D072-B23A-4790-91CC-6EE0A49A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EA49-7A56-42B7-9F9E-BBA5769C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ACAD-4E92-4D3D-BD15-EE7F8FC8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30A0-CBFB-4651-9E0F-4EB3D19F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FB22-B47C-44A8-B842-21849DBB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4030-77FD-44E5-9947-4E66E4A9E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562720" cy="32893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The Revolution is Coming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Imperial Wars and Colonial Pro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LcParenR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British victory thanks to new prime minister William Pi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omised colonists they would not pay for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oncentrated on taking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ccomplished with retaking of Louisbourg, 1758, Quebec, 1759, and Montreal in 17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2108160" cy="2768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. 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eace treaty- Treaty of Paris- signed in 17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Britain acquired French Canada and Spanish F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pain got LA and claims west of  Mississipp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French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power on continent virtually en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2108160" cy="2768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752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) Effects of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Gr. Britain gets unchallenged supremacy in NA and global naval suprem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urther increased tension b/w Brit and Amer. colon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foreseen Conseq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examples of unforeseen consequence during the “French and Indian War” and its afterma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Brit policy of salutary neglect was abando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Biggest reason was financial- Amer. colonists needed to pay for continued Brit protection of its frontiers (NOT directly to repay debt from war!!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6599160" y="1905120"/>
            <a:ext cx="2544840" cy="2819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5715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ontiac’s Rebellion- 17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NA angry about increased colonial  movement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ontiac’s alliance destroyed forts from NY to 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Brits sent regular troops to put down rebe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oclamation of 17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Brit prohibited colonists from settling west of Appalachians in order to prevent more hostility with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mer. colonists view it as an attempt to control settlement and slap in  face after victory in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ny ignored and moved west any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ugar Act (Rev Act of 176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ctually decreased duty on foreign sugar and other luxuries but would be enfor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lso included law providing for stricter enfor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VICE ADMIRALTY courts were established for those who were accused of smuggling- no trial by j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E. Quartering 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olonists forced to provide food and living quarters for Brit soldiers stationed in colon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tamp Act 17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1. Stamps had to be placed on most printed paper in colonies including legal documents, newspapers, pamphlets, and 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ing that Europe’s hostilities are going to begin to spill into their colonial possessions (Specifically four different wars), what impact can you foresee?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tamp Act 17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2. First direct tax on colon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3. Met with 4 forms of pro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Violence- mobs, burn in effigy, tar and fe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conomic- boycott- highly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olitical- unifies colonies- Form Stamp Act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opag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Declaratory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arliament repealed the Stamp Act but enacted this to  assert that Parliament had the right to make laws for the colonies “in all cases whatsoever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everal European wars spilled over into the colonies from 1689-17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King William’s War- stale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Queen Anne’s War- mostly a </a:t>
            </a: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stalemate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too but Britain did get control of Nova Scotia from France and trading rights in Spanis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930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3. King George’s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glethorpe managed to ward off Sp. In 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merican colonists captured Louisbourg which controlled access to St. Lawrenc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47000" indent="-357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British returned it to French for gains in 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merican/ British tension grew as a result of perceived British indifference to their efforts and lo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even Years’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rench began to build series of forts in northern Ohio River Val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G. Washington went out to stop their work at Fort Duques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Washington’s militia was unsuccessful- forced to surrender- war beg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b) Initially war went badly for Br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1755- Braddock and Brits routed by smaller French and N.A. force near Ft. Duques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1756-57- attempted Brit invasion of Fr Canada repul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6094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1261800" indent="-420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lphaL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lbany Plan of 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12080" indent="-350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Brit gov’t called for colonial representatives to meet at Albany NY in 175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12080" indent="-350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B. Franklin key in composing plan for intercolonial gov’t and system for recruiting troops, collecting taxes, and defending selves from N.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2819520"/>
            <a:ext cx="2514600" cy="17524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lphaL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lbany Plan of 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3)Plan never took effect because colonies were not willing to hand over any taxation power- does set precedent for colonial cooperation in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2819520"/>
            <a:ext cx="2514600" cy="17524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klin’s attempt at Persua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4572000" y="3862440"/>
            <a:ext cx="360" cy="1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7:30:14Z</dcterms:created>
  <dc:creator>tbabcock</dc:creator>
  <dc:description/>
  <dc:language>en-US</dc:language>
  <cp:lastModifiedBy>tbabcock</cp:lastModifiedBy>
  <dcterms:modified xsi:type="dcterms:W3CDTF">2009-10-01T11:57:03Z</dcterms:modified>
  <cp:revision>13</cp:revision>
  <dc:subject/>
  <dc:title>“The Revolution is Coming!”</dc:title>
</cp:coreProperties>
</file>