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96DC-112E-488C-822F-75B4D4440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8C69-2939-4C41-8C65-18A217A20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AA8B-A4F3-4D37-B42D-BE349B0A3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20C5-2D51-49FA-98C4-41A9FB7F9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2B34-1C3B-4809-8ABB-D8878797A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66D9-13DE-407F-972E-EC2A05E9D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3F32-99EF-47E3-96DB-7F02DB085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FC13-C1F6-4434-A9E5-2BF55C2D0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3D47-C872-45B4-8E8C-B0D3731F0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2BB1-7F8D-4DFC-9656-13478FD1E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5ECE-1FB2-406D-8D5C-1DE55B098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63F0-391B-45B8-9363-F6420E231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D56D-DB0E-4000-A8E7-BE238F068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7879-3AE8-4DAE-9BBE-5BD145D85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5E71-D619-438E-819F-2D300FB18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11CC-51BC-4D64-8849-68145010D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E4E5-5808-4266-9DF5-98AE51A21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AC43-1A66-47ED-BAAC-63D04102D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5AF3-1344-453A-813B-21C42C868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87B-C4BB-4525-9D51-84BBB18A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7C1-5315-4B75-BF21-5E60FD06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988-6C94-4ECE-8DC3-651F832B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A3A-8E93-40A4-9496-AABE1167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39E-536F-4FB9-B28F-1C009078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71D-754D-4827-B669-9B292339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4B1-73F9-420D-B463-5C2AE320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951-A7D0-4A7D-8DBE-C17AE25F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EDF-3EFB-41AB-8672-3DA1EA6A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88C-B8DF-4FDA-8EB4-BD214239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04E-B4A3-46F7-B1B2-4520F57D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52C-0F17-47D3-9D58-8A6B91F6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ADA4-6784-4FA4-83D9-89F08D9C3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3289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e Revolution is Coming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mperial Wars and Colonial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ish victory thanks to new prime minister William Pi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mised colonists they would not pay fo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oncentrated on taking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complished with retaking of Louisbourg, 1758, Quebec, 1759, and Montreal in 17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108160" cy="2768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.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ace treaty- Treaty of Paris- signed in 17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ain acquired French Canada and Spanish F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pain got LA and claims west of  Mississip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French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power on continent virtually e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108160" cy="2768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752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) Effect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Gr. Britain gets unchallenged supremacy in NA and global naval supre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urther increased tension b/w Brit and Amer. col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foreseen 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examples of unforeseen consequence during the “French and Indian War” and its afterm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 policy of salutary neglect was abando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iggest reason was financial- Amer. colonists needed to pay for continued Brit protection of its frontiers (NOT directly to repay debt from war!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599160" y="1905120"/>
            <a:ext cx="2544840" cy="2819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ntiac’s Rebellion- 17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A angry about increased colonial  movement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ontiac’s alliance destroyed forts from NY to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rits sent regular troops to put down rebe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lamation of 17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 prohibited colonists from settling west of Appalachians in order to prevent more hostility with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. colonists view it as an attempt to control settlement and slap in  face after victory i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y ignored and moved west any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ugar Act (Rev Act of 176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tually decreased duty on foreign sugar and other luxuries but would be enf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lso included law providing for stricter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VICE ADMIRALTY courts were established for those who were accused of smuggling- no trial by 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E. Quartering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olonists forced to provide food and living quarters for Brit soldiers stationed in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tamp Act 17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1. Stamps had to be placed on most printed paper in colonies including legal documents, newspapers, pamphlets, and 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that Europe’s hostilities are going to begin to spill into their colonial possessions (Specifically four different wars), what impact can you foresee?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amp Act 17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. First direct tax on col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3. Met with 4 forms of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iolence- mobs, burn in effigy, tar and f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conomic- boycott- highly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olitical- unifies colonies- Form Stamp Act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pa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I.  Brit actions and coloni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clarator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arliament repealed the Stamp Act but enacted this to  assert that Parliament had the right to make laws for the colonies “in all cases whatsoeve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everal European wars spilled over into the colonies from 1689-17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ing William’s War- stale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Queen Anne’s War- mostly a 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stalemate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too but Britain did get control of Nova Scotia from France and trading rights in Spanis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3. King George’s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glethorpe managed to ward off Sp. In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ican colonists captured Louisbourg which controlled access to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7000" indent="-357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ritish returned it to French for gains in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erican/ British tension grew as a result of perceived British indifference to their efforts and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even Years’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rench began to build series of forts in northern Ohio River Va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G. Washington went out to stop their work at Fort Duques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shington’s militia was unsuccessful- forced to surrender- war beg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) Initially war went badly for Br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755- Braddock and Brits routed by smaller French and N.A. force near Ft. Duques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756-57- attempted Brit invasion of Fr Canada repul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6094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261800" indent="-420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lbany Plan of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rit gov’t called for colonial representatives to meet at Albany NY in 17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. Franklin key in composing plan for intercolonial gov’t and system for recruiting troops, collecting taxes, and defending selves from N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25146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. Empires a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lbany Plan of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3)Plan never took effect because colonies were not willing to hand over any taxation power- does set precedent for colonial cooperation in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25146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klin’s attempt at Persu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4572000" y="3862440"/>
            <a:ext cx="360" cy="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7:30:14Z</dcterms:created>
  <dc:creator>tbabcock</dc:creator>
  <dc:description/>
  <dc:language>en-US</dc:language>
  <cp:lastModifiedBy>tbabcock</cp:lastModifiedBy>
  <dcterms:modified xsi:type="dcterms:W3CDTF">2009-10-01T11:57:03Z</dcterms:modified>
  <cp:revision>13</cp:revision>
  <dc:subject/>
  <dc:title>“The Revolution is Coming!”</dc:title>
</cp:coreProperties>
</file>