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9A09-3B56-4C70-B03F-6B609422E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DF8A-4FB2-4792-804D-45C812D16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87ED-7EDC-4D3F-9743-D682FA55F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3C2F-4165-4743-93F3-56CE80647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D0CD-7146-4EF2-9972-11A1217F1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C2FA-8D14-4E9E-BABA-0C3763E2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10FB-0937-459E-81F0-8E44E46AC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8B61-C54D-42E6-BB99-0786ACC78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663A-DBE7-4CF3-898D-92EB0B2EB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E472-3DFA-4D08-BF03-2BBDC72B0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1529-B300-4A17-920B-9E4B67096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16EC-1DEC-4695-B134-8497C4071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8B87-372B-461C-99CA-368CD8108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62D5-7532-4227-9ED1-B1CD0AB0E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36AD-B80C-434C-958A-577D3E978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5ABC-7CE9-4D17-A73B-CF8C418FC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FEFE-2C17-4CBD-85A1-E51B95016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E0F-1AD9-416B-A096-D552CF539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CDFF-86E7-4C58-A2B2-94C3B9BEC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0AD-F03B-4772-8E5B-793C148C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621-3FC5-4D52-B7D7-B2EEC6D9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E41-4F46-4481-A6C4-B51BD640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B16-1680-4850-9407-C6FF11F1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F7F-D009-4727-90B1-F00545A5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5D2-771A-42D9-A949-617FF5E8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158-EEC5-401A-B7C1-A5066E26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91B-3FCB-4396-A0AD-1F6A089D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9D8-4CF1-4271-B814-59BD90DF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035-3AF7-4196-BE9F-506D59AE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AE1-1AA1-4168-91C2-3EFAC79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F89-44D7-4CFE-A7AC-2088973D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5EB9-6CBB-4F8C-9753-85FE6AADA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3289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 Revolution is Coming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mperial Wars and Colonial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ish victory thanks to new prime minister William P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mised colonists they would not pay fo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ncentrated on taking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complished with retaking of Louisbourg, 1758, Quebec, 1759, and Montreal in 17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108160" cy="276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.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ace treaty- Treaty of Paris- signed in 17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ain acquired French Canada and Spanish F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pain got LA and claims west of  Mississip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French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power on continent virtually e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108160" cy="276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) Effect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r. Britain gets unchallenged supremacy in NA and global naval supre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urther increased tension b/w Brit and Amer. col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foreseen 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examples of unforeseen consequence during the “French and Indian War” and its afterm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 policy of salutary neglect was abando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iggest reason was financial- Amer. colonists needed to pay for continued Brit protection of its frontiers (NOT directly to repay debt from war!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599160" y="1905120"/>
            <a:ext cx="2544840" cy="281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ntiac’s Rebellion-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A angry about increased colonial  movement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ntiac’s alliance destroyed forts from NY to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rits sent regular troops to put down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lamation of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 prohibited colonists from settling west of Appalachians in order to prevent more hostility with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. colonists view it as an attempt to control settlement and slap in  face after victory i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y ignored and moved west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ugar Act (Rev Act of 176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tually decreased duty on foreign sugar and other luxuries but would be e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lso included law providing for stricter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VICE ADMIRALTY courts were established for those who were accused of smuggling- no trial by 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E. Quartering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olonists forced to provide food and living quarters for Brit soldiers stationed in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tamp Act 17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1. Stamps had to be placed on most printed paper in colonies including legal documents, newspapers, pamphlets, and 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that Europe’s hostilities are going to begin to spill into their colonial possessions (Specifically four different wars), what impact can you foresee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mp Act 17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. First direct tax on col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. Met with 4 forms of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iolence- mobs, burn in effigy, tar and f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conomic- boycott- high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litical- unifies colonies- Form Stamp Act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pa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clarator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arliament repealed the Stamp Act but enacted this to  assert that Parliament had the right to make laws for the colonies “in all cases whatsoeve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everal European wars spilled over into the colonies from 1689-17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ing William’s War- stale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Queen Anne’s War- mostly a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stalemate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too but Britain did get control of Nova Scotia from France and trading rights in Spanis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. King George’s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glethorpe managed to ward off Sp.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ican colonists captured Louisbourg which controlled access to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7000" indent="-357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ish returned it to French for gains in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ican/ British tension grew as a result of perceived British indifference to their efforts and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even Years’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rench began to build series of forts in northern Ohio River V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. Washington went out to stop their work at Fort Duques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shington’s militia was unsuccessful- forced to surrender- war beg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) Initially war went badly for Br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755- Braddock and Brits routed by smaller French and N.A. force near Ft. Duques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756-57- attempted Brit invasion of Fr Canada repul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6094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261800" indent="-420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lbany Plan of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 gov’t called for colonial representatives to meet at Albany NY in 17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. Franklin key in composing plan for intercolonial gov’t and system for recruiting troops, collecting taxes, and defending selves from N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lbany Plan of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3)Plan never took effect because colonies were not willing to hand over any taxation power- does set precedent for colonial cooperation in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lin’s attempt at Persu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4572000" y="3862440"/>
            <a:ext cx="360" cy="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7:30:14Z</dcterms:created>
  <dc:creator>tbabcock</dc:creator>
  <dc:description/>
  <dc:language>en-US</dc:language>
  <cp:lastModifiedBy>tbabcock</cp:lastModifiedBy>
  <dcterms:modified xsi:type="dcterms:W3CDTF">2009-10-01T11:57:03Z</dcterms:modified>
  <cp:revision>13</cp:revision>
  <dc:subject/>
  <dc:title>“The Revolution is Coming!”</dc:title>
</cp:coreProperties>
</file>