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D7AE-B6F1-4323-A2D7-E8421789F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C8B6-257F-42C4-BF80-CFCE9DDFD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C66E-5B62-467A-8815-3DD453DCB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8021-C579-412D-A493-54A2D17CF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3B8A-BA18-41AA-9823-D28E11E28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0538-17B5-4B40-88A1-CA72F250B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031C-1906-4C13-83BB-239F3A7CB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A07F-1A64-4EB3-AC7B-670782142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4DDA-4CFA-4667-8FF2-845B78ED4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5B75-9142-4EDD-9019-1B519261B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CB53-FF3C-4AF4-9CB4-3C2BFF6BC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C439-C297-49CD-BBF4-F5E71123B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A963-4024-450F-82C1-EF06CFF4D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D165-20B6-4C79-9676-74336C890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8915-4B44-425A-97C7-BE4F38F9B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93EB-4C82-4B5A-BDEA-A7689B1E4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EC6F-3696-4EB0-945A-7441BA73C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CB83-4E2D-44C8-902F-31CB8F959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1E23-F5B5-4B52-B19C-2D150E111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52B4-806F-4773-B076-1C1914E49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0DB4-1F4B-4DDB-8675-7385C564B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E1C3-0163-4DAD-AF77-A9491F961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B3BC-F80C-449D-87F5-9E2642070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7B0-4A82-4187-BCFC-ACE3AF66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3C0-2576-427C-A6A1-9C4578B9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503-EFA6-46CE-BBF5-0B0AEB79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F85-5814-4B02-A556-FBEC6FB9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FBEE-7F6A-4E84-BC89-2167813A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13B-9FE6-475D-A7E0-C1DEB7D4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F51-E75A-4DA4-9D71-40538E6A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B73-C81A-4C67-9077-702B9451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B46-4257-4669-8C2E-AFD7EE60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AAE-E1C4-4410-83B6-87E42B0E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414-111D-4DE4-9687-00E914D4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BD1-DE23-4DC8-BB48-1E01467A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2C3A-7336-4F04-9AF4-07AE71FFC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7rbs_nazi-tex-avery-blitz-wolf-wwii" TargetMode="External"/><Relationship Id="rId2" Type="http://schemas.openxmlformats.org/officeDocument/2006/relationships/hyperlink" Target="http://www.bcdb.com/cartoon_video/25052-Tokyo_Woes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tatic.youku.com/v1.0.0014/v/swf/qplayer.swf?VideoIDS=cc00XMjkwOTk0NzY&amp;embedid=-&amp;showAd=0" TargetMode="External"/><Relationship Id="rId2" Type="http://schemas.openxmlformats.org/officeDocument/2006/relationships/hyperlink" Target="http://static.youku.com/v1.0.0014/v/swf/qplayer.swf?VideoIDS=cc00XMjkwOTk0NzY&amp;embedid=-&amp;showAd=0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ontent.cdlib.org/ark:/13030/kt3p30207v/hi-res&amp;imgrefurl=http://content.cdlib.org/ark:/13030/kt3p30207v/%3FdocId%3Dkt3p30207v%26brand%3Doac%26layout%3Dprintable-details&amp;usg=__FvOE4M_eokwGVNMhI7Jl4_aCsYY=&amp;h=800&amp;w=505&amp;sz=114&amp;hl=en&amp;start=19&amp;sig2=KGGRkiiJp2GlWKy2UcSvNQ&amp;um=1&amp;tbnid=QN8EJNrTii8VBM:&amp;tbnh=143&amp;tbnw=90&amp;prev=/images%3Fq%3Djapanese%2Binternment%26hl%3Den%26safe%3Dactive%26rlz%3D1T4DMUS_enUS234US239%26sa%3DN%26um%3D1&amp;ei=okcASoHSJ4KdlQem7qGgCw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olorado.gov/dpa/doit/archives/wwcod/image8-2.gif&amp;imgrefurl=http://www.colorado.gov/dpa/doit/archives/wwcod/granada.htm&amp;usg=__pxMfflOM1nvJDGknkIjv478_oR8=&amp;h=465&amp;w=578&amp;sz=225&amp;hl=en&amp;start=5&amp;sig2=UKyH_T_juvIjjQcYSRlGxg&amp;um=1&amp;tbnid=epTuvivONmSIgM:&amp;tbnh=108&amp;tbnw=134&amp;prev=/images%3Fq%3Djapanese%2Binternment%26hl%3Den%26safe%3Dactive%26rlz%3D1T4DMUS_enUS234US239%26sa%3DN%26um%3D1&amp;ei=okcASoHSJ4KdlQem7qGgCw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ise of Dictators and 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orld At W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itler2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cism in Spain-Francisco Fran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Francisco Franco takes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Civil War in 19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American volunteers-Abraham Lincoln Brig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1939-Facist dictator installed-500,000 d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franco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irohito"/>
          <p:cNvPicPr/>
          <p:nvPr/>
        </p:nvPicPr>
        <p:blipFill>
          <a:blip r:embed="rId1"/>
          <a:stretch/>
        </p:blipFill>
        <p:spPr>
          <a:xfrm>
            <a:off x="1676520" y="1731960"/>
            <a:ext cx="5867280" cy="4176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-Emperor Hiroh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-Hideki To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ojo"/>
          <p:cNvPicPr/>
          <p:nvPr/>
        </p:nvPicPr>
        <p:blipFill>
          <a:blip r:embed="rId1"/>
          <a:stretch/>
        </p:blipFill>
        <p:spPr>
          <a:xfrm>
            <a:off x="762120" y="1676520"/>
            <a:ext cx="7848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American Rea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Neutrality Acts (1935 and 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Various neutrality acts to keep us ou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Amended many times to keep up with acts of ag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Cash and Ca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All help short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Axis powers unite 1940-Japan, Germany and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Isolation V.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Lend-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ove towards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R plans fo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defense spending after Axis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time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R wins third term against Wendell Willkie (19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lantic 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 towards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-boats sink 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ate passes bill that allows merchant ships to be ar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for St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 Hitler invades Soviet Union, U.S. expands Lend-Lease to 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arl Har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ese aggression goes un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unprotected in South and Southeast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invasion and take over of French Indochina, U.S. allows trade treaty to ex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 follows, Japan is in desperate need 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7th, 19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 403 killed and over a thousand w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enty-one ships and eight battleships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300 aircraft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with Japan declared on the 8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and Italy declare war three days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a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tz Wolf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ugs Bunn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Duckta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okyo Wo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aly-The Rise of Benito Mussoli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rible inflation and un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s-some Communist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and upper classes worried looked to strong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tic spee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cism-Nationalistic and placed the state above the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bi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million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 Million draf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Milit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C- Women’s Auxiliary Army Cor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Shut down Auto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, planes, boats and command car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yards exp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back to work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944, 18 million were laboring in a war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million women were working at 60% of a man’s pay (Mom-Mom worked on the Railro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pportunities for min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lip Randolph leader of Brotherhood of Sleeping car po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tened march on Washing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DR called on Unions to be more inclusive-March called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blinded me with scienc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of Scientific Research and Development (OR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ar and So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DT to fight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 Bo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2- The Manhatta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enheimer in charge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bomb as quickly as possible, beat Germans to the bo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dvice based on a letter from Ein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Trinity, Little Boy and Fat Ma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Arial"/>
              </a:rPr>
              <a:t>"Now I Have Become Death the Destroyer of Worlds</a:t>
            </a:r>
            <a:r>
              <a:rPr b="0" lang="en-US" sz="5400" spc="-1" strike="noStrike">
                <a:solidFill>
                  <a:srgbClr val="996633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Robert Oppenheim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Battles (Examp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Saving Private Ryan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"Flags of our Fathers"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fro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Zoot Suit Riot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apanese Inter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Korematsu v. United States (1944)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ecutive order #90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143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ot Suiters or Pachu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0"/>
            <a:ext cx="5562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apanese Int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33520"/>
            <a:ext cx="7162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aly-Mussol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-”Fasc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2-supporters of Mussolini marched on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Shirts” uniforms of fol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appointed him leader of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Duce”-“Made trains run of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086600" cy="6400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Fred Korematsu, with President Clinton, receives the Congressional Medal of Hon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mussolini1"/>
          <p:cNvPicPr/>
          <p:nvPr/>
        </p:nvPicPr>
        <p:blipFill>
          <a:blip r:embed="rId1"/>
          <a:stretch/>
        </p:blipFill>
        <p:spPr>
          <a:xfrm>
            <a:off x="1066680" y="0"/>
            <a:ext cx="73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viet Union-The Rise of Joseph Sta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e Stalin makes it official-Russia is Soviet Union in 19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nin dies in 19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uggle for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lin wins in power str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f his competition will be killed or ja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-Sta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al and Industrial growth–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shes public farms-collectives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second most industrialized state behind U.S in 19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ges-kill off ene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8 to 13 million ki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nes killed even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talin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e of National Socialism: Nazi Germany and Adolph Hit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Intense Inf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Depression due to the failure of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Hos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Weimar Republic-Weak and in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Didn’t have democratic 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Strong fear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ermany-Hit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ise of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rown shirts-Hitler’s Th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32-Nazi strongest party in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ugs burn down Reichstag-Blames it on the Commun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33-Chancellor-decalres Third Reich-Thousand year R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8:34:54Z</dcterms:created>
  <dc:creator>tbabcock</dc:creator>
  <dc:description/>
  <dc:language>en-US</dc:language>
  <cp:lastModifiedBy>tbabcock</cp:lastModifiedBy>
  <dcterms:modified xsi:type="dcterms:W3CDTF">2010-04-29T17:50:33Z</dcterms:modified>
  <cp:revision>36</cp:revision>
  <dc:subject/>
  <dc:title>The Rise of Dictators and WWII</dc:title>
</cp:coreProperties>
</file>