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C9DC-40C2-4B29-BD8B-5AA515BAA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00BC-6C7C-4368-9F78-381A2B9B4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9647-3892-4463-94BA-C064CABE3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D0D5-6148-456E-9632-1638BE08D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3885-F27E-4D29-BE88-6B3D730DD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15F5-4097-406A-9DBC-3D1FAC13E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5596-C840-42E3-8B20-EF18EEAF8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9372-72D0-4A02-925C-58C00C6C5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61B3-F0A8-4D76-8B00-180CF9EB9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97A9-4B91-4343-B2DE-3665DD60E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2867-C6BB-47DC-8FA7-E79224B46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1D58-269C-4F14-88BF-8665D90BA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3BC5-1562-4232-B5EC-93BAD2AE3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33A4-F571-418E-98B6-72C22FAF7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FDCA-A499-41F1-B2E8-5489541C1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E108-867A-48B3-9093-C4C99EC67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46D7-93FE-429C-A763-F5CEC7E50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238A-4C94-4C41-A9DA-FA40CB231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A233-66A2-47F7-889D-B8E813C71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433C-7510-44A4-91B1-F3831F7BA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0338-85B0-4353-8D22-12BD6E402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25F0-32B6-4F7D-BAF9-6F9377482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6453-B725-45F5-B950-E9F26751F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F92-EF2E-44AA-B1DB-D84000FD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A678-6552-4CDA-8C18-EAB484F0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BBA0-0595-49A5-8F13-E6140807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D06-958F-444A-BC27-FC6D873A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B0E-D43F-431C-B1A4-74225A2C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12A-4CF7-4D53-819B-C3063E34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F92D-1ED8-45D5-800D-0A7294FC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9E0-9754-4A59-BDC3-FE40F649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C436-A295-4A10-B55A-7B17C46D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C94-961E-4A33-A728-8FEA6632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5F6-A23F-41B4-87EA-E42B1B05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5B3-89ED-47D2-9164-BA662FAC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BCC4-DE37-42F3-B5C1-0E50A3F90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ailymotion.com/video/x7rbs_nazi-tex-avery-blitz-wolf-wwii" TargetMode="External"/><Relationship Id="rId2" Type="http://schemas.openxmlformats.org/officeDocument/2006/relationships/hyperlink" Target="http://www.bcdb.com/cartoon_video/25052-Tokyo_Woes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tatic.youku.com/v1.0.0014/v/swf/qplayer.swf?VideoIDS=cc00XMjkwOTk0NzY&amp;embedid=-&amp;showAd=0" TargetMode="External"/><Relationship Id="rId2" Type="http://schemas.openxmlformats.org/officeDocument/2006/relationships/hyperlink" Target="http://static.youku.com/v1.0.0014/v/swf/qplayer.swf?VideoIDS=cc00XMjkwOTk0NzY&amp;embedid=-&amp;showAd=0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ontent.cdlib.org/ark:/13030/kt3p30207v/hi-res&amp;imgrefurl=http://content.cdlib.org/ark:/13030/kt3p30207v/%3FdocId%3Dkt3p30207v%26brand%3Doac%26layout%3Dprintable-details&amp;usg=__FvOE4M_eokwGVNMhI7Jl4_aCsYY=&amp;h=800&amp;w=505&amp;sz=114&amp;hl=en&amp;start=19&amp;sig2=KGGRkiiJp2GlWKy2UcSvNQ&amp;um=1&amp;tbnid=QN8EJNrTii8VBM:&amp;tbnh=143&amp;tbnw=90&amp;prev=/images%3Fq%3Djapanese%2Binternment%26hl%3Den%26safe%3Dactive%26rlz%3D1T4DMUS_enUS234US239%26sa%3DN%26um%3D1&amp;ei=okcASoHSJ4KdlQem7qGgCw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olorado.gov/dpa/doit/archives/wwcod/image8-2.gif&amp;imgrefurl=http://www.colorado.gov/dpa/doit/archives/wwcod/granada.htm&amp;usg=__pxMfflOM1nvJDGknkIjv478_oR8=&amp;h=465&amp;w=578&amp;sz=225&amp;hl=en&amp;start=5&amp;sig2=UKyH_T_juvIjjQcYSRlGxg&amp;um=1&amp;tbnid=epTuvivONmSIgM:&amp;tbnh=108&amp;tbnw=134&amp;prev=/images%3Fq%3Djapanese%2Binternment%26hl%3Den%26safe%3Dactive%26rlz%3D1T4DMUS_enUS234US239%26sa%3DN%26um%3D1&amp;ei=okcASoHSJ4KdlQem7qGgCw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Rise of Dictators and 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orld At W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itler2"/>
          <p:cNvPicPr/>
          <p:nvPr/>
        </p:nvPicPr>
        <p:blipFill>
          <a:blip r:embed="rId1"/>
          <a:stretch/>
        </p:blipFill>
        <p:spPr>
          <a:xfrm>
            <a:off x="53352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scism in Spain-Francisco Fran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Francisco Franco takes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Civil War in 19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American volunteers-Abraham Lincoln Brig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1939-Facist dictator installed-500,000 d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franco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irohito"/>
          <p:cNvPicPr/>
          <p:nvPr/>
        </p:nvPicPr>
        <p:blipFill>
          <a:blip r:embed="rId1"/>
          <a:stretch/>
        </p:blipFill>
        <p:spPr>
          <a:xfrm>
            <a:off x="1676520" y="1731960"/>
            <a:ext cx="5867280" cy="4176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-Emperor Hiroh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-Hideki To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tojo"/>
          <p:cNvPicPr/>
          <p:nvPr/>
        </p:nvPicPr>
        <p:blipFill>
          <a:blip r:embed="rId1"/>
          <a:stretch/>
        </p:blipFill>
        <p:spPr>
          <a:xfrm>
            <a:off x="762120" y="1676520"/>
            <a:ext cx="7848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American Rea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Neutrality Acts (1935 and 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Various neutrality acts to keep us ou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Amended many times to keep up with acts of ag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Cash and Ca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All help short of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Axis powers unite 1940-Japan, Germany and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Isolation V.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Lend-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ove towards W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R plans fo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defense spending after Axis al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time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R wins third term against Wendell Willkie (19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lantic 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 towards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-boats sink 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ate passes bill that allows merchant ships to be ar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 for Sta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 Hitler invades Soviet Union, U.S. expands Lend-Lease to Rus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arl Har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anese aggression goes un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unprotected in South and Southeast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invasion and take over of French Indochina, U.S. allows trade treaty to ex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 follows, Japan is in desperate need 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7th, 19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 403 killed and over a thousand w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enty-one ships and eight battleships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300 aircraft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with Japan declared on the 8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and Italy declare war three days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ag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tz Wolf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ugs Bunn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Duckta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okyo Wo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aly-The Rise of Benito Mussoli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rible inflation and un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s-some Communist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and upper classes worried looked to strong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istic spee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cism-Nationalistic and placed the state above the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bi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ve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million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 Million draf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Milita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C- Women’s Auxiliary Army Cor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 Shut down Auto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, planes, boats and command car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yards exp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back to work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944, 18 million were laboring in a war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million women were working at 60% of a man’s pay (Mom-Mom worked on the Railro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pportunities for min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lip Randolph leader of Brotherhood of Sleeping car po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tened march on Washingt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DR called on Unions to be more inclusive-March called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blinded me with scienc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of Scientific Research and Development (OR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ar and So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DT to fight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 Bo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2- The Manhatta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enheimer in charge of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bomb as quickly as possible, beat Germans to the bo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dvice based on a letter from Ein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Trinity, Little Boy and Fat Ma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Arial"/>
              </a:rPr>
              <a:t>"Now I Have Become Death the Destroyer of Worlds</a:t>
            </a:r>
            <a:r>
              <a:rPr b="0" lang="en-US" sz="5400" spc="-1" strike="noStrike">
                <a:solidFill>
                  <a:srgbClr val="996633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Robert Oppenheim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Battles (Examp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"Saving Private Ryan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"Flags of our Fathers"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fro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Zoot Suit Riot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apanese Inter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Korematsu v. United States (1944)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ecutive order #90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4143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ot Suiters or Pachu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0"/>
            <a:ext cx="5562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apanese Int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33520"/>
            <a:ext cx="7162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aly-Mussol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-”Fasc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2-supporters of Mussolini marched on 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Shirts” uniforms of fol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appointed him leader of 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Duce”-“Made trains run of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086600" cy="6400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Fred Korematsu, with President Clinton, receives the Congressional Medal of Hon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mussolini1"/>
          <p:cNvPicPr/>
          <p:nvPr/>
        </p:nvPicPr>
        <p:blipFill>
          <a:blip r:embed="rId1"/>
          <a:stretch/>
        </p:blipFill>
        <p:spPr>
          <a:xfrm>
            <a:off x="1066680" y="0"/>
            <a:ext cx="73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viet Union-The Rise of Joseph Sta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e Stalin makes it official-Russia is Soviet Union in 19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nin dies in 19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uggle for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lin wins in power stru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of his competition will be killed or ja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Union-Sta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al and Industrial growth–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lishes public farms-collectives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second most industrialized state behind U.S in 19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ges-kill off ene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8 to 13 million ki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nes killed even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talin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e of National Socialism: Nazi Germany and Adolph Hit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Intense Inf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Depression due to the failure of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Hos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Weimar Republic-Weak and in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Didn’t have democratic tr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Strong fear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ermany-Hit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ise of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rown shirts-Hitler’s Th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32-Nazi strongest party in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ugs burn down Reichstag-Blames it on the Commun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33-Chancellor-decalres Third Reich-Thousand year R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8:34:54Z</dcterms:created>
  <dc:creator>tbabcock</dc:creator>
  <dc:description/>
  <dc:language>en-US</dc:language>
  <cp:lastModifiedBy>tbabcock</cp:lastModifiedBy>
  <dcterms:modified xsi:type="dcterms:W3CDTF">2010-04-29T17:50:33Z</dcterms:modified>
  <cp:revision>36</cp:revision>
  <dc:subject/>
  <dc:title>The Rise of Dictators and WWII</dc:title>
</cp:coreProperties>
</file>