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E01-B0C9-4A61-9E61-9134522F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AEBE-C2AC-45DB-8F47-BF0348A4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C00-EFBF-4AE7-9AA7-ED41EDE0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C7D0-D38D-4B23-9D55-CB5418C6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4B9A-209E-43A3-ADF1-24206EB4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DA2D-91B8-443C-9674-FF876F20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549-2F72-4531-92D0-363277DE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01EE-C8C4-45DF-91DE-E6898056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C65-0295-4380-B2F0-806F8574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471-3BE6-4513-B863-275B0F16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8877-AD4F-46F9-961C-BEF3F2CF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4F65-0C38-4101-B727-1FE49314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D68E-0010-41C4-A465-7F5ADB31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DE3-A6D2-49A5-90E9-27BCEDEA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04B-7927-41C3-9D85-0141E5AD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DE6-8E34-4685-9129-853E69CC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39B-E8B4-4109-BECE-30BA3333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0094-E536-4931-96A5-0465DAAF5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9514-9084-434D-98C4-D7A90FF6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F0C-0BEE-4ACC-8889-2E3DF770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785-B3BA-40FD-9C9F-1A1566FD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76F-ACDB-4F01-BEF9-7FA16941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C76-C7A3-4C04-BF1A-58B9A6B7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064-6C9A-4E61-9ACD-33E72055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AEA-3492-49C5-AD74-3EB53153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C52-3C75-4F08-90E6-1157F4F4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FFB-E089-4681-910A-31B5301B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54D-2F86-40B3-A2B7-9B7D849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60A-0A0C-4D4E-ACBC-125AAA8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07A-3920-431C-A080-F7581729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F03-3724-4F13-8B11-78EB5449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E75-AEB3-49C4-A7A7-DE0A768E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02A-0C78-489C-B013-92F224D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8A0-1EEE-4B78-ACC0-67B44F0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FAC-DDE9-4EA7-A61B-4D0FE5F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7861-4CF6-4FAC-97D1-DD2453D1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7rbs_nazi-tex-avery-blitz-wolf-wwii" TargetMode="External"/><Relationship Id="rId2" Type="http://schemas.openxmlformats.org/officeDocument/2006/relationships/hyperlink" Target="http://www.bcdb.com/cartoon_video/25052-Tokyo_Woe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tatic.youku.com/v1.0.0014/v/swf/qplayer.swf?VideoIDS=cc00XMjkwOTk0NzY&amp;embedid=-&amp;showAd=0" TargetMode="External"/><Relationship Id="rId2" Type="http://schemas.openxmlformats.org/officeDocument/2006/relationships/hyperlink" Target="http://static.youku.com/v1.0.0014/v/swf/qplayer.swf?VideoIDS=cc00XMjkwOTk0NzY&amp;embedid=-&amp;showAd=0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cdlib.org/ark:/13030/kt3p30207v/hi-res&amp;imgrefurl=http://content.cdlib.org/ark:/13030/kt3p30207v/%3FdocId%3Dkt3p30207v%26brand%3Doac%26layout%3Dprintable-details&amp;usg=__FvOE4M_eokwGVNMhI7Jl4_aCsYY=&amp;h=800&amp;w=505&amp;sz=114&amp;hl=en&amp;start=19&amp;sig2=KGGRkiiJp2GlWKy2UcSvNQ&amp;um=1&amp;tbnid=QN8EJNrTii8VBM:&amp;tbnh=143&amp;tbnw=90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orado.gov/dpa/doit/archives/wwcod/image8-2.gif&amp;imgrefurl=http://www.colorado.gov/dpa/doit/archives/wwcod/granada.htm&amp;usg=__pxMfflOM1nvJDGknkIjv478_oR8=&amp;h=465&amp;w=578&amp;sz=225&amp;hl=en&amp;start=5&amp;sig2=UKyH_T_juvIjjQcYSRlGxg&amp;um=1&amp;tbnid=epTuvivONmSIgM:&amp;tbnh=108&amp;tbnw=134&amp;prev=/images%3Fq%3Djapanese%2Binternment%26hl%3Den%26safe%3Dactive%26rlz%3D1T4DMUS_enUS234US239%26sa%3DN%26um%3D1&amp;ei=okcASoHSJ4KdlQem7qGgCw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ise of Dictators and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 A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itler2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cism in Spain-Francisc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rancisco Franco take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ivil War in 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merican volunteers-Abraham Lincoln Bri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1939-Facist dictator installed-500,000 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ranco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irohito"/>
          <p:cNvPicPr/>
          <p:nvPr/>
        </p:nvPicPr>
        <p:blipFill>
          <a:blip r:embed="rId1"/>
          <a:stretch/>
        </p:blipFill>
        <p:spPr>
          <a:xfrm>
            <a:off x="1676520" y="1731960"/>
            <a:ext cx="58672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Emperor Hiroh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-Hideki T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ojo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American Re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utrality Acts (1935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Various neutrality acts to keep us ou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mended many times to keep up with acts of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ash and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ll help short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Axis powers unite 1940-Japan, Germany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Isolation V.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Lend-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ve toward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plans fo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fense spending after Axis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im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R wins third term against Wendell Willkie (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 toward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boats sink 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ate passes bill that allows merchant ships to be a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Hitler invades Soviet Union, U.S. expands Lend-Lease to 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aggression goes un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unprotected in South and Southeast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vasion and take over of French Indochina, U.S. allows trade treaty to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 follows, Japan is in desperate need 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th, 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03 killed and over a thousand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nty-one ships and eight battleship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300 aircraft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ith Japan declared on the 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and Italy declare war three d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tz Wol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ugs Bun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uckt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kyo Wo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-The Rise of Benito Mussol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rible inflation and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s-some Communist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nd upper classes worried looked to strong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cism-Nationalistic and placed the state above th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million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Million dra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Milit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C- Women’s Auxiliary Army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hut down Auto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, planes, boats and command car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yards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back to work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44, 18 million were laboring in a wa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illion women were working at 60% of a man’s pay (Mom-Mom worked on the Railr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min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Randolph leader of Brotherhood of Sleeping car 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ened march on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R called on Unions to be more inclusive-March cal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linded me with sci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Scientific Research and Development (OR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ar and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 to fight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B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2- The Manhatta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enheimer in charge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omb as quickly as possible, beat Germans to the b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dvice based on a letter from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Trinity, Little Boy and Fat Ma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"Now I Have Become Death the Destroyer of Worlds</a:t>
            </a: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Robert Oppenhei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Battle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aving Private Ryan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Flags of our Fathers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fro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oot Suit Riot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panese Int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orematsu v. United States (1944)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ecutive order #90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4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t Suiters or Pachu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62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panese Int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7162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y-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-”Fas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supporters of Mussolini marched on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hirts” uniforms of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ppointed him leader of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Duce”-“Made trains run of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red Korematsu, with President Clinton, receives the Congressional Medal of Ho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ussolini1"/>
          <p:cNvPicPr/>
          <p:nvPr/>
        </p:nvPicPr>
        <p:blipFill>
          <a:blip r:embed="rId1"/>
          <a:stretch/>
        </p:blipFill>
        <p:spPr>
          <a:xfrm>
            <a:off x="10666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-The Rise of Joseph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 Stalin makes it official-Russia is Soviet Union in 19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nin dies in 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ggle fo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in wins in power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his competition will be killed or j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-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and Industrial growth–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s public farms-collective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cond most industrialized state behind U.S i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ges-kill off ene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8 to 13 million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nes killed eve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National Socialism: Nazi Germany and Adolph Hit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ntens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epression due to the failure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Weimar Republic-Weak and in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Didn’t have democratic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trong fear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rmany-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ise o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wn shirts-Hitler’s Th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2-Nazi stron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ugs burn down Reichstag-Blames it on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33-Chancellor-decalres Third Reich-Thousand year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34:54Z</dcterms:created>
  <dc:creator>tbabcock</dc:creator>
  <dc:description/>
  <dc:language>en-US</dc:language>
  <cp:lastModifiedBy>tbabcock</cp:lastModifiedBy>
  <dcterms:modified xsi:type="dcterms:W3CDTF">2010-04-29T17:50:33Z</dcterms:modified>
  <cp:revision>36</cp:revision>
  <dc:subject/>
  <dc:title>The Rise of Dictators and WWII</dc:title>
</cp:coreProperties>
</file>