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7763-689C-4E57-8D66-F31335CDB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8E5F-B7CB-4DE0-B6BE-8E5B418AB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B84B-2454-4FBF-ACB0-E3B9FDD18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CD1E-2595-4BA0-9255-5B19DF20E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04BE-5246-48D8-A5BA-D3E014158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AA0D-96E1-409A-BE68-C331F1CF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590F-E8DC-4C80-8D61-18A0AD381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BDD5-BA05-40F2-8A37-2A145B914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3234-4A04-4504-AE5C-31B974403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CA70-34B2-4FFC-9552-D5FD9E822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E06F-2094-44D6-A236-39DA010C4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F7BD-9C59-475F-9B9B-4078BE7B7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7A0B-D8A5-48A5-97C8-6CCFCB8A2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A11B-D40B-408B-B3BF-0D919C439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3201-D83E-45B3-8CDD-EC8067AE9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E509-699F-473A-8E3C-95E175A15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3B26-F257-4EBF-9AC6-C6ED9323A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5094-9CD7-42B3-ADEE-738F3ED89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B557-A782-46FB-9A2D-EAC04E30B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D046-9E94-4E67-AFB1-0CB49D4C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37CB-DFAF-4F84-B874-08FC1A5D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0311-64ED-44AB-93EF-66FFF2F7F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B581-A84C-48D5-950C-112A6DBD8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83B-7A92-4627-A9AC-930EC8CC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04D-CA6E-4A42-B3FB-525D553C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899-E344-42CF-A66B-6028982B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B49-5228-4305-82CD-644B1D6D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353-4E6A-46A0-B5B7-6DA27333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62B-3A9C-4F62-9E2D-EA85AAC3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D18-EB67-4369-8F50-27298DDA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B48-97D5-4586-B1B6-5D2CDCF7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997-2DEE-4D0B-AE1B-36A0DB20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227-3E3B-40C4-9C85-BD0F9911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83B-6A43-455E-A23D-260BB20E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2EB-CB60-49D1-A3BF-3FEFE1C7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6C2D-AD08-4323-86A1-8848657A7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7rbs_nazi-tex-avery-blitz-wolf-wwii" TargetMode="External"/><Relationship Id="rId2" Type="http://schemas.openxmlformats.org/officeDocument/2006/relationships/hyperlink" Target="http://www.bcdb.com/cartoon_video/25052-Tokyo_Woe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tatic.youku.com/v1.0.0014/v/swf/qplayer.swf?VideoIDS=cc00XMjkwOTk0NzY&amp;embedid=-&amp;showAd=0" TargetMode="External"/><Relationship Id="rId2" Type="http://schemas.openxmlformats.org/officeDocument/2006/relationships/hyperlink" Target="http://static.youku.com/v1.0.0014/v/swf/qplayer.swf?VideoIDS=cc00XMjkwOTk0NzY&amp;embedid=-&amp;showAd=0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ontent.cdlib.org/ark:/13030/kt3p30207v/hi-res&amp;imgrefurl=http://content.cdlib.org/ark:/13030/kt3p30207v/%3FdocId%3Dkt3p30207v%26brand%3Doac%26layout%3Dprintable-details&amp;usg=__FvOE4M_eokwGVNMhI7Jl4_aCsYY=&amp;h=800&amp;w=505&amp;sz=114&amp;hl=en&amp;start=19&amp;sig2=KGGRkiiJp2GlWKy2UcSvNQ&amp;um=1&amp;tbnid=QN8EJNrTii8VBM:&amp;tbnh=143&amp;tbnw=90&amp;prev=/images%3Fq%3Djapanese%2Binternment%26hl%3Den%26safe%3Dactive%26rlz%3D1T4DMUS_enUS234US239%26sa%3DN%26um%3D1&amp;ei=okcASoHSJ4KdlQem7qGgCw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lorado.gov/dpa/doit/archives/wwcod/image8-2.gif&amp;imgrefurl=http://www.colorado.gov/dpa/doit/archives/wwcod/granada.htm&amp;usg=__pxMfflOM1nvJDGknkIjv478_oR8=&amp;h=465&amp;w=578&amp;sz=225&amp;hl=en&amp;start=5&amp;sig2=UKyH_T_juvIjjQcYSRlGxg&amp;um=1&amp;tbnid=epTuvivONmSIgM:&amp;tbnh=108&amp;tbnw=134&amp;prev=/images%3Fq%3Djapanese%2Binternment%26hl%3Den%26safe%3Dactive%26rlz%3D1T4DMUS_enUS234US239%26sa%3DN%26um%3D1&amp;ei=okcASoHSJ4KdlQem7qGgCw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ise of Dictators and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rld At W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itler2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cism in Spain-Francisco Fran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Francisco Franco takes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Civil War in 19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American volunteers-Abraham Lincoln Brig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1939-Facist dictator installed-500,000 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ranco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irohito"/>
          <p:cNvPicPr/>
          <p:nvPr/>
        </p:nvPicPr>
        <p:blipFill>
          <a:blip r:embed="rId1"/>
          <a:stretch/>
        </p:blipFill>
        <p:spPr>
          <a:xfrm>
            <a:off x="1676520" y="1731960"/>
            <a:ext cx="58672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-Emperor Hiroh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-Hideki To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ojo"/>
          <p:cNvPicPr/>
          <p:nvPr/>
        </p:nvPicPr>
        <p:blipFill>
          <a:blip r:embed="rId1"/>
          <a:stretch/>
        </p:blipFill>
        <p:spPr>
          <a:xfrm>
            <a:off x="762120" y="1676520"/>
            <a:ext cx="7848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American Re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Neutrality Acts (1935 and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Various neutrality acts to keep us ou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Amended many times to keep up with acts of ag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ash and C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All help short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Axis powers unite 1940-Japan, Germany and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Isolation V.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Lend-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ve toward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 plans fo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defense spending after Axis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im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 wins third term against Wendell Willkie (19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 towards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-boats sink 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ate passes bill that allows merchant ships to be a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Hitler invades Soviet Union, U.S. expands Lend-Lease to 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arl 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ese aggression goes un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unprotected in South and Southeast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nvasion and take over of French Indochina, U.S. allows trade treaty to ex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 follows, Japan is in desperate need 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7th, 19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 403 killed and over a thousand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nty-one ships and eight battleships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300 aircraft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ith Japan declared on the 8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and Italy declare war three day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tz Wol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ugs Bun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Duckta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kyo Wo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aly-The Rise of Benito Mussoli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rible inflation and 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s-some Communist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and upper classes worried looked to strong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ic 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cism-Nationalistic and placed the state above the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million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Million draf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Milit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C- Women’s Auxiliary Army Co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Shut down Auto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, planes, boats and command car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yards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back to work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44, 18 million were laboring in a war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illion women were working at 60% of a man’s pay (Mom-Mom worked on the Railro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pportunities for min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lip Randolph leader of Brotherhood of Sleeping car po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tened march on Washing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DR called on Unions to be more inclusive-March call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blinded me with scie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of Scientific Research and Development (OR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ar and S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T to fight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B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2- The Manhatta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enheimer in charge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bomb as quickly as possible, beat Germans to the bo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dvice based on a letter from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Trinity, Little Boy and Fat Ma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Arial"/>
              </a:rPr>
              <a:t>"Now I Have Become Death the Destroyer of Worlds</a:t>
            </a:r>
            <a:r>
              <a:rPr b="0" lang="en-US" sz="5400" spc="-1" strike="noStrike">
                <a:solidFill>
                  <a:srgbClr val="996633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Robert Oppenhei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Battles (Examp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aving Private Ryan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"Flags of our Fathers"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fro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oot Suit Riot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panese Inter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Korematsu v. United States (1944)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ecutive order #90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14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t Suiters or Pachu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0"/>
            <a:ext cx="5562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panese Int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33520"/>
            <a:ext cx="7162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aly-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-”Fasc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2-supporters of Mussolini marched on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Shirts” uniforms of fol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appointed him leader of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Duce”-“Made trains run of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Fred Korematsu, with President Clinton, receives the Congressional Medal of Ho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mussolini1"/>
          <p:cNvPicPr/>
          <p:nvPr/>
        </p:nvPicPr>
        <p:blipFill>
          <a:blip r:embed="rId1"/>
          <a:stretch/>
        </p:blipFill>
        <p:spPr>
          <a:xfrm>
            <a:off x="106668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 Union-The Rise of Joseph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e Stalin makes it official-Russia is Soviet Union in 19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nin dies in 19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ggle for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lin wins in power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his competition will be killed or j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-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al and Industrial growth–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shes public farms-collectives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second most industrialized state behind U.S in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ges-kill off ene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8 to 13 million k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nes killed even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talin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e of National Socialism: Nazi Germany and Adolph Hit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Intense In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epression due to the failure of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Hos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Weimar Republic-Weak and in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idn’t have democratic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Strong fear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ermany-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ise o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own shirts-Hitler’s Th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32-Nazi strongest party in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ugs burn down Reichstag-Blames it on the Commu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33-Chancellor-decalres Third Reich-Thousand year 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8:34:54Z</dcterms:created>
  <dc:creator>tbabcock</dc:creator>
  <dc:description/>
  <dc:language>en-US</dc:language>
  <cp:lastModifiedBy>tbabcock</cp:lastModifiedBy>
  <dcterms:modified xsi:type="dcterms:W3CDTF">2010-04-29T17:50:33Z</dcterms:modified>
  <cp:revision>36</cp:revision>
  <dc:subject/>
  <dc:title>The Rise of Dictators and WWII</dc:title>
</cp:coreProperties>
</file>