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2FF-FC1F-4BA3-82ED-C993B5D0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59E-9143-4A0B-BECC-03D3C940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EA9-A69A-41F7-89FD-DB686631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E05-337D-4509-BCE5-554AB6DA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360-27C8-4F2B-B9A9-AEC51347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E98-DE28-4712-B68B-0F02885A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BBC-F02F-44FA-ACF9-B77BE4A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5E8-74E9-4ECE-8258-F23EE975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60B-0AC9-4666-A2E7-812A7D8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F2E-19B3-4FAB-B69B-1AE1E34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D02-5262-471E-95B3-627F391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A64-CD96-4229-BD4E-265DD18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7A6D-67FC-4E46-AAFE-EB3A7DD6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DuckandC195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uman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st WWII “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WWII-Cold War Begi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and Pots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Germany and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Curtain descends upo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an’s “Long” 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 Doctrine turned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Blockade and Air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’s Conversion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develops A-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ns invade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N. Polic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 has early set backs but pushes N. Koreans to Chinese Border (Yalu R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nese enter the war against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uman v. Macarthur-You’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rallel separates once again at the cost of about 50,000 American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OO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t-Hartl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nti-Union, reversed a number of protections established by FDR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ixiecrat Support-Strom Thurmon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al” very progressive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Republican House/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Scare/M.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.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 H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C and the Hollywood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senbe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Duck and Cove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Re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06:45Z</dcterms:created>
  <dc:creator>tbabcock</dc:creator>
  <dc:description/>
  <dc:language>en-US</dc:language>
  <cp:lastModifiedBy>tbabcock</cp:lastModifiedBy>
  <dcterms:modified xsi:type="dcterms:W3CDTF">2010-04-09T18:59:26Z</dcterms:modified>
  <cp:revision>16</cp:revision>
  <dc:subject/>
  <dc:title>Truman’s America</dc:title>
</cp:coreProperties>
</file>