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012A-B3A0-4379-82A3-805212100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38D5-4C5E-41D7-B90B-4199802BB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5BEA-8614-48DB-B23E-66C096601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3BEE-60FB-4172-9099-87A4771B3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94BF-271A-4F8E-B389-FB7553ADC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4C2A-5D75-4542-B6B2-8C9228BA1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CB2B-2A51-472B-88E9-01F64CA0B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DDD2-0579-42A0-987F-0DDC8B2DF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62C1-D5EF-4AD2-978A-1BC6473C2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F8BA-B3C6-4E9D-A95B-C5E1F3501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DD9F-22F9-4B9D-90F4-F535735BF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D8F9-DBB5-4164-B825-AC6958B6B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D3236-307C-458B-8A05-20A29EC95F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rchive.org/details/DuckandC1951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ruman’s Amer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Post WWII “Cold W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End of WWII-Cold War Begin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alta and Potsd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sion of Germany and Ko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on Curtain descends upon the Worl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nan’s “Long” Tele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man Doctrine turned Marshall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ms 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SC-6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rly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rlin Blockade and Airli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na’s Conversion to Commu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SR develops A-bom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th Koreans invade South Ko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Korean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.N. Police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merica has early set backs but pushes N. Koreans to Chinese Border (Yalu Riv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hinese enter the war against the U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ruman v. Macarthur-You’re F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38</a:t>
            </a:r>
            <a:r>
              <a:rPr b="0" lang="en-US" sz="32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Parallel separates once again at the cost of about 50,000 American l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estic Polic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by BOOOOOOM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mend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ft-Hartley 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n as Anti-Union, reversed a number of protections established by FDR Admini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Federal 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s of Dixiecrat Support-Strom Thurmond (194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ir Deal” very progressive 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lict with Republican House/Sen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d Scare/M.A.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ative Richard Nix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. Joseph McCart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er Hi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AC and the Hollywood 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senber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mb She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"Duck and Cover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d War Rel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7T15:06:45Z</dcterms:created>
  <dc:creator>tbabcock</dc:creator>
  <dc:description/>
  <dc:language>en-US</dc:language>
  <cp:lastModifiedBy>tbabcock</cp:lastModifiedBy>
  <dcterms:modified xsi:type="dcterms:W3CDTF">2010-04-09T18:59:26Z</dcterms:modified>
  <cp:revision>16</cp:revision>
  <dc:subject/>
  <dc:title>Truman’s America</dc:title>
</cp:coreProperties>
</file>