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F51F-0A86-491D-9A17-A5913213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253E-AA17-4CA8-8F50-91F156BC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B943-0BC8-4C70-B22B-F7E85C86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2C63-42CE-44DD-A269-955BC8C6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861A-B9B4-4947-AA68-04D2A511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D533-6ED2-43C2-A201-CDA7CB5B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99E6-CD55-4EE2-A415-FDE7C466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DCFA-8109-4132-BEB0-49E10AE5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F44B-82CA-4B41-9004-E4D0FFBC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3812-BC5F-45CF-A65A-B530C74A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2746-8A83-4184-9F56-A1E8BEBB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D2A4-9C4C-4933-AB69-74494C6C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9CAA-683E-498E-B74E-EF89E8B36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rchive.org/details/DuckandC1951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ruman’s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ost WWII “Cold W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nd of WWII-Cold War Begi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lta and Potsd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sion of Germany and Ko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on Curtain descends upon the Worl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nan’s “Long” Tele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man Doctrine turned Marshal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s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C-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lin Blockade and Air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a’s Conversion to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SR develops A-bo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Koreans invade South Ko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Kore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.N. Police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merica has early set backs but pushes N. Koreans to Chinese Border (Yalu Ri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inese enter the war against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uman v. Macarthur-You’re F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8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arallel separates once again at the cost of about 50,000 American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 Poli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y BOOOOOO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ft-Hartley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n as Anti-Union, reversed a number of protections established by FDR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Feder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Dixiecrat Support-Strom Thurmond (194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 Deal” very progressive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 with Republican House/Se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Scare/M.A.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ve Richard Nix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. Joseph McCar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r H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AC and the Hollywood 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senber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mb She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"Duck and Cover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 War Rel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5:06:45Z</dcterms:created>
  <dc:creator>tbabcock</dc:creator>
  <dc:description/>
  <dc:language>en-US</dc:language>
  <cp:lastModifiedBy>tbabcock</cp:lastModifiedBy>
  <dcterms:modified xsi:type="dcterms:W3CDTF">2010-04-09T18:59:26Z</dcterms:modified>
  <cp:revision>16</cp:revision>
  <dc:subject/>
  <dc:title>Truman’s America</dc:title>
</cp:coreProperties>
</file>